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88E9-B5C5-470A-BD63-CBC888BFB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2C98-1BBB-4464-B996-107D59622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EBA9-364C-4744-BFFC-B1AE54F63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593A-2033-4253-878F-4BA55D48A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8D527-976E-4BE0-91B0-EEC4C9397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FC609-AD82-423C-9803-25F5C3BF7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08E57-56E1-4E4A-B166-E05DF1111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F5605-B4FE-4CFE-9BF8-5259B4383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3C6FD-33CD-431B-8B32-7F64DE4B2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14E58-298B-47A1-A9FF-086670F2B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CB9FA-A7DD-4C80-AB51-1CFA5EAF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E322-97C5-4857-8FAF-ED5E60AC3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F6F34-0D2E-4EDF-97B8-8C4C87CF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84ED2-9D5B-4F92-A5EA-2DD74854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A7B68-1C37-4277-B32A-A68D38EB1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E45B3-8F2D-4279-BBBC-2057B3C41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C4E12-87AD-4FCC-A30C-A4564F3DE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A02F-9D39-4563-B809-343800CB0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7006-2677-4DE2-9A17-233D4C788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5AFF-0CBF-4CF3-A854-C7EFD2697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4C1B-FA3F-44C5-87CD-21D08B1CC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A74E-9EE7-41BB-8AAA-7DE6AA96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F56E-E4EB-4F7C-AABF-F5B0D1AA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B3CB-D3B3-4FC9-B7FD-8AA27364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177F8-C3E6-4F2F-B590-A1BB49265D2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EFC32-4891-4E3C-819C-C4062B40C8A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Who’s the Boss of You?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ff, Marisol, Chatrian, and Bud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nclusi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events and characters in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Ho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re similar to events and characters we have known or experienced because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9040" indent="-231840">
              <a:lnSpc>
                <a:spcPct val="8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ke Stanley, there are people in our lives that hold a position of authority over us and we must choose whether or not to obe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9040" indent="-231840">
              <a:lnSpc>
                <a:spcPct val="8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ke Stanley, we must decide who to obey and when it is appropriate and when it is no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9040" indent="-231840">
              <a:lnSpc>
                <a:spcPct val="8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fe is a series of choices, and we must weigh our options and then determine our course of ac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228600" y="533160"/>
            <a:ext cx="85406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book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Ho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mpacted us because we saw how a boy our age responded to problem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"/>
          <p:cNvSpPr/>
          <p:nvPr/>
        </p:nvSpPr>
        <p:spPr>
          <a:xfrm>
            <a:off x="457200" y="175248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n Stanley had to deal with being treated unfairly, he made the best of the situation by trying to get along with peop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n he saw that something was wrong, he showed a lot of courage and stood up to people in authority to do what was rig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 was clever and used his wits to accomplish something importa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st important of all, he was loyal to his friends and fami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7010280" y="2743200"/>
            <a:ext cx="1825920" cy="184644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2057040" y="1523520"/>
            <a:ext cx="5791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ids these days have lots of people telling them what to do. Stanley Yelnats in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Hol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had lots of boss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asked 25 students at Rocky Bottom Middle School what adults bossed them around and why they did what they told them to d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o’s the Boss of You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>
            <a:off x="304920" y="2666880"/>
            <a:ext cx="16570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7467480" y="3276720"/>
            <a:ext cx="1454400" cy="144936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aren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4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nley’s parents bossed him around, and because he respected and loved his parents even though they weren’t successful and were kind of odd, he usually did what they said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s mother told him to write letters to her and he did it even though other kids made fun of him for i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told them lies about his experiences so they wouldn’t worry about hi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7086600" y="4343400"/>
            <a:ext cx="1719360" cy="182088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301680" y="304560"/>
            <a:ext cx="84614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ke Stanley, all but 5 of the kids we surveyed said they loved and respected their parents and wanted to please them, so they usually obeyed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the kids said they disobeyed their parents sometimes, but most of them felt bad about it afterwar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of the kids said they thought their parents’ rules were wrong sometimes, but they usually obeyed them anywa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of them said they obeyed their parents because they were afraid of being punished, but only 3 of them said that was the only reas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each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523880" y="1218960"/>
            <a:ext cx="70898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guards at the camp bossed Stanley around.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guards were supposed to teach Stanley to be a better perso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y were dishonest, unfair, and me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nley obeyed them because he was afraid of being punish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 tried to do what they told him to, but he ran away and fought against them when he realized how bad they were and they hurt his frien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1600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301320" y="533520"/>
            <a:ext cx="7318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en though it is expected that students follow the rules or directions of their teachers, our survey showed that kids’ reactions depended on the teacher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me teachers didn’t seem to care how students behaved, so the kids tried to disobey whenever they wanted 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me teachers were too strict, so the kids thought of sneaky ways to disobe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me teachers were cool and fair, so the kids obeyed most of their rul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me kids said that a few teachers gave too much work or graded too hard, so they just didn’t do what the teachers told them to do even though they got bad grad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7848720" y="533520"/>
            <a:ext cx="12952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            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oli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police arrested Stanley, and, although he was accused unfairly of a crime he didn’t commit, he was forced to obe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nley had to go to the camp even though he was innoce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went along with it because there was nothing he could do about i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2362320" y="304920"/>
            <a:ext cx="266688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7359480" y="457200"/>
            <a:ext cx="1784520" cy="178452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304920" y="457200"/>
            <a:ext cx="85406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but 6 of the kids said that they respected the police and would follow officer instruction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they had to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y obey the laws because they don’t want to get in troub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me kids said that some of the cops in town seem to pick on kids and accuse them of shoplifting when they didn’t do anyth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wo kids said they were picked up by the police for something that they really did, but the police were okay about i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e kid said the cops always picked on him and his family, and he always tried to trick the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3124080" y="1295280"/>
            <a:ext cx="2976840" cy="274500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o’s the Boss of You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520" y="2666520"/>
            <a:ext cx="83091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t of the time, it’s smart to do what adults in charge tell you to do because you could get in trouble, be punished, or get a bad grad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times, like Stanley, you have to go against bad adults, and even though it might be hard, it’s the right thing to do because other people could be hur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7T00:34:03Z</dcterms:created>
  <dc:creator>Margaret Ann Grant</dc:creator>
  <dc:description/>
  <dc:language>en-US</dc:language>
  <cp:lastModifiedBy>lmclampx</cp:lastModifiedBy>
  <dcterms:modified xsi:type="dcterms:W3CDTF">2006-07-29T02:51:56Z</dcterms:modified>
  <cp:revision>17</cp:revision>
  <dc:subject/>
  <dc:title>Who’s the Boss of You?</dc:title>
</cp:coreProperties>
</file>