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236-5C0F-4FF5-BE81-B67EF49E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C50-E177-4731-982D-16B19831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C70-067A-4D93-9FCD-F398D5D1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E9E-E2A7-494D-83AF-9FCFCE0F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157E-AB76-489C-B4BA-3A799BD2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7FEA-6A5A-441C-AE83-59C71115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48DB-1B32-4FFA-9E75-54CB6722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90B6-76C1-43FD-B4A2-4BAB0398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2E70-8F1B-48BD-9E7C-C61F8132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81C3-DB1B-491B-AA82-826DEFE9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3171-6770-4595-BA08-D75B201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C20-0FF0-415A-9AEB-C00D4597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B64E-58A5-48A8-AD7D-6D5C1DAE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DA04-7962-4943-8E1E-77C5BFA9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A7F5-2F48-4D8D-AE1C-B2511AD2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E0CF-8ECD-4712-B1EA-A4A983C8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2AE8-A724-4018-800D-A8208C45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F0D-8E23-4171-AEB5-BAAD01B5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E2A-5700-45FD-A3D2-D48C89B8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4F3-B50A-402D-8F37-4E944A57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78D-C4BF-40D0-B94A-D8D100B2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9C1-0A92-4A3B-90EE-5829E104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B24-4D16-4497-93F0-FE807A4A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B8A-A35A-4B66-99F8-D8B5971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9648-14EC-4634-89C1-F9ACB7B3E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C26B-DBB1-43AF-BCBF-1260843DC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lobalis.gvu.unu.edu/" TargetMode="External"/><Relationship Id="rId3" Type="http://schemas.openxmlformats.org/officeDocument/2006/relationships/hyperlink" Target="http://www.cia.gov/cia/publications/factbook" TargetMode="External"/><Relationship Id="rId4" Type="http://schemas.openxmlformats.org/officeDocument/2006/relationships/hyperlink" Target="http://www.worldbank.or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fe Expectancy in Mozambiq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ctions can be take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Ramon, Katie, and Mo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 18,644,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r Portuguese col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ial Re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history of civil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ming is largest employment opportun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2536920"/>
            <a:ext cx="36576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vious Actions Affecting Life Expectancy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political stability encouraged foreign investment which helps the ec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health education programs in place helps inform people about disease pre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quito nets provided by aid agencies to help prevent malaria outbrea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om My Epal in Mozambiq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t was so sad when my little cousin died.  He was only 8 months old. He had a fever for a long time, and the family lived too far from the hospital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sues Affecting Life Expectan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ant mortality rate: 139 per 1,000 live bir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V/AIDS rate: 1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employment rate: 2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 drinking water availability: 5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erty rate: 7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of total population: 47.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e weather: droughts and floo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ical Life Expectancy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1676520"/>
          <a:ext cx="4495680" cy="441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44956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2118960"/>
            <a:ext cx="40384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Year     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0: 37.5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1: 36.4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2: 35.4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3: 31.3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4: 37.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on P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Probl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or medical care for pregnant women and infants; high infant mortality r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IV/AIDS:15% of adults HIV+; 1.1 million people living with HIV/AIDS; little access to education and medica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vere weather and natural disasters causes shortages of food and poor drinking 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0% of population lives in poverty; 21% of population is unemploy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Possible Solu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vide nutrition and family planning classes; train health workers to immunize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rug companies could donate drugs so those suffering from HIV/AIDS would have greater access to them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elp farmers change crops, improve local diets; build sanitation facil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velop new industries; train and support entrepreneurs; offer free literacy class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where we live influence how we liv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aspects of your life are affected by where you live, including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ype of education you rece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can get medical attention eas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kinds of jobs are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long you might 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is: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globalis.gvu.un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A WorldFact Book: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cia.gov/cia/publications/factboo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Bank Group: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worldbank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Master: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</a:rPr>
              <a:t>www.nationmaster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21:30:54Z</dcterms:created>
  <dc:creator>tasmolex</dc:creator>
  <dc:description/>
  <dc:language>en-US</dc:language>
  <cp:lastModifiedBy>nlkouryX</cp:lastModifiedBy>
  <dcterms:modified xsi:type="dcterms:W3CDTF">2005-05-24T22:57:09Z</dcterms:modified>
  <cp:revision>62</cp:revision>
  <dc:subject/>
  <dc:title>Life Expectancy in Mozambique</dc:title>
</cp:coreProperties>
</file>