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28F-00C8-4B48-91C8-8829471C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156-362B-44A6-9452-6C77C5F7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C75-B7A5-4B9F-9032-415ABCBF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936-9AD9-472A-9F58-F5687D28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B78D-34E6-4588-B56B-36F8E951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E32F-4951-46A2-8F6C-32A8711D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6087-2DD9-456F-84E5-F34D94DE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EF69-FE83-4A52-A640-895B3AB4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8D60-65CE-446B-B3F9-7FD47283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74BC-C987-4575-899C-B4931F64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17EB-90AB-4CD0-8324-3C05B16B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0184-B236-47EF-A01D-DF202A0A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C807-016A-4BA4-B99F-36729FB4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DB55-0487-4819-933F-01762CB9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4E2E-3873-47E3-AD11-80E15790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04F9-2F2A-4A40-967B-9BE702EE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1C81-0908-4632-A522-761E63AE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2F8A-4596-40E0-B758-92C77761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BC8-0C99-42EB-8592-30C76281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B82B-3E97-4136-92CD-358DD43A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953-AA58-42FB-B3AC-9BB0896B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992A-8B2A-4980-9A51-0562681D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150-F61E-4400-B933-9336650A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52A-10B3-4A2C-BD8A-DEC11E09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510A-76BD-466E-9687-3C911309BC5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F413-DABB-4891-964A-0B40B6DD3CB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stead Of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k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1616040" cy="1822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553080" y="5334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 Choos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rawberri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y are in the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frui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group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need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ervings a da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1584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ealthy Food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 me grow bigg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smar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 fas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05520" y="2860560"/>
            <a:ext cx="213192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06:12Z</dcterms:created>
  <dc:creator>kabyebax</dc:creator>
  <dc:description/>
  <dc:language>en-US</dc:language>
  <cp:lastModifiedBy>nlkouryX</cp:lastModifiedBy>
  <dcterms:modified xsi:type="dcterms:W3CDTF">2007-01-20T00:38:12Z</dcterms:modified>
  <cp:revision>9</cp:revision>
  <dc:subject/>
  <dc:title>Instead Of…</dc:title>
</cp:coreProperties>
</file>