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DBB9-6812-49B7-8BB2-9682D4A5E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morning greeting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C15-0D48-4F4F-9867-AD2F9CF8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5CB-2442-44B4-99AA-87E4B473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942-71AA-4E46-A5B4-A5CFF53B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8C3-EE65-455B-BA96-E3657D1D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6AE-40D2-41AE-AFFD-B36044FB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82F-8602-4CC0-8FD3-8AE66EDA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371-E170-4479-B07E-F643892D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98D-1A48-458D-AB1A-8A05F8B7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46F-2F8D-4CCD-A54C-59814EFC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BA7-D199-4C43-B140-313EE5D2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8C8-1BD5-46C4-B1C2-51F0E5A5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E3D-4E6E-4024-BBCC-4D1118B5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05F2-0138-4887-8921-067F8693D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143000"/>
            <a:ext cx="1981080" cy="459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5360" y="15238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Rounded MT Bold"/>
              </a:rPr>
              <a:t>Good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morning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boys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___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girls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. This afternoon we will ___ ___ </a:t>
            </a:r>
            <a:r>
              <a:rPr b="0" lang="en-US" sz="3600" spc="-1" strike="noStrike">
                <a:solidFill>
                  <a:srgbClr val="008000"/>
                </a:solidFill>
                <a:latin typeface="Arial Rounded MT Bold"/>
              </a:rPr>
              <a:t>see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Mr. Stone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where we will have physical education.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Hannah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has show ___ tell,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Nicky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has ___ alphabet can and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Daniel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is the </a:t>
            </a:r>
            <a:r>
              <a:rPr b="0" lang="en-US" sz="3600" spc="-1" strike="noStrike">
                <a:solidFill>
                  <a:srgbClr val="0000ff"/>
                </a:solidFill>
                <a:latin typeface="Arial Rounded MT Bold"/>
              </a:rPr>
              <a:t>little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red </a:t>
            </a: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caboose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76320" y="581040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uns are red, verbs are green, adjectives are bl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ll in the missing sigh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3-02T20:30:08Z</dcterms:modified>
  <cp:revision>41</cp:revision>
  <dc:subject/>
  <dc:title>No Slide Title</dc:title>
</cp:coreProperties>
</file>