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a.usno.navy.mil/idltemp/current_moon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7621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0" y="5622840"/>
            <a:ext cx="920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 Rounded MT Bold"/>
              </a:rPr>
              <a:t>Moon Phase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19:55:21Z</dcterms:modified>
  <cp:revision>29</cp:revision>
  <dc:subject/>
  <dc:title>No Slide Title</dc:title>
</cp:coreProperties>
</file>