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27B-3DDE-4336-86CF-4755D5CE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4C2-240E-40B9-8D8D-24EAF6B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BC3-234E-4F14-9CFC-344ACF1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968-422E-42AD-9A0F-796CC3CF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D3E-38FC-4A4A-B2E1-234A97BA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800-BBBF-4CE8-BCE0-8F4387F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585-B1F9-45D2-AB73-81902DA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BDB-D625-41E8-8875-B810B37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535-9C17-400A-A126-C9B30B66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86E-B76F-43C7-96A2-C879D51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C6D-CC7B-40C2-85C2-7AFB81E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C9D-8D0E-44FA-80C4-21FFBAE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AD0A-96B2-462A-9B92-9FA3ED7CA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21337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24320" y="2187720"/>
            <a:ext cx="1943280" cy="209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58080" y="2362320"/>
            <a:ext cx="18288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2T20:31:28Z</dcterms:modified>
  <cp:revision>41</cp:revision>
  <dc:subject/>
  <dc:title>No Slide Title</dc:title>
</cp:coreProperties>
</file>