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6F8-0ED0-4F64-BD78-A273468F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AA8-129D-43C4-917B-51AF8E3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769-5E8D-4029-93EC-B89F42F8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1D6-6A2A-4E69-B069-9FBB1AF5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BF3-412D-4839-8739-85320E76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6CA-1378-47CC-8419-5DD19534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368-B245-45BF-BFFF-1C68077F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DB1-2B8A-4717-BF48-C39793E6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DBB-39C2-4052-B2D6-7F27B9D9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048-D59B-4F85-890F-6F03353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49E-52EB-4AE5-99CE-08693E69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78E-3EAC-4412-92E6-AFD9E42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EB70-F8DE-49EE-80C7-379701D75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143000"/>
            <a:ext cx="1981080" cy="459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066680" y="176040"/>
            <a:ext cx="670572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scriptive Wor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76520"/>
          <a:ext cx="2587680" cy="25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76520"/>
                    <a:ext cx="25876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3429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s turtle is ________________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4267080"/>
            <a:ext cx="792468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44197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7T14:13:23Z</dcterms:created>
  <dc:creator>Ronan</dc:creator>
  <dc:description/>
  <dc:language>en-US</dc:language>
  <cp:lastModifiedBy> </cp:lastModifiedBy>
  <cp:lastPrinted>2003-06-07T15:15:17Z</cp:lastPrinted>
  <dcterms:modified xsi:type="dcterms:W3CDTF">2004-03-02T20:33:30Z</dcterms:modified>
  <cp:revision>41</cp:revision>
  <dc:subject/>
  <dc:title>No Slide Title</dc:title>
</cp:coreProperties>
</file>