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APPLAUSE.WAV" ContentType="audio/x-wav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18.gif" ContentType="image/gif"/>
  <Override PartName="/ppt/media/image3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498D-6454-4E56-94CE-B61FD65CE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aa.usno.navy.mil/idltemp/current_moon.html" TargetMode="External"/><Relationship Id="rId2" Type="http://schemas.openxmlformats.org/officeDocument/2006/relationships/hyperlink" Target="http://aa.usno.navy.mil/idltemp/current_moon.html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morning greeting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moon image to see the moon phases a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a.usno.navy.mil/idltemp/current_moon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 Click “back” in the browser to return to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 this Weather Underground link so your local weather and forecast will display. http://www.weatherunderground.com/. Use the “back” arrow on your browser to return to this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B79-E577-4D0B-BA32-15403353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1E1-42D6-40FD-8B51-CE26A540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2BE-C3D2-4605-8D33-04782975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F98-3CE6-4DDD-B5A7-B573A801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6AD-556A-4F89-A20D-FF3EAC2D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811-EABA-47EA-A509-CACC96EF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D56-969A-43E7-B55E-E468B145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804-E484-4306-9215-449D37BE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CC3-A2B7-4B5E-89B1-EB6C3252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1BC-41D3-4450-80ED-A698F5CA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AC3-7537-49E4-8535-69DC3CAF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F92-460D-4C03-8362-2E8197AE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7C4E-99F2-4B0C-BB75-AC4B8626A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a.usno.navy.mil/idltemp/current_moon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5360" y="15238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Rounded MT Bold"/>
              </a:rPr>
              <a:t>Good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morning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boys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___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girls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. This afternoon we will ___ ___ </a:t>
            </a:r>
            <a:r>
              <a:rPr b="0" lang="en-US" sz="3600" spc="-1" strike="noStrike">
                <a:solidFill>
                  <a:srgbClr val="008000"/>
                </a:solidFill>
                <a:latin typeface="Arial Rounded MT Bold"/>
              </a:rPr>
              <a:t>se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Mr. Ston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where we will have physical education.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Hannah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has show ___ tell,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Nicky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has ___ alphabet can and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Daniel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is the </a:t>
            </a:r>
            <a:r>
              <a:rPr b="0" lang="en-US" sz="3600" spc="-1" strike="noStrike">
                <a:solidFill>
                  <a:srgbClr val="0000ff"/>
                </a:solidFill>
                <a:latin typeface="Arial Rounded MT Bold"/>
              </a:rPr>
              <a:t>littl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red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caboos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581040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uns are red, verbs are green, adjectives are bl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ll in the missing sigh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38400" y="266760"/>
            <a:ext cx="7019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o's That Baby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04840" y="5648400"/>
            <a:ext cx="7020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ichael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52480" y="1752480"/>
            <a:ext cx="4876920" cy="3810240"/>
            <a:chOff x="1752480" y="1752480"/>
            <a:chExt cx="4876920" cy="3810240"/>
          </a:xfrm>
        </p:grpSpPr>
        <p:sp>
          <p:nvSpPr>
            <p:cNvPr id="100" name=""/>
            <p:cNvSpPr/>
            <p:nvPr/>
          </p:nvSpPr>
          <p:spPr>
            <a:xfrm>
              <a:off x="1752480" y="1752480"/>
              <a:ext cx="4876920" cy="3810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cute baby pictures"/>
            <p:cNvPicPr/>
            <p:nvPr/>
          </p:nvPicPr>
          <p:blipFill>
            <a:blip r:embed="rId2"/>
            <a:stretch/>
          </p:blipFill>
          <p:spPr>
            <a:xfrm>
              <a:off x="1905120" y="1905120"/>
              <a:ext cx="4572000" cy="34621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2" name=""/>
          <p:cNvGraphicFramePr/>
          <p:nvPr/>
        </p:nvGraphicFramePr>
        <p:xfrm>
          <a:off x="5265720" y="1314360"/>
          <a:ext cx="3573360" cy="34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5720" y="1314360"/>
                    <a:ext cx="357336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1600200"/>
          <a:ext cx="7162560" cy="371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71360" y="2133720"/>
          <a:ext cx="3943440" cy="254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360" y="2133720"/>
                    <a:ext cx="39434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848720" y="3962520"/>
          <a:ext cx="696960" cy="84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48720" y="3962520"/>
                    <a:ext cx="69696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876920" y="52578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 Rounded MT Bold"/>
              </a:rPr>
              <a:t>5-2=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18148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Rounded MT Bold"/>
              </a:rPr>
              <a:t>5-4=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2720" y="176040"/>
            <a:ext cx="51148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ubtrac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-190440" y="60199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ircle the correct math sen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52480" y="213372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24320" y="2187720"/>
            <a:ext cx="1943280" cy="2098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58080" y="2362320"/>
            <a:ext cx="18288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15002" t="0" r="0" b="0"/>
          <a:stretch/>
        </p:blipFill>
        <p:spPr>
          <a:xfrm>
            <a:off x="2895480" y="852480"/>
            <a:ext cx="5791320" cy="5110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4114800"/>
            <a:ext cx="5638680" cy="2209680"/>
          </a:xfrm>
          <a:prstGeom prst="rect">
            <a:avLst/>
          </a:prstGeom>
          <a:solidFill>
            <a:srgbClr val="00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6720" y="4038480"/>
            <a:ext cx="175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22600" y="5008680"/>
            <a:ext cx="181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oo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8560" y="5019840"/>
            <a:ext cx="15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4038480"/>
            <a:ext cx="57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ttanoog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5057640"/>
            <a:ext cx="15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9040" y="5046840"/>
            <a:ext cx="181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o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5105520"/>
            <a:ext cx="175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0640" y="5091120"/>
            <a:ext cx="281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ine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4987800"/>
            <a:ext cx="13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3640" y="499104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eck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43080" y="1695600"/>
            <a:ext cx="2400120" cy="2438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458040" y="1714680"/>
            <a:ext cx="2361960" cy="23619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57640" y="1695600"/>
            <a:ext cx="2787480" cy="2466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933640" y="5184720"/>
            <a:ext cx="145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83040" y="5203800"/>
            <a:ext cx="39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eeta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66680" y="176040"/>
            <a:ext cx="670572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scriptive Wor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76520"/>
          <a:ext cx="2587680" cy="25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76520"/>
                    <a:ext cx="25876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352680" y="3429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s turtle is ________________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267080"/>
            <a:ext cx="792468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44197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0"/>
            <a:ext cx="4686120" cy="6248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622840"/>
            <a:ext cx="9205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 Rounded MT Bold"/>
              </a:rPr>
              <a:t>Moon Phase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533412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ck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886200" cy="1951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981600"/>
            <a:ext cx="3276360" cy="214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09680" y="3981600"/>
            <a:ext cx="2419560" cy="1825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124600" y="2000160"/>
            <a:ext cx="1904760" cy="1724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2324160" y="2666880"/>
            <a:ext cx="458136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Weath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533412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ck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4T20:25:43Z</dcterms:modified>
  <cp:revision>43</cp:revision>
  <dc:subject/>
  <dc:title>No Slide Title</dc:title>
</cp:coreProperties>
</file>