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1143000"/>
            <a:ext cx="1981080" cy="45972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228600" y="4419720"/>
            <a:ext cx="876312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228600" y="2057400"/>
            <a:ext cx="87631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371600" y="4952880"/>
            <a:ext cx="99072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04920" y="4952880"/>
            <a:ext cx="914400" cy="99072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438280" y="4952880"/>
            <a:ext cx="1067040" cy="990720"/>
          </a:xfrm>
          <a:prstGeom prst="triangle">
            <a:avLst>
              <a:gd name="adj" fmla="val 50000"/>
            </a:avLst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5029200"/>
            <a:ext cx="91440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15000" y="4876920"/>
            <a:ext cx="1066680" cy="99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81680" y="4952880"/>
            <a:ext cx="914400" cy="99072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9200"/>
            <a:ext cx="9205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9933ff"/>
                </a:solidFill>
                <a:latin typeface="Arial Rounded MT Bold"/>
              </a:rPr>
              <a:t>Patterns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590920"/>
            <a:ext cx="99072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35600" y="2598840"/>
            <a:ext cx="99036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46600" y="2611440"/>
            <a:ext cx="99036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3440" y="2570040"/>
            <a:ext cx="9903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26040" y="2592360"/>
            <a:ext cx="99072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3600" y="2603520"/>
            <a:ext cx="99036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7T14:13:23Z</dcterms:created>
  <dc:creator>Ronan</dc:creator>
  <dc:description/>
  <dc:language>en-US</dc:language>
  <cp:lastModifiedBy> </cp:lastModifiedBy>
  <cp:lastPrinted>2003-06-07T15:15:17Z</cp:lastPrinted>
  <dcterms:modified xsi:type="dcterms:W3CDTF">2004-03-02T21:24:05Z</dcterms:modified>
  <cp:revision>24</cp:revision>
  <dc:subject/>
  <dc:title>No Slide Title</dc:title>
</cp:coreProperties>
</file>