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1143000"/>
            <a:ext cx="1981080" cy="45972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temb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533520" y="1905120"/>
            <a:ext cx="8153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Good morning boys and girls. This afternoon we will go to see Mr. Stone where we will have physical education. __________ has show and tell, __________ has the alphabet can and __________ is the little red caboos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7T14:13:23Z</dcterms:created>
  <dc:creator>Ronan</dc:creator>
  <dc:description/>
  <dc:language>en-US</dc:language>
  <cp:lastModifiedBy> </cp:lastModifiedBy>
  <cp:lastPrinted>2003-06-07T15:15:17Z</cp:lastPrinted>
  <dcterms:modified xsi:type="dcterms:W3CDTF">2004-01-24T01:04:06Z</dcterms:modified>
  <cp:revision>23</cp:revision>
  <dc:subject/>
  <dc:title>No Slide Title</dc:title>
</cp:coreProperties>
</file>