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2291-A143-4850-8F25-F1B6AC17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9FCA-C8A4-483D-A09D-051F539C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90DB-03F6-48B9-8D26-1F9AA2CA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D973-DFDA-4084-BAF0-DF55D840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8096-80EE-4991-B3B5-1CB70534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C33F-1039-4D8E-A9D1-572B487F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5F72-5E42-408B-B861-A66345CA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7749-8979-4BB1-9AF8-79C8CB5C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DDBB-9D44-4477-9579-839242A7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33E-04F4-4576-942A-13B0D24E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E9CE-F046-4900-87DA-4CCB7213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1253-A194-41A3-A61C-10E2BFA3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D836-A43A-4E36-AE6C-90990314C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143000"/>
            <a:ext cx="1981080" cy="459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990720" y="1600200"/>
          <a:ext cx="7162560" cy="371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600200"/>
                    <a:ext cx="716256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71360" y="2133720"/>
          <a:ext cx="3943440" cy="254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1360" y="2133720"/>
                    <a:ext cx="394344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7848720" y="3962520"/>
          <a:ext cx="696960" cy="847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48720" y="3962520"/>
                    <a:ext cx="69696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4876920" y="525780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 Rounded MT Bold"/>
              </a:rPr>
              <a:t>5-2=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518148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Rounded MT Bold"/>
              </a:rPr>
              <a:t>5-4=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52720" y="176040"/>
            <a:ext cx="511488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ubtrac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/>
          <p:nvPr/>
        </p:nvSpPr>
        <p:spPr>
          <a:xfrm>
            <a:off x="-190440" y="601992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ircle the correct math sen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7T14:13:23Z</dcterms:created>
  <dc:creator>Ronan</dc:creator>
  <dc:description/>
  <dc:language>en-US</dc:language>
  <cp:lastModifiedBy> </cp:lastModifiedBy>
  <cp:lastPrinted>2003-06-07T15:15:17Z</cp:lastPrinted>
  <dcterms:modified xsi:type="dcterms:W3CDTF">2004-03-02T20:30:53Z</dcterms:modified>
  <cp:revision>41</cp:revision>
  <dc:subject/>
  <dc:title>No Slide Title</dc:title>
</cp:coreProperties>
</file>