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477-1366-4C52-8F9F-C57B81A1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1A1-F779-4E44-B7F6-EBE69C15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FC8-DA4F-4049-B1CC-D6DCC26C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30E-573B-4504-8D97-811BAF13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7B0-FB13-487C-BE22-B30E2F97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E90-3B79-405B-813E-933F3065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7F8-7AB5-47E7-8352-4AD3A7B9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D5A-E326-4DC6-80B1-270B68C1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0DB-472A-4F4D-9A08-C59783D8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C06-4904-4332-A8DC-B29ACD8E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25D-AAE0-4860-B222-256E746B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8BF-B9E4-4450-9BF4-375D2C7C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0BB9-BAF9-43F0-A902-03AE23AE8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143000"/>
            <a:ext cx="1981080" cy="459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15002" t="0" r="0" b="0"/>
          <a:stretch/>
        </p:blipFill>
        <p:spPr>
          <a:xfrm>
            <a:off x="2895480" y="852480"/>
            <a:ext cx="5791320" cy="5110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4114800"/>
            <a:ext cx="5638680" cy="2209680"/>
          </a:xfrm>
          <a:prstGeom prst="rect">
            <a:avLst/>
          </a:prstGeom>
          <a:solidFill>
            <a:srgbClr val="00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4038480"/>
            <a:ext cx="175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22600" y="5008680"/>
            <a:ext cx="181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oo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8560" y="5019840"/>
            <a:ext cx="15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81280" y="4038480"/>
            <a:ext cx="57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attanoog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057640"/>
            <a:ext cx="15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9040" y="5046840"/>
            <a:ext cx="181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o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5105520"/>
            <a:ext cx="175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0640" y="5091120"/>
            <a:ext cx="281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ine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68760" y="4987800"/>
            <a:ext cx="131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43640" y="499104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eck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3080" y="1695600"/>
            <a:ext cx="2400120" cy="2438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458040" y="1714680"/>
            <a:ext cx="2361960" cy="23619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57640" y="1695600"/>
            <a:ext cx="2787480" cy="2466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33640" y="5184720"/>
            <a:ext cx="145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 Rounded MT Bold"/>
              </a:rPr>
              <a:t>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83040" y="5203800"/>
            <a:ext cx="39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Rounded MT Bold"/>
              </a:rPr>
              <a:t>eeta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3-04T20:25:10Z</dcterms:modified>
  <cp:revision>44</cp:revision>
  <dc:subject/>
  <dc:title>No Slide Title</dc:title>
</cp:coreProperties>
</file>