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yummy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"/>
          <p:cNvGraphicFramePr/>
          <p:nvPr/>
        </p:nvGraphicFramePr>
        <p:xfrm>
          <a:off x="609480" y="1805040"/>
          <a:ext cx="7315200" cy="48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05040"/>
                    <a:ext cx="73152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" name=""/>
          <p:cNvSpPr/>
          <p:nvPr/>
        </p:nvSpPr>
        <p:spPr>
          <a:xfrm>
            <a:off x="762120" y="2362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05320" y="41590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562720" y="14922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3623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86280" y="41497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9000" y="565632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4000" y="5648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83280" y="147168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67160" y="5654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35520" y="56386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1617840"/>
            <a:ext cx="6096240" cy="409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52480" y="5410080"/>
            <a:ext cx="6096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05120" y="5486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421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l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73720" y="54864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73760" y="54547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ir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700280"/>
            <a:ext cx="7162560" cy="49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63640" y="53370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1480" y="5318280"/>
            <a:ext cx="229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lac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03840" y="53164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/>
          </p:cNvPr>
          <p:cNvSpPr/>
          <p:nvPr/>
        </p:nvSpPr>
        <p:spPr>
          <a:xfrm>
            <a:off x="4444920" y="53262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rr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6360" y="585720"/>
            <a:ext cx="9171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Rounded MT Bold"/>
              </a:rPr>
              <a:t>blac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8160" y="2695680"/>
            <a:ext cx="922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6633"/>
                </a:solidFill>
                <a:latin typeface="Arial Rounded MT Bold"/>
              </a:rPr>
              <a:t>brow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76040" y="4738680"/>
            <a:ext cx="9205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66ff"/>
                </a:solidFill>
                <a:latin typeface="Arial Rounded MT Bold"/>
              </a:rPr>
              <a:t>blue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19:49:45Z</dcterms:modified>
  <cp:revision>27</cp:revision>
  <dc:subject/>
  <dc:title>No Slide Title</dc:title>
</cp:coreProperties>
</file>