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APPLAUSE.WAV" ContentType="audio/x-wav"/>
  <Override PartName="/ppt/media/image8.png" ContentType="image/png"/>
  <Override PartName="/ppt/media/image12.wmf" ContentType="image/x-wmf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85800" y="1143000"/>
            <a:ext cx="1981080" cy="45972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ptember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2.wmf"/><Relationship Id="rId5" Type="http://schemas.openxmlformats.org/officeDocument/2006/relationships/audio" Target="../media/APPLAUSE.WAV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hyperlink" Target="file:///tmp/home/.config/libreoffice/4/user/gallery/yummy.wav" TargetMode="External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533520" y="1905120"/>
            <a:ext cx="81532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Rounded MT Bold"/>
              </a:rPr>
              <a:t>Good morning boys and girls. This afternoon we will go to see Mr. Stone where we will have physical education. __________ has show and tell, __________ has the alphabet can and __________ is the little red caboose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924200" y="1847880"/>
            <a:ext cx="3562200" cy="3562200"/>
          </a:xfrm>
          <a:prstGeom prst="rect">
            <a:avLst/>
          </a:prstGeom>
          <a:ln w="76320">
            <a:solidFill>
              <a:srgbClr val="9966ff"/>
            </a:solidFill>
            <a:miter/>
          </a:ln>
        </p:spPr>
      </p:pic>
      <p:sp>
        <p:nvSpPr>
          <p:cNvPr id="97" name=""/>
          <p:cNvSpPr txBox="1"/>
          <p:nvPr/>
        </p:nvSpPr>
        <p:spPr>
          <a:xfrm>
            <a:off x="1238400" y="266760"/>
            <a:ext cx="701964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Who's That Baby?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4896000" y="1314360"/>
          <a:ext cx="3573360" cy="3468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96000" y="1314360"/>
                    <a:ext cx="3573360" cy="346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/>
          <p:cNvSpPr txBox="1"/>
          <p:nvPr/>
        </p:nvSpPr>
        <p:spPr>
          <a:xfrm>
            <a:off x="1104840" y="5648400"/>
            <a:ext cx="702000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Hannah!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228600" y="4419720"/>
            <a:ext cx="8763120" cy="2133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228600" y="2057400"/>
            <a:ext cx="8763120" cy="213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1371600" y="4952880"/>
            <a:ext cx="990720" cy="990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304920" y="4952880"/>
            <a:ext cx="914400" cy="990720"/>
          </a:xfrm>
          <a:prstGeom prst="ellipse">
            <a:avLst/>
          </a:prstGeom>
          <a:solidFill>
            <a:srgbClr val="cc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38280" y="4952880"/>
            <a:ext cx="1067040" cy="990720"/>
          </a:xfrm>
          <a:prstGeom prst="triangle">
            <a:avLst>
              <a:gd name="adj" fmla="val 50000"/>
            </a:avLst>
          </a:prstGeom>
          <a:solidFill>
            <a:srgbClr val="cc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5029200"/>
            <a:ext cx="914400" cy="99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715000" y="4876920"/>
            <a:ext cx="1066680" cy="99036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781680" y="4952880"/>
            <a:ext cx="914400" cy="990720"/>
          </a:xfrm>
          <a:prstGeom prst="ellipse">
            <a:avLst/>
          </a:prstGeom>
          <a:solidFill>
            <a:srgbClr val="cc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495680" y="58672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72400" y="57913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79200"/>
            <a:ext cx="9205920" cy="12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9933ff"/>
                </a:solidFill>
                <a:latin typeface="Arial Rounded MT Bold"/>
              </a:rPr>
              <a:t>Patterns</a:t>
            </a:r>
            <a:endParaRPr b="0" lang="en-US" sz="7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99072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935600" y="2598840"/>
            <a:ext cx="990360" cy="990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46600" y="2611440"/>
            <a:ext cx="99036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03440" y="2570040"/>
            <a:ext cx="990360" cy="990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26040" y="2592360"/>
            <a:ext cx="990720" cy="9907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162920" y="35053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703600" y="2603520"/>
            <a:ext cx="990360" cy="9907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52280" y="19810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52280" y="44197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648320" y="1905120"/>
            <a:ext cx="2381040" cy="25714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752480" y="2133720"/>
            <a:ext cx="32004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ff3300"/>
                </a:solidFill>
                <a:latin typeface="Arial Rounded MT Bold"/>
              </a:rPr>
              <a:t>Bb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609480" y="1805040"/>
          <a:ext cx="7315200" cy="4851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1805040"/>
                    <a:ext cx="7315200" cy="485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"/>
          <p:cNvSpPr/>
          <p:nvPr/>
        </p:nvSpPr>
        <p:spPr>
          <a:xfrm>
            <a:off x="762120" y="2362320"/>
            <a:ext cx="914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Arial Rounded MT Bold"/>
              </a:rPr>
              <a:t>b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4159080"/>
            <a:ext cx="914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Arial Rounded MT Bold"/>
              </a:rPr>
              <a:t>b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1492200"/>
            <a:ext cx="914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Arial Rounded MT Bold"/>
              </a:rPr>
              <a:t>b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295280" y="2362320"/>
            <a:ext cx="1447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66"/>
                </a:solidFill>
                <a:latin typeface="Arial Rounded MT Bold"/>
              </a:rPr>
              <a:t>at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986280" y="4149720"/>
            <a:ext cx="1447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66"/>
                </a:solidFill>
                <a:latin typeface="Arial Rounded MT Bold"/>
              </a:rPr>
              <a:t>al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989000" y="5656320"/>
            <a:ext cx="1812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66"/>
                </a:solidFill>
                <a:latin typeface="Arial Rounded MT Bold"/>
              </a:rPr>
              <a:t>as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494000" y="5648400"/>
            <a:ext cx="914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Arial Rounded MT Bold"/>
              </a:rPr>
              <a:t>b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083280" y="1471680"/>
            <a:ext cx="1812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66"/>
                </a:solidFill>
                <a:latin typeface="Arial Rounded MT Bold"/>
              </a:rPr>
              <a:t>as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467160" y="5654520"/>
            <a:ext cx="914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Arial Rounded MT Bold"/>
              </a:rPr>
              <a:t>b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935520" y="5638680"/>
            <a:ext cx="1447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66"/>
                </a:solidFill>
                <a:latin typeface="Arial Rounded MT Bold"/>
              </a:rPr>
              <a:t>al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1752480" y="1617840"/>
            <a:ext cx="6096240" cy="40971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1752480" y="5410080"/>
            <a:ext cx="609624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805120" y="5486400"/>
            <a:ext cx="914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Arial Rounded MT Bold"/>
              </a:rPr>
              <a:t>b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270240" y="5442120"/>
            <a:ext cx="1447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66"/>
                </a:solidFill>
                <a:latin typeface="Arial Rounded MT Bold"/>
              </a:rPr>
              <a:t>lu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73720" y="5486400"/>
            <a:ext cx="914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Arial Rounded MT Bold"/>
              </a:rPr>
              <a:t>b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973760" y="5454720"/>
            <a:ext cx="1447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66"/>
                </a:solidFill>
                <a:latin typeface="Arial Rounded MT Bold"/>
              </a:rPr>
              <a:t>ird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990720" y="1700280"/>
            <a:ext cx="7162560" cy="494676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1763640" y="5337000"/>
            <a:ext cx="914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Arial Rounded MT Bold"/>
              </a:rPr>
              <a:t>b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211480" y="5318280"/>
            <a:ext cx="22921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66"/>
                </a:solidFill>
                <a:latin typeface="Arial Rounded MT Bold"/>
              </a:rPr>
              <a:t>lack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903840" y="5316480"/>
            <a:ext cx="914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Arial Rounded MT Bold"/>
              </a:rPr>
              <a:t>b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>
            <a:hlinkClick r:id="rId3"/>
          </p:cNvPr>
          <p:cNvSpPr/>
          <p:nvPr/>
        </p:nvSpPr>
        <p:spPr>
          <a:xfrm>
            <a:off x="4444920" y="5326200"/>
            <a:ext cx="3429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66"/>
                </a:solidFill>
                <a:latin typeface="Arial Rounded MT Bold"/>
              </a:rPr>
              <a:t>erries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-36360" y="585720"/>
            <a:ext cx="91710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Arial Rounded MT Bold"/>
              </a:rPr>
              <a:t>black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-38160" y="2695680"/>
            <a:ext cx="92235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996633"/>
                </a:solidFill>
                <a:latin typeface="Arial Rounded MT Bold"/>
              </a:rPr>
              <a:t>brown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-176040" y="4738680"/>
            <a:ext cx="92059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3366ff"/>
                </a:solidFill>
                <a:latin typeface="Arial Rounded MT Bold"/>
              </a:rPr>
              <a:t>blue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743200" y="762120"/>
            <a:ext cx="4229280" cy="563868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0" y="5622840"/>
            <a:ext cx="9205920" cy="12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ffffff"/>
                </a:solidFill>
                <a:latin typeface="Arial Rounded MT Bold"/>
              </a:rPr>
              <a:t>Moon Phases</a:t>
            </a:r>
            <a:endParaRPr b="0" lang="en-US" sz="7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533520" y="5334120"/>
            <a:ext cx="167616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Click her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990720" y="2022480"/>
            <a:ext cx="3886200" cy="19512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4876920" y="4175280"/>
            <a:ext cx="3276360" cy="21492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2209680" y="4175280"/>
            <a:ext cx="2419560" cy="182556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92" name="" descr=""/>
          <p:cNvPicPr/>
          <p:nvPr/>
        </p:nvPicPr>
        <p:blipFill>
          <a:blip r:embed="rId5"/>
          <a:stretch/>
        </p:blipFill>
        <p:spPr>
          <a:xfrm>
            <a:off x="5124600" y="2193840"/>
            <a:ext cx="1904760" cy="17240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93" name=""/>
          <p:cNvSpPr txBox="1"/>
          <p:nvPr/>
        </p:nvSpPr>
        <p:spPr>
          <a:xfrm>
            <a:off x="2324160" y="3413160"/>
            <a:ext cx="458136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Rounded MT Bold"/>
              </a:rPr>
              <a:t>Weathe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Rounded MT Bold"/>
              <a:ea typeface="Arial Rounded MT Bold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533520" y="5334120"/>
            <a:ext cx="167616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Click her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533520" y="5334120"/>
            <a:ext cx="167616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Click her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07T14:13:23Z</dcterms:created>
  <dc:creator>Ronan</dc:creator>
  <dc:description/>
  <dc:language>en-US</dc:language>
  <cp:lastModifiedBy> </cp:lastModifiedBy>
  <cp:lastPrinted>2003-06-07T15:15:17Z</cp:lastPrinted>
  <dcterms:modified xsi:type="dcterms:W3CDTF">2004-03-04T20:23:23Z</dcterms:modified>
  <cp:revision>26</cp:revision>
  <dc:subject/>
  <dc:title>No Slide Title</dc:title>
</cp:coreProperties>
</file>