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B05-0C9C-486C-A90F-7CD73526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902-89D5-4493-B795-27B28A01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198-2D74-4F42-BF35-82918342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147-2BBA-4E69-AF48-C4A600BF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CB20-73ED-4D86-977C-11199221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3E19-188F-4CDB-A760-D60CA196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1A8C-5B80-4A82-9CC5-460AD777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274-566D-4531-9805-0855C79F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F944-E56B-4663-B5A0-E43762AC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DE52-4DB1-4C9B-94FB-CD58F54E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A496-BF67-46B7-8BD4-DE9B60B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F42-D6AE-4B9E-BDE3-CED402E3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2D74-2120-4846-8EF2-6ECE7377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3D20-E608-45A0-BF55-CF5B1B3C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95EE-67B2-4781-9499-4DE3061E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D958-5F8F-46D4-BE84-449C5865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4A18-C06B-4463-AA46-3C71F3E3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F727-2092-4EC4-B6F5-F9913F3F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04D7E-6A1A-46C2-A292-9C4C6B1F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00133-4F3D-4D21-8066-4F34F453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F4DF-C0A7-456B-B6E1-533EA404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3DF6-FE76-4842-BD1D-C59EC088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953-5120-4A4F-9942-804E23FE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21EF-CD77-41B1-8F9D-42F5D71E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D726-9887-4020-8AFA-A969943D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B5A0-6213-4776-99F6-4576FDB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4C84-D957-484F-98D9-978E18B6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8ED9C-C1FF-4BD6-B010-69BBF7DF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C3B2-1BC2-4777-813C-1D5E52A8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137F-D418-43D0-942C-3552CAF8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4D02-2EAC-4B07-8C62-51BB73BD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4DA2-6FC8-4FE8-A8DC-06CD694A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2FCCA-C7F5-4327-A39E-5CEDBB57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6C1-3D18-4A81-899C-BA6695A5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4F25-0E01-455D-A318-F2B644C3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5CCEC-B2AC-4C96-BBAD-6FD1AC5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E595-5023-459E-B96D-023B0300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37F45-A849-4EEA-B836-1FCC498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AD2D-18E9-4EFE-8498-730EBBEC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C5C2-DB04-40F3-9F2B-84EE576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07CED-18C4-4775-BD47-7931BDD6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960A0-B419-4BE5-B54B-24631ED3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43EB2-26C7-4128-86FB-83CC6A6D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823B5-A000-4D84-8227-2135762A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245-E79C-46D0-B207-1DD6A6E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770D9-B9FB-4CDB-971C-A8DB60EC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1B136-83A3-45F3-8DD8-39F36B4D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F29A-DA5A-4EE5-83ED-CE87F63D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09BD-F93D-462E-BDCA-1C392736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C2B46-8801-4320-AE55-C875A909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0A2C-4D8C-4EE0-9D67-E5EDCDB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3F9CC-6FD9-4BE2-BF47-8DBECB1F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3E8CB-99FC-46DA-AD42-8D942AFF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3DE4F-BCB2-46A5-B0E5-B255B0A5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09925-E676-4B4E-9E2B-2E299EB5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539-C414-409B-9688-5B68AB1D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73551-2CD9-4F53-A3BC-6E6EB6AE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B235E-7D08-40CD-9044-51BC568F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EA77E-ABCD-4BF1-BD23-DF0101C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7A12-FAE4-4878-8B8D-A8079453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1DFA1-6637-49C1-B722-E3FD16CF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F3B38-BB97-417B-A934-919E58D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8B56E-E065-43B5-84AD-F02A7EB2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04A62-3FD9-41E7-A9FD-4D43F33E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96B5-96FB-42D6-8ED4-C8CAE046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1BE03-E6A7-46F8-A862-247E5A90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550-B9A9-440F-8F94-20E0655F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43780-219A-4E00-B8E1-C867AB49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22541-809B-4C0D-9CE8-D1AB4D05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1DE2E-C3F2-4635-AD3F-64BA7BFC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D89-5D81-4AC7-9857-F8DE891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BC5-2B41-4BB4-84B2-B8F7E8E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D106-408A-4170-B697-3B6B1454CF6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B5A7-874D-48B1-A81F-C203C11F471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BC87-8FA1-4AAC-8AA5-343ABB685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B6F1-9907-4005-9CE2-22066D664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683-DC69-4314-822B-C3DA559DE7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09C-4B9D-4CC7-8B3D-C73E7D03D3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fbf3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4559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b812f"/>
                </a:solidFill>
                <a:latin typeface="Garamond"/>
              </a:rPr>
              <a:t>My Great Grandpa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533520" y="320004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rial"/>
              </a:rPr>
              <a:t>Made a Difference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A Biography by </a:t>
            </a:r>
            <a:br>
              <a:rPr sz="2800"/>
            </a:b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John Mich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45720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591000" cy="5067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He Should Be Remember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1523880"/>
            <a:ext cx="5257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 great grandpa should be remembered because he was a great m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ad a dream and made it come tr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made a difference in the lives of ot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as lived a long life and has a lot to teach us about life in the p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elped to develop Northern Californ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8217" r="0" b="0"/>
          <a:stretch/>
        </p:blipFill>
        <p:spPr>
          <a:xfrm>
            <a:off x="457200" y="1447920"/>
            <a:ext cx="2855880" cy="3555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He Will Be Remembered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 pass his story on to my children and grandchildr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can write it d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ca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 them about hi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 collect pictures of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 start a family treasure box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will put pictures of him, this biography, and the rocks and old coins he gave me insid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will share the box with ot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 Stor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 great grandpa was born on October 2, 1910 in Mission San Jose, Californ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was named John Theophane Pinhei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was the third of seven children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 parents were Frank Pinheiro Jr. and Angie Ramos Pinheiro. They were both born in Portug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 my grandpa changed his name to John Esco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705720" y="1295280"/>
            <a:ext cx="18270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 Stor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he was 12, John loved tractor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Right then and there I decided that I wanted to be a tractor driver and own them," he sa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made his dream come tru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43, he began driving tra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44, John Escover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ed his ow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uction compan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181480" y="4495680"/>
            <a:ext cx="3505320" cy="15494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25780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as his company’s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 S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ly 17, 1938 he marri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e Barcel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d 2 children. One of his children is my grandp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8 grandchildre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his grandchildren is my m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14 great grandchildren. I am one of his great grand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943600" y="3670200"/>
            <a:ext cx="2819520" cy="1892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19920" y="32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ding 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5638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419200" cy="1778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en He Was My Ag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had to work to help support his famil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af of bread cost 9 cents and gas cost 24 cents a gall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ere no televisions, computers, or video games, only radios and silent movie theat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had to walk a long way to sch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only had one pair of shoes and 2 pairs of 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Things Have Chang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371600"/>
          <a:ext cx="8153280" cy="44193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f of bread cost 9 c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f of bread costs $3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s and silent mov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s, computers, video ga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had 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p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ts of dairy farms and orch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ts of homes and sh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ed a long way to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 ride to nearby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Has Family Size Changed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371600" y="1219320"/>
          <a:ext cx="5796000" cy="25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7960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533520" y="45720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962520"/>
            <a:ext cx="7239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hypothesis was that family size is getting sm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rveyed many people, and the data proves we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Is Life Different Then and Now?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was different then because cities were less crowded, people didn't have to lock doors or go to high sch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, it is different because we have TVs and computers and kids don't have to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He Made a Differenc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grandpa made a difference in his commun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built dams and roa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made a difference i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fami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gave me my grandpa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gave me my m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showed us how it is possible to make your dreams come tr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taught me all about rocks and the p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581280" cy="188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7:42:40Z</dcterms:created>
  <dc:creator>Deborah Ann Candau</dc:creator>
  <dc:description/>
  <dc:language>en-US</dc:language>
  <cp:lastModifiedBy>mjmillhX</cp:lastModifiedBy>
  <dcterms:modified xsi:type="dcterms:W3CDTF">2006-11-16T23:31:02Z</dcterms:modified>
  <cp:revision>109</cp:revision>
  <dc:subject/>
  <dc:title>My Great Grandfather</dc:title>
</cp:coreProperties>
</file>