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6814C-644B-4D52-9C06-B0C2DE148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A97E3-56CF-4C52-936D-6C4F2ED81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F6822-BAE9-4EAB-B993-FFED7A934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5086D-1926-4C95-A99C-8F4178DBF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640DC-CF53-4901-815F-FEF1CEC93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0710A-ED3C-4490-9EF1-0F6372C90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A34C8-3559-48EC-B5AD-180381F66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E76DB-4DF0-4880-81C8-6FE3575A5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75114-22C4-4E58-8F31-C30620701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57DAC-CABC-4D9A-B009-398EE16DB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CC9D2-F758-46C4-A883-E14C62835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6AB96-C8BE-43D0-8DF4-AC21E980F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6AFCC-A9C9-405D-9A67-AF6312EF8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BC1F3-E7DC-4B6B-AECE-3B664964D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412AA-4141-46DD-B856-8ED32CF50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4A13F-053E-437B-8A3F-07115F757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B452E-7113-4057-AF9E-3244B2872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D24F6-94E0-4F02-BE35-A0EB88013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2448C-5400-4F1B-828E-E4D6C4854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94645-84DA-4C61-B99B-B54B1FA8B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FA15C-D491-4508-A22C-D677BF6B7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F44E0-D7CE-4766-9A1B-911A563BA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600AC-2E95-4B19-87EA-4B474A868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909CF-82D6-4912-93CD-8CCF71F4D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1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3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4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7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9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0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2" name=""/>
          <p:cNvGrpSpPr/>
          <p:nvPr/>
        </p:nvGrpSpPr>
        <p:grpSpPr>
          <a:xfrm>
            <a:off x="71280" y="176040"/>
            <a:ext cx="8745840" cy="161280"/>
            <a:chOff x="71280" y="176040"/>
            <a:chExt cx="8745840" cy="161280"/>
          </a:xfrm>
        </p:grpSpPr>
        <p:sp>
          <p:nvSpPr>
            <p:cNvPr id="13" name=""/>
            <p:cNvSpPr/>
            <p:nvPr/>
          </p:nvSpPr>
          <p:spPr>
            <a:xfrm flipV="1" rot="5400000">
              <a:off x="452448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5400000">
              <a:off x="4413960" y="-4166640"/>
              <a:ext cx="60480" cy="87458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4572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0199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8580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F58B9-5D88-42B2-BAE9-F4840342936C}" type="slidenum"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7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0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3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6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439560" y="5989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35240" y="60022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00760" y="597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9CA57-9A01-48CB-BD96-70D189328AD9}" type="slidenum"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cc"/>
                </a:solidFill>
                <a:latin typeface="Broadway"/>
              </a:rPr>
              <a:t>Pets have different needs.  Look at the clues to guess the pet!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371600" y="1371600"/>
            <a:ext cx="647712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Guess That Pet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This animal lives in a cage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The cage needs to be cleaned often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It needs fresh water every day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It needs seeds, fruits, and vegetabl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It is happiest with a buddy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33ff"/>
                </a:solidFill>
                <a:latin typeface="Broadway"/>
              </a:rPr>
              <a:t>Can you guess the pet?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685800" y="457200"/>
            <a:ext cx="243828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Pet # 1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685440" y="1600200"/>
            <a:ext cx="38098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99ff"/>
                </a:solidFill>
                <a:latin typeface="Tahoma"/>
              </a:rPr>
              <a:t>A parakeet is a small parrot.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here are many types of parrots.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99"/>
                </a:solidFill>
                <a:latin typeface="Tahoma"/>
              </a:rPr>
              <a:t>In the wild, parrots are endangered.  Only birds bred in captivity should be kept as pet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ff"/>
                </a:solidFill>
                <a:latin typeface="Tahoma"/>
              </a:rPr>
              <a:t>You might want to choose a cockatoo, lovebird, or macaw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1295280" y="609480"/>
            <a:ext cx="655344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It’s a parakeet!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571500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Parakeet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343400" y="5943600"/>
            <a:ext cx="4800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828800" y="1285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4191120" y="1600200"/>
            <a:ext cx="548640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685440" y="1904760"/>
            <a:ext cx="80010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cc"/>
                </a:solidFill>
                <a:latin typeface="Comic Sans MS"/>
              </a:rPr>
              <a:t>This animal needs love and attention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cc"/>
                </a:solidFill>
                <a:latin typeface="Comic Sans MS"/>
              </a:rPr>
              <a:t>This pet can be the size of a cat or a small pony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cc"/>
                </a:solidFill>
                <a:latin typeface="Comic Sans MS"/>
              </a:rPr>
              <a:t>It needs a bone or chew toy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cc"/>
                </a:solidFill>
                <a:latin typeface="Comic Sans MS"/>
              </a:rPr>
              <a:t>This pet can learn to sit, stay and come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cc"/>
                </a:solidFill>
                <a:latin typeface="Comic Sans MS"/>
              </a:rPr>
              <a:t>This pet needs exercise and play every day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ff"/>
                </a:solidFill>
                <a:latin typeface="Broadway"/>
              </a:rPr>
              <a:t>Can you guess the pet?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457200"/>
            <a:ext cx="175248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Pet #2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647960" y="1752480"/>
            <a:ext cx="38098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Training is another important part of taking care of a dog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Comic Sans MS"/>
              </a:rPr>
              <a:t>All dogs should be housebroken and trained to walk on a leash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143000" y="533520"/>
            <a:ext cx="68580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IT’S A DOG!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3" name=""/>
          <p:cNvSpPr/>
          <p:nvPr/>
        </p:nvSpPr>
        <p:spPr>
          <a:xfrm>
            <a:off x="609480" y="5943600"/>
            <a:ext cx="52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hocolate Labrador Retriever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233880" y="1704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85800" y="1828800"/>
            <a:ext cx="337176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685440" y="17524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ff"/>
                </a:solidFill>
                <a:latin typeface="Comic Sans MS"/>
              </a:rPr>
              <a:t>This pet needs food and clean water.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ff"/>
                </a:solidFill>
                <a:latin typeface="Comic Sans MS"/>
              </a:rPr>
              <a:t>It needs toys to play with and a lap to sit on.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ff"/>
                </a:solidFill>
                <a:latin typeface="Comic Sans MS"/>
              </a:rPr>
              <a:t>Sometimes it needs to be combed.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ff"/>
                </a:solidFill>
                <a:latin typeface="Comic Sans MS"/>
              </a:rPr>
              <a:t>It needs a clean litter box.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Wide Latin"/>
              </a:rPr>
              <a:t>Can you guess the pet?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09480" y="533520"/>
            <a:ext cx="18288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Pet #3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761760" y="1752480"/>
            <a:ext cx="4190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cc"/>
                </a:solidFill>
                <a:latin typeface="Tahoma"/>
              </a:rPr>
              <a:t>If they live indoors, cats need a scratching post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ff"/>
                </a:solidFill>
                <a:latin typeface="Tahoma"/>
              </a:rPr>
              <a:t>Cats should be watched if they go outdoors.  They kill wild birds by the thousands!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914400" y="380880"/>
            <a:ext cx="73915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It's a cat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495680" y="594360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Tabby Cat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90760" y="1704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952880" y="1447920"/>
            <a:ext cx="32274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3T15:43:43Z</dcterms:created>
  <dc:creator>Annie Wright School</dc:creator>
  <dc:description/>
  <dc:language>en-US</dc:language>
  <cp:lastModifiedBy>virgil</cp:lastModifiedBy>
  <dcterms:modified xsi:type="dcterms:W3CDTF">2002-04-05T23:35:57Z</dcterms:modified>
  <cp:revision>16</cp:revision>
  <dc:subject/>
  <dc:title>Guess That Pet</dc:title>
</cp:coreProperties>
</file>