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5767-A10C-4E81-9966-2C34F120C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4AE2-4DE7-44C8-B1AD-D08AB931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7C9E-18FD-4AFD-B815-81EE6CC06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93C3-FFDB-48C7-8F96-F74396793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A8E0-4E81-4F1A-B38B-46220D108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2892-5164-4B7B-B277-BFB03D1D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1853-3089-40DD-9944-4A592BB6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9DFE-CDA1-4008-8C7B-CFAEB7636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BEDE-60F5-465E-B83F-9FF965D4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964A-9480-49EE-93A1-10E2017D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0E1B-B23B-4938-B174-93C0D642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6DAB-0C94-4A26-9AA3-3D0FE54F4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BB98-ADB8-462F-B32F-C3E2AF1D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87DE-5E63-459B-9CD9-B4378C77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FE1AD-B7CE-43EF-A34A-1066884E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89B7-401F-496F-AC60-BA1570387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247CB-D88C-4497-A0D7-610B1463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DAFC-D898-461D-B2B2-F92EF58E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5CB0-3095-4CC3-B5F7-63C742C9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C84A-61D9-49A8-99E4-75F29F14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BA7B-12CE-452A-B262-18EE1CD3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CD70-2B71-4673-8DD3-BCFC371A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32E3-C293-461E-A82F-E67EEAC8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8347-E9EF-40E3-8F66-99E7B486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671C-384D-44A8-B979-61910CBAFE9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28B0-E1A9-4FA9-8F90-21F6AE8B415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Gill Sans Ultra Bold"/>
              </a:rPr>
              <a:t>It’s Great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Gill Sans Ultra Bold"/>
              </a:rPr>
              <a:t>to Be a Cheetah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1640" y="1766520"/>
            <a:ext cx="3960720" cy="25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Ultra Bold"/>
              </a:rPr>
              <a:t>b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Ultra Bold"/>
              </a:rPr>
              <a:t>Curt Tiffan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122280" y="3784680"/>
            <a:ext cx="3761280" cy="3034800"/>
            <a:chOff x="3122280" y="3784680"/>
            <a:chExt cx="3761280" cy="3034800"/>
          </a:xfrm>
        </p:grpSpPr>
        <p:pic>
          <p:nvPicPr>
            <p:cNvPr id="90" name="" descr="imagef07.jpg (29855 bytes)"/>
            <p:cNvPicPr/>
            <p:nvPr/>
          </p:nvPicPr>
          <p:blipFill>
            <a:blip r:embed="rId2"/>
            <a:stretch/>
          </p:blipFill>
          <p:spPr>
            <a:xfrm>
              <a:off x="3149640" y="3784680"/>
              <a:ext cx="3733920" cy="27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122280" y="6558120"/>
              <a:ext cx="1632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© 1999 Hugh Thomas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Gill Sans Ultra Bold"/>
              </a:rPr>
              <a:t>It’s Great to Be a Cheetah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1640" y="2071800"/>
            <a:ext cx="7769160" cy="49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2400"/>
                </a:solidFill>
                <a:latin typeface="Gill Sans Ultra Bold"/>
              </a:rPr>
              <a:t>Even though cheetahs are an endangered species, if you are an African anima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2400"/>
                </a:solidFill>
                <a:latin typeface="Gill Sans Ultra Bold"/>
              </a:rPr>
              <a:t>a cheetah is a great animal to be!</a:t>
            </a:r>
            <a:r>
              <a:rPr b="0" lang="en-US" sz="2000" spc="-1" strike="noStrike">
                <a:solidFill>
                  <a:srgbClr val="996600"/>
                </a:solidFill>
                <a:latin typeface="Gill Sans Ultra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SzPct val="18009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Cheetahs are sleek and beautiful anima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SzPct val="1800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We are built for spe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SzPct val="1800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We live among frien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SzPct val="1800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We are perfectly suited for our habit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SzPct val="18009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We are great hun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SzPct val="18009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We are consumers in the food we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5000"/>
              </a:lnSpc>
              <a:spcBef>
                <a:spcPts val="400"/>
              </a:spcBef>
              <a:buSzPct val="18009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We are protected anima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82400"/>
                </a:solidFill>
                <a:latin typeface="Gill Sans Ultra Bold"/>
              </a:rPr>
              <a:t>It’s great to be a cheetah. Don’t you agre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239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Gill Sans Ultra Bold"/>
                <a:ea typeface="Arial"/>
              </a:rPr>
              <a:t>I Am a Sleek and Beautiful Animal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3581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My fur is yellowish, with dark spots, which allows me to hide in grasses or dappled sha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I am almost six feet in length. About one-third of my length is because of my long rudder-like tail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I weigh nearly 125 poun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I chirp and purr, instead of roar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5520" y="4876920"/>
            <a:ext cx="380988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I was one of the lucky ones. Only half of the cheetahs that are born live to independent adulthood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My average expected lifespan is 12 to 14 yea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828800" y="6062760"/>
            <a:ext cx="3036240" cy="304560"/>
            <a:chOff x="1828800" y="6062760"/>
            <a:chExt cx="3036240" cy="304560"/>
          </a:xfrm>
        </p:grpSpPr>
        <p:pic>
          <p:nvPicPr>
            <p:cNvPr id="96" name="" descr=""/>
            <p:cNvPicPr/>
            <p:nvPr/>
          </p:nvPicPr>
          <p:blipFill>
            <a:blip r:embed="rId8"/>
            <a:stretch/>
          </p:blipFill>
          <p:spPr>
            <a:xfrm>
              <a:off x="1828800" y="606276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9"/>
            <a:stretch/>
          </p:blipFill>
          <p:spPr>
            <a:xfrm>
              <a:off x="3429000" y="606276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2074320" y="6080040"/>
              <a:ext cx="1200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ar me chi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33200" y="6068880"/>
              <a:ext cx="1131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ear me pur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337360" y="1752480"/>
            <a:ext cx="2879640" cy="3148200"/>
            <a:chOff x="5337360" y="1752480"/>
            <a:chExt cx="2879640" cy="3148200"/>
          </a:xfrm>
        </p:grpSpPr>
        <p:pic>
          <p:nvPicPr>
            <p:cNvPr id="101" name="" descr=""/>
            <p:cNvPicPr/>
            <p:nvPr/>
          </p:nvPicPr>
          <p:blipFill>
            <a:blip r:embed="rId10"/>
            <a:srcRect l="4687" t="23957" r="3122" b="7948"/>
            <a:stretch/>
          </p:blipFill>
          <p:spPr>
            <a:xfrm>
              <a:off x="5397840" y="1752480"/>
              <a:ext cx="2819160" cy="31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337360" y="4470480"/>
              <a:ext cx="189828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a7947b"/>
                  </a:solidFill>
                  <a:latin typeface="Times New Roman"/>
                </a:rPr>
                <a:t>© Gerald and Buff Corsi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a7947b"/>
                  </a:solidFill>
                  <a:latin typeface="Times New Roman"/>
                </a:rPr>
                <a:t>California Academy of Scien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Gill Sans Ultra Bold"/>
              </a:rPr>
              <a:t>I Am Built for Spee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4876920"/>
            <a:ext cx="3962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Gill Sans Ultra Bold"/>
                <a:ea typeface="Arial"/>
              </a:rPr>
              <a:t>I can run at speeds up to 70 mph for distances up to 1,000 yards.</a:t>
            </a:r>
            <a:r>
              <a:rPr b="0" lang="en-US" sz="1800" spc="-1" strike="noStrike">
                <a:solidFill>
                  <a:srgbClr val="000000"/>
                </a:solidFill>
                <a:latin typeface="Gill Sans Ultra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889280"/>
            <a:ext cx="388620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Gill Sans Ultra Bold"/>
                <a:ea typeface="Arial"/>
              </a:rPr>
              <a:t>I have a small head, which helps me to have low wind resistance and run fas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Gill Sans Ultra Bold"/>
                <a:ea typeface="Arial"/>
              </a:rPr>
              <a:t>I have long, muscular legs that help me take long strides, up to 25 fe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Gill Sans Ultra Bold"/>
                <a:ea typeface="Arial"/>
              </a:rPr>
              <a:t>I have a large heart and large lungs, which allow me to hold lots of oxyg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Gill Sans Ultra Bold"/>
                <a:ea typeface="Arial"/>
              </a:rPr>
              <a:t>I have non-retracting claws that help me to have lots of traction and stability when I run at great spee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00"/>
                </a:solidFill>
                <a:latin typeface="Gill Sans Ultra Bold"/>
                <a:ea typeface="Arial"/>
              </a:rPr>
              <a:t>I have a long tail that helps me to have great balance and agility at high spee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4876920" y="182880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4000" spc="-1" strike="noStrike">
                <a:solidFill>
                  <a:srgbClr val="482400"/>
                </a:solidFill>
                <a:latin typeface="Gill Sans Ultra Bold"/>
              </a:rPr>
              <a:t>Top Speed Comparison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66680" y="1752480"/>
          <a:ext cx="7769520" cy="41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752480"/>
                    <a:ext cx="776952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 rot="16200000">
            <a:off x="-866880" y="345816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les per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Gill Sans Ultra Bold"/>
              </a:rPr>
              <a:t>I Live Among Friend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1981080"/>
            <a:ext cx="40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Gill Sans Ultra Bold"/>
              </a:rPr>
              <a:t>Like most cheetahs, I live in Namibia, Afr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791320"/>
            <a:ext cx="5334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About 2,000 other cheetahs are captive in zoos and reserves in other parts of the worl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4343400"/>
            <a:ext cx="52578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Namibia, a small country in Africa, is the cheetah capital of the world. With over 2,000 cheetahs, Namibia is home to about one-sixth of the world’s 12,000 cheetahs.</a:t>
            </a:r>
            <a:r>
              <a:rPr b="0" lang="en-US" sz="1800" spc="-1" strike="noStrike">
                <a:solidFill>
                  <a:srgbClr val="996600"/>
                </a:solidFill>
                <a:latin typeface="Gill Sans Ultra Bol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79640" y="2819520"/>
            <a:ext cx="2439720" cy="2590560"/>
            <a:chOff x="1079640" y="2819520"/>
            <a:chExt cx="2439720" cy="259056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rcRect l="22619" t="13819" r="20240" b="17839"/>
            <a:stretch/>
          </p:blipFill>
          <p:spPr>
            <a:xfrm>
              <a:off x="1082520" y="2819520"/>
              <a:ext cx="243684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079640" y="5163840"/>
              <a:ext cx="175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© Microsoft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Encarta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Arial"/>
                </a:rPr>
                <a:t>®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2002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334120" y="1752480"/>
            <a:ext cx="3276360" cy="2579760"/>
            <a:chOff x="5334120" y="1752480"/>
            <a:chExt cx="3276360" cy="2579760"/>
          </a:xfrm>
        </p:grpSpPr>
        <p:pic>
          <p:nvPicPr>
            <p:cNvPr id="119" name="" descr=""/>
            <p:cNvPicPr/>
            <p:nvPr/>
          </p:nvPicPr>
          <p:blipFill>
            <a:blip r:embed="rId3"/>
            <a:srcRect l="32143" t="29904" r="4765" b="15161"/>
            <a:stretch/>
          </p:blipFill>
          <p:spPr>
            <a:xfrm>
              <a:off x="5334120" y="1752480"/>
              <a:ext cx="3276360" cy="25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5335920" y="4086000"/>
              <a:ext cx="182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© Microsoft® Encarta® 2002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4952880" y="2895480"/>
            <a:ext cx="990720" cy="533520"/>
          </a:xfrm>
          <a:prstGeom prst="line">
            <a:avLst/>
          </a:prstGeom>
          <a:ln w="5724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Gill Sans Ultra Bold"/>
              </a:rPr>
              <a:t>I Am Perfectly Suited for My Habit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2057400"/>
            <a:ext cx="42670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I live in a wooded grassland savannah which is perfect for finding my prey. I eat hoofed animals that feed on gr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4495680"/>
            <a:ext cx="4267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I hunt during the day. My low stature allows me to sneak through the tall grass of the savannah without being seen. The ability to perform a surprise attack on my target is important if I want to have something to e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335268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The grasslands are good grazing grounds for cattle and sheep, which are especially tas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486400" y="2743200"/>
            <a:ext cx="32241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Gill Sans Ultra Bold"/>
              </a:rPr>
              <a:t>I Am a Great Hunt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22360" y="1904760"/>
            <a:ext cx="2805120" cy="13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I sneak within 100 feet of my prey. Then, I race in at close to 70 miles an hour, and pounce on my target, quickly pulling down my pre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867280" y="4495680"/>
            <a:ext cx="2826000" cy="1552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811840" y="6200640"/>
            <a:ext cx="3048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© Gerald and Buff Corsi, California Academy of Sc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828800"/>
            <a:ext cx="38102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My small jaw doesn’t allow me to kill in one deadly bite, so I press on the throat of my victim until it suffoc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17880" y="4114800"/>
            <a:ext cx="1804320" cy="2587320"/>
            <a:chOff x="1217880" y="4114800"/>
            <a:chExt cx="1804320" cy="2587320"/>
          </a:xfrm>
        </p:grpSpPr>
        <p:pic>
          <p:nvPicPr>
            <p:cNvPr id="133" name="" descr="imagef08.jpg (27637 bytes)"/>
            <p:cNvPicPr/>
            <p:nvPr/>
          </p:nvPicPr>
          <p:blipFill>
            <a:blip r:embed="rId3"/>
            <a:stretch/>
          </p:blipFill>
          <p:spPr>
            <a:xfrm>
              <a:off x="1547280" y="4114800"/>
              <a:ext cx="1474920" cy="234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217880" y="6440760"/>
              <a:ext cx="1686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© 1999 Hugh Thomas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029200" y="312408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I am not dependent on water holes like my prey; I get most of the water I need from the animals I e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352680" y="4724280"/>
            <a:ext cx="2286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6600"/>
                </a:solidFill>
                <a:latin typeface="Gill Sans Ultra Bold"/>
              </a:rPr>
              <a:t>My main sources of food are antelope, gazelle, hares and impal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34120" y="4952880"/>
            <a:ext cx="3200400" cy="12193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757320" y="2089440"/>
            <a:ext cx="2315520" cy="2526480"/>
            <a:chOff x="3757320" y="2089440"/>
            <a:chExt cx="2315520" cy="2526480"/>
          </a:xfrm>
        </p:grpSpPr>
        <p:grpSp>
          <p:nvGrpSpPr>
            <p:cNvPr id="139" name=""/>
            <p:cNvGrpSpPr/>
            <p:nvPr/>
          </p:nvGrpSpPr>
          <p:grpSpPr>
            <a:xfrm>
              <a:off x="3757320" y="2089440"/>
              <a:ext cx="2315520" cy="2526480"/>
              <a:chOff x="3757320" y="2089440"/>
              <a:chExt cx="2315520" cy="2526480"/>
            </a:xfrm>
          </p:grpSpPr>
          <p:sp>
            <p:nvSpPr>
              <p:cNvPr id="140" name="_s34837"/>
              <p:cNvSpPr/>
              <p:nvPr/>
            </p:nvSpPr>
            <p:spPr>
              <a:xfrm>
                <a:off x="3757680" y="2089440"/>
                <a:ext cx="2315160" cy="2526480"/>
              </a:xfrm>
              <a:custGeom>
                <a:avLst/>
                <a:gdLst>
                  <a:gd name="textAreaLeft" fmla="*/ 0 w 2315160"/>
                  <a:gd name="textAreaRight" fmla="*/ 2315160 w 2315160"/>
                  <a:gd name="textAreaTop" fmla="*/ 0 h 2526480"/>
                  <a:gd name="textAreaBottom" fmla="*/ 2526840 h 252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_s34838"/>
              <p:cNvSpPr/>
              <p:nvPr/>
            </p:nvSpPr>
            <p:spPr>
              <a:xfrm rot="5400000">
                <a:off x="3651480" y="2194920"/>
                <a:ext cx="2526480" cy="2315160"/>
              </a:xfrm>
              <a:custGeom>
                <a:avLst/>
                <a:gdLst>
                  <a:gd name="textAreaLeft" fmla="*/ 0 w 2526480"/>
                  <a:gd name="textAreaRight" fmla="*/ 2526840 w 2526480"/>
                  <a:gd name="textAreaTop" fmla="*/ 0 h 2315160"/>
                  <a:gd name="textAreaBottom" fmla="*/ 2315160 h 231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_s34843"/>
              <p:cNvSpPr/>
              <p:nvPr/>
            </p:nvSpPr>
            <p:spPr>
              <a:xfrm rot="10800000">
                <a:off x="3757320" y="2089440"/>
                <a:ext cx="2315160" cy="2526480"/>
              </a:xfrm>
              <a:custGeom>
                <a:avLst/>
                <a:gdLst>
                  <a:gd name="textAreaLeft" fmla="*/ 0 w 2315160"/>
                  <a:gd name="textAreaRight" fmla="*/ 2315160 w 2315160"/>
                  <a:gd name="textAreaTop" fmla="*/ 0 h 2526480"/>
                  <a:gd name="textAreaBottom" fmla="*/ 2526840 h 2526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_s34845"/>
              <p:cNvSpPr/>
              <p:nvPr/>
            </p:nvSpPr>
            <p:spPr>
              <a:xfrm rot="16200000">
                <a:off x="3651840" y="2194920"/>
                <a:ext cx="2526480" cy="2315160"/>
              </a:xfrm>
              <a:custGeom>
                <a:avLst/>
                <a:gdLst>
                  <a:gd name="textAreaLeft" fmla="*/ 0 w 2526480"/>
                  <a:gd name="textAreaRight" fmla="*/ 2526840 w 2526480"/>
                  <a:gd name="textAreaTop" fmla="*/ 0 h 2315160"/>
                  <a:gd name="textAreaBottom" fmla="*/ 2315160 h 2315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798" y="17930"/>
                    </a:moveTo>
                    <a:arcTo wR="-7200" hR="-7200" stAng="5880000" swAng="-2280000"/>
                    <a:lnTo>
                      <a:pt x="5400" y="1447"/>
                    </a:lnTo>
                    <a:arcTo wR="10800" hR="10800" stAng="-7200000" swAng="2280000"/>
                    <a:lnTo>
                      <a:pt x="12679" y="-2569"/>
                    </a:lnTo>
                    <a:lnTo>
                      <a:pt x="16509" y="2514"/>
                    </a:lnTo>
                    <a:lnTo>
                      <a:pt x="11426" y="6344"/>
                    </a:lnTo>
                    <a:close/>
                  </a:path>
                </a:pathLst>
              </a:custGeom>
              <a:solidFill>
                <a:srgbClr val="dfd6c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_s34835"/>
              <p:cNvSpPr/>
              <p:nvPr/>
            </p:nvSpPr>
            <p:spPr>
              <a:xfrm>
                <a:off x="5335200" y="2247120"/>
                <a:ext cx="59292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Ultra Bold"/>
                  </a:rPr>
                  <a:t>Gra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produce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_s34836"/>
              <p:cNvSpPr/>
              <p:nvPr/>
            </p:nvSpPr>
            <p:spPr>
              <a:xfrm>
                <a:off x="5336280" y="3809880"/>
                <a:ext cx="59292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Ultra Bold"/>
                  </a:rPr>
                  <a:t>Antelop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primary consume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_s34842"/>
              <p:cNvSpPr/>
              <p:nvPr/>
            </p:nvSpPr>
            <p:spPr>
              <a:xfrm>
                <a:off x="3904200" y="3812040"/>
                <a:ext cx="59292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Ultra Bold"/>
                  </a:rPr>
                  <a:t>Cheeta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secondary consume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_s34844"/>
              <p:cNvSpPr/>
              <p:nvPr/>
            </p:nvSpPr>
            <p:spPr>
              <a:xfrm>
                <a:off x="3902400" y="2248200"/>
                <a:ext cx="592920" cy="64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Gill Sans Ultra Bold"/>
                  </a:rPr>
                  <a:t>Hyen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decomposer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4601160" y="2818800"/>
              <a:ext cx="900720" cy="884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 flipH="1">
            <a:off x="2514240" y="6132600"/>
            <a:ext cx="609480" cy="0"/>
          </a:xfrm>
          <a:prstGeom prst="line">
            <a:avLst/>
          </a:prstGeom>
          <a:ln w="76320">
            <a:solidFill>
              <a:srgbClr val="808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33240" y="5969160"/>
            <a:ext cx="17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 </a:t>
            </a:r>
            <a:r>
              <a:rPr b="0" lang="en-US" sz="1400" spc="-1" strike="noStrike">
                <a:solidFill>
                  <a:srgbClr val="996600"/>
                </a:solidFill>
                <a:latin typeface="Gill Sans Ultra Bold"/>
                <a:ea typeface="Arial"/>
              </a:rPr>
              <a:t>Gives energy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87960" y="304920"/>
            <a:ext cx="401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Gill Sans Ultra Bold"/>
                <a:ea typeface="Arial"/>
              </a:rPr>
              <a:t>I Am a Consumer </a:t>
            </a:r>
            <a:br>
              <a:rPr sz="3600"/>
            </a:br>
            <a:r>
              <a:rPr b="0" lang="en-US" sz="3600" spc="-1" strike="noStrike">
                <a:solidFill>
                  <a:srgbClr val="482400"/>
                </a:solidFill>
                <a:latin typeface="Gill Sans Ultra Bold"/>
                <a:ea typeface="Arial"/>
              </a:rPr>
              <a:t>in the Food We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1752480"/>
            <a:ext cx="25146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The sun gives life and energy  to all the plant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and animal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49640" y="3164040"/>
            <a:ext cx="1956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The grass gives energ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to the antelop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9160" y="4406760"/>
            <a:ext cx="17244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The antelope giv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energy to me when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I eat i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324480" y="18288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I eventually give energy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to the hyena which feeds on me once I have died or am sick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728400" y="3316320"/>
            <a:ext cx="1953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When the hye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dies or is killed it give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energy to the soil s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the grass grow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5909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543800" y="2819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752480" y="5257440"/>
            <a:ext cx="4572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5181480"/>
            <a:ext cx="2819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996600"/>
                </a:solidFill>
                <a:latin typeface="Gill Sans Ultra Bold"/>
                <a:ea typeface="Arial"/>
              </a:rPr>
              <a:t>All animals give back to the soil when they die or through their wast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973240" y="5638680"/>
            <a:ext cx="5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3886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Gill Sans Ultra Bold"/>
                <a:ea typeface="Arial"/>
              </a:rPr>
              <a:t>What Is the </a:t>
            </a:r>
            <a:br>
              <a:rPr sz="3600"/>
            </a:br>
            <a:r>
              <a:rPr b="0" lang="en-US" sz="3600" spc="-1" strike="noStrike">
                <a:solidFill>
                  <a:srgbClr val="482400"/>
                </a:solidFill>
                <a:latin typeface="Gill Sans Ultra Bold"/>
                <a:ea typeface="Arial"/>
              </a:rPr>
              <a:t>Price of Life?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SzPct val="10289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6600"/>
                </a:solidFill>
                <a:latin typeface="Gill Sans Ultra Bold"/>
              </a:rPr>
              <a:t>Cheetahs are an endangered speci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6600"/>
                </a:solidFill>
                <a:latin typeface="Gill Sans Ultra Bold"/>
              </a:rPr>
              <a:t>Without protection from humans, my population will soon be extinc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6600"/>
                </a:solidFill>
                <a:latin typeface="Gill Sans Ultra Bold"/>
              </a:rPr>
              <a:t>We are living things and need humans to protect us since humans are the ones taking away our homes and killing us for money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6600"/>
                </a:solidFill>
                <a:latin typeface="Gill Sans Ultra Bold"/>
              </a:rPr>
              <a:t>You can’t put a price on a living thing’s life. Every life is important and animals like me have just as much a right to live a long healthy life as humans do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6600"/>
                </a:solidFill>
                <a:latin typeface="Gill Sans Ultra Bold"/>
              </a:rPr>
              <a:t>Once we are gone, you can never bring us back! Cheetahs are beautiful, graceful creatures that need protection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SzPct val="10289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6600"/>
                </a:solidFill>
                <a:latin typeface="Gill Sans Ultra Bold"/>
              </a:rPr>
              <a:t>Without us, an important piece in the circle of life would be missing. Other animals, like antelope, would suffer if we were not part of their food web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996600"/>
                </a:solidFill>
                <a:latin typeface="Gill Sans Ultra Bold"/>
              </a:rPr>
              <a:t>Life has no price!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7T20:55:50Z</dcterms:created>
  <dc:creator>Lab 18#</dc:creator>
  <dc:description/>
  <dc:language>en-US</dc:language>
  <cp:lastModifiedBy>Kristin Bye-Barton</cp:lastModifiedBy>
  <dcterms:modified xsi:type="dcterms:W3CDTF">2005-05-25T17:52:06Z</dcterms:modified>
  <cp:revision>166</cp:revision>
  <dc:subject/>
  <dc:title>African Animals</dc:title>
</cp:coreProperties>
</file>