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E57-63C2-47F4-85AC-E7490393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25B-4C75-49EA-BC16-0528BD6C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AEE-20F9-49F0-A3B2-75E1A316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4A8-F283-47AE-BD18-17586787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E3FC-AF71-46C8-BE05-B6380D64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1BBE-C20D-4D80-8D9F-C2645500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F475-5A0A-495F-BFE8-0EC51258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8B51-976B-407C-87E7-1D621A9B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40A9-CC38-42D5-B30E-EBC2DFCD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A91D-F8DC-461C-A1F4-1F903224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7ECF-7C95-4D18-81F8-253D156E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FA4-E676-448E-879B-CD9E2FE1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C67A-1F95-4435-8591-44D217CC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893F-A0AD-4E17-89CC-3896B6B2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8236-C978-49D2-9121-3C8CA3CD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392D-E1E5-4C88-A1CC-6F38497E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AD41-FB1D-4FA5-AD8B-D8B668A4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A2B-1DCD-46F4-999F-CDF0198E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C7B-2F60-4A3E-BFCE-0B196B48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065-1313-4075-AE87-8BE74587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4B0-0323-4FA9-A09C-88EEFA56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F43-1870-4278-96F4-95F181B7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65E-A741-4086-A34C-9B4685B9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813-0130-4A34-8CA9-1877DF37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052A-0096-4856-B64D-04E902AEB79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EC7E-A484-4B65-9DB4-3C50F029059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Do the Arts Reflect History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rts are rich in historical facts, feelings, and attitudes. One simply needs to take a closer loo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Can Music Teach Us About Histor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sic was often the way stories were passed down from generation to generation. Music can tell us stories, or it can convey feelings during certain events in histor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e’ll be Comin’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ound the Mounta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Logan fami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ackground of the So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She’ll Be Comin’ Round the Mountai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as originally an African-American spiritual called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When the Chariot Com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became a popular Appalachian song during the 1800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was also sung by railroad workers as they laid tracks across America in the late 19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centu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ong’s lyrics convey a period in history by suggesting how the pioneers liv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n We First Heard the So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 learned this song from my Pappy, who worked on the railroad. He said it made the work go by faster and seem a little easier. –P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 know this song because Pappy would sing it all the time, then I started using it as a lullaby. –M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 said she sang this song to me when I was just a baby. From then on, she’d sing it to me every night before I went to bed. –An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 heard some farmers singing it one time, but they had changed all the words. –B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the Song Means to 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5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ong is about old friends who haven’t seen each other in a long time getting together. It makes us miss Pappy, who liked to sing it mos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 like to make up silly words to add to it. Yesterday, we added prairie do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makes us feel at home, even though we’re not. Especially the part about the wool pajamas. We hated wearing those itchy things, but it got cold in the win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’s a fun song to sing and makes the time go by fas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8480" y="60948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ng Along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First Ver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056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comin’ round the mountai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n she comes, toot toot.        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comin’ round the mountai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n she comes, toot toot.        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comin’ round the mountain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comin’ round the mountain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comin’ round the mountai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n she comes, toot toot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056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drivin’ six white horse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n she comes. Whoa back!    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drivin’ six white horse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n she comes. Whoa back!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drivin’ six white horses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drivin’ six white horses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drivin’ six white horse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n she comes. Whoa back!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ot toot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1523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Follow the whole song along on your song sh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742680"/>
            <a:ext cx="888516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ng Along with Mo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523880"/>
            <a:ext cx="3581280" cy="643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ere are some additions we wrote to this song.  Please sing along with us!</a:t>
            </a:r>
            <a:br>
              <a:rPr sz="24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e will strike it rich in gold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hen she comes, ching, ching. We will strike it rich in gold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hen she comes, ching, ching. We will strike it rich in gold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e will strike it rich in gold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e will strike it rich in go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hen she comes.  Ching ching. Hi babe… Whoa back!… toot too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1495440"/>
            <a:ext cx="3657600" cy="5436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airie dogs will come out of their burrows when she comes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ho’s there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airie dogs will come out of their burrows when she comes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ho’s there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airie dogs will come out of their burrows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airie dogs will come out of their burrows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airie dogs will come out of their burrows when she comes, Who’s there?… ching ching… Hi babe… Whoa back!… toot too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9T18:39:35Z</dcterms:created>
  <dc:creator>Melissa Lim</dc:creator>
  <dc:description/>
  <dc:language>en-US</dc:language>
  <cp:lastModifiedBy>mjmillhX</cp:lastModifiedBy>
  <dcterms:modified xsi:type="dcterms:W3CDTF">2006-07-12T14:15:45Z</dcterms:modified>
  <cp:revision>35</cp:revision>
  <dc:subject/>
  <dc:title>She’ll be Comin’ Round the Mountain</dc:title>
</cp:coreProperties>
</file>