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C60DE-2EF2-434B-9825-B5A41B158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70AAA541-C7D3-4FC3-AA38-B1DFADFFB6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CA04972C-9E54-45A2-93D0-647252B646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9B1C8A88-97B5-424C-BF77-465EBEF2CA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303C744-AE31-4968-9D1D-75EEC42D86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8F3930-6B1F-494D-9D62-0F03EB4ED7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542B23E-1A3E-4ED1-84C8-AA6BD5CC2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AB31800-21BF-4A72-88F4-7CE7C98C1E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ED5AE28B-5AE6-48A8-A769-743ADA282C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A0E15891-EFB8-4946-B9BC-4CA0DAE6C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5E1054B-D9F2-4E2B-901A-C085B2EBE0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D518E367-14ED-4F24-A30B-B415D98FAB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8808FD7-0D1B-472C-BC04-F38BC51802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DD0F7374-964B-42BD-9D3F-CEC64F8AE3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305E1A66-08D8-4867-AC55-47A407FE19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444AA1AB-FEB8-422F-B69C-8C0712BD1B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6E290CAE-7DD2-467E-935B-97E0ABE71B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057F4677-2077-4F2F-BC03-87819F7BC1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003622E6-5C42-4C7E-A26B-31E512878E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B8BEA14D-515A-406C-B84A-606003307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FC901F5D-8E9C-4728-B865-D90EABCEF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EB46B26-68D1-4609-A025-402FD42390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42EC23E-1217-427D-8EB0-B695E8E1E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29BB688D-D9B1-48BF-975C-7DBA2D486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4B09-B9AA-430B-A2ED-DF44B4450AEF}"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8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D6BC-1DF2-474B-887A-A8446F97036D}"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9"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68"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pic>
        <p:nvPicPr>
          <p:cNvPr id="201" name="" descr=""/>
          <p:cNvPicPr/>
          <p:nvPr/>
        </p:nvPicPr>
        <p:blipFill>
          <a:blip r:embed="rId1"/>
          <a:stretch/>
        </p:blipFill>
        <p:spPr>
          <a:xfrm>
            <a:off x="-609480" y="290520"/>
            <a:ext cx="8443800" cy="5805360"/>
          </a:xfrm>
          <a:prstGeom prst="rect">
            <a:avLst/>
          </a:prstGeom>
          <a:ln w="0">
            <a:noFill/>
          </a:ln>
        </p:spPr>
      </p:pic>
      <p:sp>
        <p:nvSpPr>
          <p:cNvPr id="3" name="PlaceHolder 2"/>
          <p:cNvSpPr>
            <a:spLocks noGrp="1"/>
          </p:cNvSpPr>
          <p:nvPr>
            <p:ph type="sldNum" idx="2"/>
          </p:nvPr>
        </p:nvSpPr>
        <p:spPr/>
        <p:txBody>
          <a:bodyPr/>
          <a:p>
            <a:fld id="{E80A3CA8-679C-4BAA-B7B6-FD47BC8D2A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65480" y="2084400"/>
            <a:ext cx="4500360" cy="2247840"/>
          </a:xfrm>
          <a:prstGeom prst="rect">
            <a:avLst/>
          </a:prstGeom>
          <a:ln w="0">
            <a:noFill/>
          </a:ln>
        </p:spPr>
      </p:pic>
      <p:sp>
        <p:nvSpPr>
          <p:cNvPr id="203"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4DAE5F61-BB79-4366-AF14-3984E5957B7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0"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 </a:t>
            </a:r>
            <a:endParaRPr b="0" lang="en-US" sz="2000" spc="-1" strike="noStrike">
              <a:solidFill>
                <a:srgbClr val="ffffff"/>
              </a:solidFill>
              <a:latin typeface="Verdana"/>
            </a:endParaRPr>
          </a:p>
        </p:txBody>
      </p:sp>
      <p:sp>
        <p:nvSpPr>
          <p:cNvPr id="171"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FD6AA9E8-9592-4EA4-A739-AE7785AD64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599840"/>
            <a:ext cx="8305920" cy="4267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3"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6710B36-AFA8-451D-AEFB-295E242B16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932F28F2-250A-42D9-AD3A-2AF9A0FBD2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77"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8"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 Questions</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EC48B740-45C0-4132-880A-8F22961AE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C31F433-94AB-424D-9158-5230309E96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2" name=""/>
          <p:cNvGrpSpPr/>
          <p:nvPr/>
        </p:nvGrpSpPr>
        <p:grpSpPr>
          <a:xfrm>
            <a:off x="990720" y="2133720"/>
            <a:ext cx="7086600" cy="3614760"/>
            <a:chOff x="990720" y="2133720"/>
            <a:chExt cx="7086600" cy="3614760"/>
          </a:xfrm>
        </p:grpSpPr>
        <p:sp>
          <p:nvSpPr>
            <p:cNvPr id="183"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2e6b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2"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3"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4"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F96310B8-AFB5-4012-A898-39FCA0170A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197"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4157B29F-FDC0-4523-AB75-8DFB4E5C7A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99" name="PlaceHolder 2"/>
          <p:cNvSpPr>
            <a:spLocks noGrp="1"/>
          </p:cNvSpPr>
          <p:nvPr>
            <p:ph/>
          </p:nvPr>
        </p:nvSpPr>
        <p:spPr>
          <a:xfrm>
            <a:off x="456840" y="1722240"/>
            <a:ext cx="8458200" cy="42973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nections can students make to their own live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82472C8-2220-46BD-8198-5986052E2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jeyostx</cp:lastModifiedBy>
  <dcterms:modified xsi:type="dcterms:W3CDTF">2008-10-07T07:10:27Z</dcterms:modified>
  <cp:revision>200</cp:revision>
  <dc:subject/>
  <dc:title>Why Essential Questions?</dc:title>
</cp:coreProperties>
</file>