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ABFC-BBB7-4921-8653-AC2863763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2F67-58F1-4880-88B0-04DB9B011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hidden, but can be accessed, if desired by the button on the previous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FE9C6-3B3C-404E-86CE-D252EEE84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D2C60290-905E-438B-A8E1-D8B32216B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FAE2F664-5CED-4600-84AD-3AAFA4F94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5C4ECB23-A7A3-43DD-81CF-E0605834A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A56528C8-BEE3-4CC3-BDBF-3E4EBD495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2755B0F-2799-4FB2-8E9C-8F70EA3E1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85A4E81-510A-4036-AF7C-23E08FCE7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FD2981F4-3E03-431D-B263-939666C57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FDF8DB02-CA3E-4361-AFD3-BA7171A5E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93D29DF-4DB4-495C-9A3F-DA22739C46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60CF40F-7D56-4BB7-8861-D498DAE71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69A1E05-4562-4524-964C-5B1B1DD8DC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9024-191E-41F9-9FDF-8DBA098B43D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1440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457200" y="6539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utsystem.edu/ogc/intellectualproperty/ccmcguid.htm" TargetMode="External"/><Relationship Id="rId2" Type="http://schemas.openxmlformats.org/officeDocument/2006/relationships/hyperlink" Target="http://www.utsystem.edu/OGC/IntellectualProperty/copypol2.htm" TargetMode="External"/><Relationship Id="rId3" Type="http://schemas.openxmlformats.org/officeDocument/2006/relationships/hyperlink" Target="http://www.copyright.gov/circs/circ1.html" TargetMode="External"/><Relationship Id="rId4" Type="http://schemas.openxmlformats.org/officeDocument/2006/relationships/hyperlink" Target="http://www.benedict.com/" TargetMode="External"/><Relationship Id="rId5" Type="http://schemas.openxmlformats.org/officeDocument/2006/relationships/hyperlink" Target="http://www.utsystem.edu/OGC/IntellectualProperty/faculty.htm"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templetons.com/brad/copymyths.html" TargetMode="External"/><Relationship Id="rId2" Type="http://schemas.openxmlformats.org/officeDocument/2006/relationships/hyperlink" Target="http://www.duhaime.org/diction.htm" TargetMode="External"/><Relationship Id="rId3" Type="http://schemas.openxmlformats.org/officeDocument/2006/relationships/hyperlink" Target="http://www.copyright.cornell.edu/training/Hirtle_Public_Domain.htm" TargetMode="External"/><Relationship Id="rId4" Type="http://schemas.openxmlformats.org/officeDocument/2006/relationships/hyperlink" Target="http://www.utsystem.edu/ogc/intellectualproperty/copypol2.htm#mm&#x0d;"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nc.edu/~unclng/public-d.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opyright Chaos</a:t>
            </a:r>
            <a:endParaRPr b="1" lang="en-US" sz="3600" spc="-1" strike="noStrike">
              <a:solidFill>
                <a:srgbClr val="ffffff"/>
              </a:solidFill>
              <a:latin typeface="Verdana"/>
            </a:endParaRPr>
          </a:p>
        </p:txBody>
      </p:sp>
      <p:sp>
        <p:nvSpPr>
          <p:cNvPr id="91" name="PlaceHolder 3"/>
          <p:cNvSpPr>
            <a:spLocks noGrp="1"/>
          </p:cNvSpPr>
          <p:nvPr>
            <p:ph type="subTitle"/>
          </p:nvPr>
        </p:nvSpPr>
        <p:spPr>
          <a:xfrm>
            <a:off x="2666880" y="3429000"/>
            <a:ext cx="6019920" cy="2666880"/>
          </a:xfrm>
          <a:prstGeom prst="rect">
            <a:avLst/>
          </a:prstGeom>
          <a:noFill/>
          <a:ln w="0">
            <a:noFill/>
          </a:ln>
        </p:spPr>
        <p:txBody>
          <a:bodyPr lIns="0" rIns="0" tIns="0" bIns="0" anchor="t">
            <a:noAutofit/>
          </a:bodyPr>
          <a:p>
            <a:pPr indent="0" algn="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etailed Look at                     an Educator's Guide to Copyright Law and “Fair Use”</a:t>
            </a:r>
            <a:endParaRPr b="0" lang="en-US" sz="3200" spc="-1" strike="noStrike">
              <a:solidFill>
                <a:srgbClr val="ffffff"/>
              </a:solidFill>
              <a:latin typeface="Verdan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ntation created for the</a:t>
            </a: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el</a:t>
            </a:r>
            <a:r>
              <a:rPr b="0" lang="en-US" sz="1200" spc="-1" strike="noStrike" baseline="30000">
                <a:solidFill>
                  <a:srgbClr val="ffffff"/>
                </a:solidFill>
                <a:latin typeface="Verdana"/>
              </a:rPr>
              <a:t>® </a:t>
            </a:r>
            <a:r>
              <a:rPr b="0" lang="en-US" sz="1200" spc="-1" strike="noStrike">
                <a:solidFill>
                  <a:srgbClr val="ffffff"/>
                </a:solidFill>
                <a:latin typeface="Verdana"/>
              </a:rPr>
              <a:t>Teach Program</a:t>
            </a: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ssentials Course</a:t>
            </a:r>
            <a:br>
              <a:rPr sz="1200"/>
            </a:b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 for Educational Multimedia</a:t>
            </a:r>
            <a:br>
              <a:rPr sz="2600"/>
            </a:b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Fair Use Guidelines for Educational Multimedia</a:t>
            </a:r>
            <a:r>
              <a:rPr b="0" lang="en-US" sz="2000" spc="-1" strike="noStrike">
                <a:solidFill>
                  <a:srgbClr val="ffffff"/>
                </a:solidFill>
                <a:latin typeface="Verdana"/>
              </a:rPr>
              <a:t> is not a legal document, but only an interpretation of the Copyright Act of 1976 by CONFU, a group of educational users, and copyright owners. </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though the guidelines have no legal binding, on Sept. 27, 1996,  Subcommittee on Courts and Intellectual Property, Committee on the Judiciary, U. S. House of Representatives issued a non-legislative report acknowledging the guidelines.</a:t>
            </a:r>
            <a:endParaRPr b="0" lang="en-US" sz="2000" spc="-1" strike="noStrike">
              <a:solidFill>
                <a:srgbClr val="ffffff"/>
              </a:solidFill>
              <a:latin typeface="Verdana"/>
            </a:endParaRPr>
          </a:p>
          <a:p>
            <a:pPr lvl="1" marL="246240" indent="-244800">
              <a:spcBef>
                <a:spcPts val="1500"/>
              </a:spcBef>
              <a:spcAft>
                <a:spcPts val="499"/>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Fair Use Guidelines for Educational Multimedia </a:t>
            </a:r>
            <a:r>
              <a:rPr b="0" lang="en-US" sz="2000" spc="-1" strike="noStrike">
                <a:solidFill>
                  <a:srgbClr val="ffffff"/>
                </a:solidFill>
                <a:latin typeface="Verdana"/>
              </a:rPr>
              <a:t>only applies to educators who produce multimedia.</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uidelines for Student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nd educators have separate guideline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ma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rporate portions of lawfully acquired copyrighted works when producing their own educational multimedia projects for a specific course</a:t>
            </a:r>
            <a:r>
              <a:rPr b="0" i="1" lang="en-U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form and display their own projects in the course for which they were created; an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ain them in their own portfolios as examples of their academic work for later personal uses such as job and school interview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ducator Guidelines</a:t>
            </a:r>
            <a:endParaRPr b="1" lang="en-US" sz="26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ducators ma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orporate portions of lawfully acquired copyrighted works when producing educational multimedia projects to support their teaching nee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sent their projects in the following situation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e-to-face instruction</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gned to students for directed self-stud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ote instruction (with limita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ain their projects indefinitely for the following purpos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perform or display in presentations to their peers, for example, at workshops and conferenc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retain in their personal portfolios for personal uses such as promotion or job interviews</a:t>
            </a:r>
            <a:endParaRPr b="0" lang="en-US" sz="16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ducator Guidelines</a:t>
            </a: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ducators may use their projects for teaching, for a period of up to two years after the first instructional use with a class. </a:t>
            </a:r>
            <a:endParaRPr b="0" lang="en-US" sz="2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structional use beyond that time period requires permission for each copyrighted portion incorporated in the production.</a:t>
            </a:r>
            <a:r>
              <a:rPr b="0" lang="en-US" sz="1800" spc="-1" strike="noStrike">
                <a:solidFill>
                  <a:srgbClr val="ffffff"/>
                </a:solidFill>
                <a:latin typeface="Verdana"/>
              </a:rPr>
              <a:t>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imitations on Size/Portions</a:t>
            </a:r>
            <a:br>
              <a:rPr sz="2600"/>
            </a:br>
            <a:r>
              <a:rPr b="1" lang="en-US" sz="2600" spc="-1" strike="noStrike">
                <a:solidFill>
                  <a:srgbClr val="ffffff"/>
                </a:solidFill>
                <a:latin typeface="Verdana"/>
              </a:rPr>
              <a:t>for Both Educators and Student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18"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tion Media</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3 minutes, whichever is less, of a single copyrighted motion media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t Material</a:t>
            </a:r>
            <a:endParaRPr b="0" lang="en-US" sz="1800" spc="-1" strike="noStrike">
              <a:solidFill>
                <a:srgbClr val="ffffff"/>
              </a:solidFill>
              <a:latin typeface="Verdana"/>
            </a:endParaRPr>
          </a:p>
          <a:p>
            <a:pPr lvl="2" marL="571680" indent="-32400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1000 words, whichever is less, of a single copyrighted work of text.</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t Material - Poems</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 entire poem of less than 250 words,</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three poems by one poet,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 five poems by different poets from any single anthology.</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Poems of Greater Length</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250 words,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three excerpts by a single poet,</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 five excerpts by different poets from a single anthology.</a:t>
            </a:r>
            <a:endParaRPr b="0" lang="en-US" sz="16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200" spc="-1" strike="noStrike" baseline="30000">
                <a:solidFill>
                  <a:srgbClr val="ffffff"/>
                </a:solidFill>
                <a:latin typeface="Verdana"/>
              </a:rPr>
              <a:t>1</a:t>
            </a:r>
            <a:r>
              <a:rPr b="0" lang="en-US" sz="1200" spc="-1" strike="noStrike">
                <a:solidFill>
                  <a:srgbClr val="ffffff"/>
                </a:solidFill>
                <a:latin typeface="Verdana"/>
              </a:rPr>
              <a:t>Although all students are to be given instruction on appropriate use, it is understood that students in kindergarten through grade six may not be able to adhere to these limitation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imitations on Size/Portions</a:t>
            </a:r>
            <a:br>
              <a:rPr sz="2600"/>
            </a:br>
            <a:r>
              <a:rPr b="1" lang="en-US" sz="2600" spc="-1" strike="noStrike">
                <a:solidFill>
                  <a:srgbClr val="ffffff"/>
                </a:solidFill>
                <a:latin typeface="Verdana"/>
              </a:rPr>
              <a:t>for Both Educators and Student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20"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sic, Lyrics, and Music Video</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30 seconds of music and lyrics from a single musical work</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y alterations to a musical work shall not change the basic melody or the fundamental character of the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llustrations and Photograph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photograph or illustration may be used in its entirety.</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 more than 5 images by an artist or photographer.</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 more than 10% or 15 images, whichever is less, from a single published collected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erical Data Set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2500 fields or cell entries, whichever is less, from a database or data table.</a:t>
            </a:r>
            <a:endParaRPr b="0" lang="en-US" sz="1600" spc="-1" strike="noStrike">
              <a:solidFill>
                <a:srgbClr val="ffffff"/>
              </a:solidFill>
              <a:latin typeface="Verdana"/>
            </a:endParaRPr>
          </a:p>
          <a:p>
            <a:pPr lvl="2" marL="57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baseline="30000">
                <a:solidFill>
                  <a:srgbClr val="ffffff"/>
                </a:solidFill>
                <a:latin typeface="Verdana"/>
              </a:rPr>
              <a:t>1</a:t>
            </a:r>
            <a:r>
              <a:rPr b="0" lang="en-US" sz="1400" spc="-1" strike="noStrike">
                <a:solidFill>
                  <a:srgbClr val="ffffff"/>
                </a:solidFill>
                <a:latin typeface="Verdana"/>
              </a:rPr>
              <a:t>Although all students are to be given instruction on appropriate use, it is understood that students in kindergarten through grade six may not be able to adhere to these limitation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ing and Distribution Limitations</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ing the original, only a limited number of copies may be made of a projec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use copi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additional copy for preservation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rincipal creator may retain one copy</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ttribution and Acknowledgement</a:t>
            </a:r>
            <a:endParaRPr b="1" lang="en-US" sz="2600" spc="-1" strike="noStrike">
              <a:solidFill>
                <a:srgbClr val="ffffff"/>
              </a:solidFill>
              <a:latin typeface="Verdana"/>
            </a:endParaRPr>
          </a:p>
        </p:txBody>
      </p:sp>
      <p:sp>
        <p:nvSpPr>
          <p:cNvPr id="124"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dit the sources and display the copyright notice © and copyright ownership information for all incorporated works including those prepared under fair use.</a:t>
            </a:r>
            <a:endParaRPr b="0" lang="en-US" sz="18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pyright ownership information includ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the copyright notic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year of first publicat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name of the copyright h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g., © 2001 Company/Person’s Name</a:t>
            </a:r>
            <a:endParaRPr b="0" lang="en-US" sz="16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diting the source:</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ive a full bibliographic description where available (including author, title, publisher, and place and date of publication). </a:t>
            </a:r>
            <a:endParaRPr b="0" lang="en-US" sz="16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credit and copyright notice information may be combined in on a separate page/slide…Except for imag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notice and the name of the creator must be incorporated into the image so that it appears on the screen when the image is viewe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otice of Use Restrictions</a:t>
            </a: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pening screen of a program and any accompanying print material must include a notice th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ertain materials are included under the fair use exemption of the U.S. Copyright Law</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erials are included in accordance with the multimedia fair use guideline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erials are restricted from further us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uture Uses Beyond Fair Use</a:t>
            </a: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there is a possibility that a project could result in broader dissemination [for instance, publication on the Internet]: obtain permissions when you create it, rather than waiting.</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right</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at is copyrigh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t>
            </a:r>
            <a:r>
              <a:rPr b="0" lang="en-US" sz="2600" spc="-1" strike="noStrike">
                <a:solidFill>
                  <a:srgbClr val="ffffff"/>
                </a:solidFill>
                <a:latin typeface="Verdana"/>
              </a:rPr>
              <a:t>The exclusive right to produce or reproduce (copy), to perform in public, or to publish an original literary or artistic work.” </a:t>
            </a:r>
            <a:endParaRPr b="0" lang="en-US" sz="2600" spc="-1" strike="noStrike">
              <a:solidFill>
                <a:srgbClr val="ffffff"/>
              </a:solidFill>
              <a:latin typeface="Verdana"/>
            </a:endParaRPr>
          </a:p>
          <a:p>
            <a:pPr lvl="2" marL="571680" indent="-32400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uhaime's Law Dictionary </a:t>
            </a:r>
            <a:r>
              <a:rPr b="0" lang="en-US" sz="2600" spc="-1" strike="noStrike">
                <a:solidFill>
                  <a:srgbClr val="ffffff"/>
                </a:solidFill>
                <a:latin typeface="Verdana"/>
              </a:rPr>
              <a:t>	</a:t>
            </a:r>
            <a:r>
              <a:rPr b="0" lang="en-US" sz="2600" spc="-1" strike="noStrike">
                <a:solidFill>
                  <a:srgbClr val="ffffff"/>
                </a:solidFill>
                <a:latin typeface="Verdana"/>
              </a:rPr>
              <a:t>	</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most everything created privately and originally after March 1, 1989 is copyrighted and protected whether it has a notice or no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btaining Permission</a:t>
            </a:r>
            <a:endParaRPr b="1" lang="en-US" sz="2600" spc="-1" strike="noStrike">
              <a:solidFill>
                <a:srgbClr val="ffffff"/>
              </a:solidFill>
              <a:latin typeface="Verdana"/>
            </a:endParaRPr>
          </a:p>
        </p:txBody>
      </p:sp>
      <p:sp>
        <p:nvSpPr>
          <p:cNvPr id="13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 permission when you need i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ple permission letters are available on the Curriculum Resource CD</a:t>
            </a:r>
            <a:endParaRPr b="0" lang="en-US" sz="2400" spc="-1" strike="noStrike">
              <a:solidFill>
                <a:srgbClr val="ffffff"/>
              </a:solidFill>
              <a:latin typeface="Verdana"/>
            </a:endParaRPr>
          </a:p>
          <a:p>
            <a:pPr lvl="2" marL="571680" indent="-32400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ources folder, Copyright Resources</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mission letters to copyright owners</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mission letters to parents to publish student work</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xample letter to use in this course</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uidelines</a:t>
            </a: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member... these are guidelines, not law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you feel that any of these guidelines are too restrictive and you want to follow your own “instincts” about what is “fair use,” you are free to do so (within your district guidelines, of cour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realize that the further you venture from these guidelines, the more likely you are to be outside of “fair use.”</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oftware Copyright</a:t>
            </a: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at about softwar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of software does not fall under fair u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ublic or private educational institutions are not exempt from the software copyright law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en you purchase software, you are only purchasing a license to use the software – you don’t own i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ing Software</a:t>
            </a:r>
            <a:endParaRPr b="1" lang="en-US" sz="2600" spc="-1" strike="noStrike">
              <a:solidFill>
                <a:srgbClr val="ffffff"/>
              </a:solidFill>
              <a:latin typeface="Verdana"/>
            </a:endParaRPr>
          </a:p>
        </p:txBody>
      </p:sp>
      <p:sp>
        <p:nvSpPr>
          <p:cNvPr id="13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 can make copies for my own use…right?</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Times New Roman"/>
              </a:rPr>
              <a:t>Anyone who purchases a license for a single copy of software has the right to load it onto a single computer and to make another copy "for archival purposes only."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Times New Roman"/>
              </a:rPr>
              <a:t>Any other use than “archival” must be approved by the copyright owne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oading and Downloading Software</a:t>
            </a: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less you have specific permission from the copyright owner…</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illegal t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rchase a single user license and load it onto multiple computers or a server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wnload copyrighted software from the Internet or bulletin board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ad the software your school purchased onto your computer at hom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hareware</a:t>
            </a:r>
            <a:endParaRPr b="1" lang="en-US" sz="2600" spc="-1" strike="noStrike">
              <a:solidFill>
                <a:srgbClr val="ffffff"/>
              </a:solidFill>
              <a:latin typeface="Verdana"/>
            </a:endParaRPr>
          </a:p>
        </p:txBody>
      </p:sp>
      <p:sp>
        <p:nvSpPr>
          <p:cNvPr id="14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bout sharewar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eware is software that is passed out freely for evaluation purposes onl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are allowed to try it out before you pay for it.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ion time is usually 30 day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you wish to keep the software program, then you must pay to keep your evaluation cop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eware is often fairly inexpensiv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reeware</a:t>
            </a: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eeware is also covered by copyright laws and subject to the conditions defined by the holder of the copyright.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distribute freeware, but not make any money on i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modify and build other software programs based on the freeware, but those “new” programs cannot be sold for prof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ublic Domain Software</a:t>
            </a: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ly Public Domain Software is Truly “Fre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pyright rights have been relinquished.</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are no distribution restriction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modify the original software and build new softwar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sell your modified software.</a:t>
            </a:r>
            <a:endParaRPr b="0" lang="en-US" sz="24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46"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itional resources to help you and your students understand and follow copyright law and fair use guidelines are located in the </a:t>
            </a:r>
            <a:r>
              <a:rPr b="0" i="1" lang="en-US" sz="1600" spc="-1" strike="noStrike">
                <a:solidFill>
                  <a:srgbClr val="ffffff"/>
                </a:solidFill>
                <a:latin typeface="Verdana"/>
              </a:rPr>
              <a:t>Resources, Copyright Resources</a:t>
            </a:r>
            <a:r>
              <a:rPr b="0" lang="en-US" sz="1600" spc="-1" strike="noStrike">
                <a:solidFill>
                  <a:srgbClr val="ffffff"/>
                </a:solidFill>
                <a:latin typeface="Verdana"/>
              </a:rPr>
              <a:t> folder on the Curriculum Resource CD.</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Guidelines For Educational Multimedia” </a:t>
            </a:r>
            <a:br>
              <a:rPr sz="1600"/>
            </a:br>
            <a:r>
              <a:rPr b="0" lang="en-US" sz="1600" spc="-1" strike="noStrike">
                <a:solidFill>
                  <a:srgbClr val="ffffff"/>
                </a:solidFill>
                <a:latin typeface="Verdana"/>
              </a:rPr>
              <a:t>Prepared by the Educational Multimedia Fair Use Guidelines Development Committee, July 17, 1996 </a:t>
            </a:r>
            <a:r>
              <a:rPr b="0" lang="en-US" sz="1600" spc="-1" strike="noStrike" u="sng">
                <a:solidFill>
                  <a:srgbClr val="f5e647"/>
                </a:solidFill>
                <a:uFillTx/>
                <a:latin typeface="Verdana"/>
                <a:hlinkClick r:id="rId1"/>
              </a:rPr>
              <a:t>www.utsystem.edu/ogc/intellectualproperty/ccmcguid.htm</a:t>
            </a:r>
            <a:r>
              <a:rPr b="0" lang="en-US" sz="1600" spc="-1" strike="noStrike" u="sng">
                <a:solidFill>
                  <a:srgbClr val="ffffff"/>
                </a:solidFill>
                <a:uFillTx/>
                <a:latin typeface="Verdana"/>
              </a:rPr>
              <a:t>  </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Of Copyrighted Materials” by Georgia Harper, </a:t>
            </a:r>
            <a:br>
              <a:rPr sz="1600"/>
            </a:br>
            <a:r>
              <a:rPr b="0" lang="en-US" sz="1600" spc="-1" strike="noStrike">
                <a:solidFill>
                  <a:srgbClr val="ffffff"/>
                </a:solidFill>
                <a:latin typeface="Verdana"/>
              </a:rPr>
              <a:t>University of Texas </a:t>
            </a:r>
            <a:r>
              <a:rPr b="0" lang="en-US" sz="1600" spc="-1" strike="noStrike" u="sng">
                <a:solidFill>
                  <a:srgbClr val="f5e647"/>
                </a:solidFill>
                <a:uFillTx/>
                <a:latin typeface="Verdana"/>
                <a:hlinkClick r:id="rId2"/>
              </a:rPr>
              <a:t>www.utsystem.edu/OGC/IntellectualProperty/copypol2.htm</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Copyright Basics” by the U.S. Copyright Office </a:t>
            </a:r>
            <a:r>
              <a:rPr b="0" lang="en-US" sz="1600" spc="-1" strike="noStrike" u="sng">
                <a:solidFill>
                  <a:srgbClr val="f5e647"/>
                </a:solidFill>
                <a:uFillTx/>
                <a:latin typeface="Verdana"/>
                <a:hlinkClick r:id="rId3"/>
              </a:rPr>
              <a:t>www.copyright.gov/circs/circ1.html</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Copyright Website” by Benedict O’Mahoney </a:t>
            </a:r>
            <a:r>
              <a:rPr b="0" lang="en-US" sz="1600" spc="-1" strike="noStrike" u="sng">
                <a:solidFill>
                  <a:srgbClr val="f5e647"/>
                </a:solidFill>
                <a:uFillTx/>
                <a:latin typeface="Verdana"/>
                <a:hlinkClick r:id="rId4"/>
              </a:rPr>
              <a:t>www.benedict.com</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Copyright Law in the Electronic Environment” by Georgia Harper, University of Texas </a:t>
            </a:r>
            <a:r>
              <a:rPr b="0" lang="en-US" sz="1600" spc="-1" strike="noStrike" u="sng">
                <a:solidFill>
                  <a:srgbClr val="f5e647"/>
                </a:solidFill>
                <a:uFillTx/>
                <a:latin typeface="Verdana"/>
                <a:hlinkClick r:id="rId5"/>
              </a:rPr>
              <a:t>www.utsystem.edu/OGC/IntellectualProperty/faculty.htm</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10 Big Myths about Copyright Explained” by Brad Templeton </a:t>
            </a:r>
            <a:r>
              <a:rPr b="0" lang="en-US" sz="1800" spc="-1" strike="noStrike" u="sng">
                <a:solidFill>
                  <a:srgbClr val="f5e647"/>
                </a:solidFill>
                <a:uFillTx/>
                <a:latin typeface="Verdana"/>
                <a:hlinkClick r:id="rId1"/>
              </a:rPr>
              <a:t>www.templetons.com/brad/copymyths.html</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Duhaime's Legal Dictionary” by Lloyd Duhaime </a:t>
            </a:r>
            <a:r>
              <a:rPr b="0" lang="en-US" sz="1800" spc="-1" strike="noStrike" u="sng">
                <a:solidFill>
                  <a:srgbClr val="f5e647"/>
                </a:solidFill>
                <a:uFillTx/>
                <a:latin typeface="Verdana"/>
                <a:hlinkClick r:id="rId2"/>
              </a:rPr>
              <a:t>www.duhaime.org/diction.htm</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Copyright Term and the Public Domain in the United States” by Peter B. Hirtle, Cornell Institute for Digital Collection</a:t>
            </a:r>
            <a:r>
              <a:rPr b="0" lang="en-US" sz="2000" spc="-1" strike="noStrike">
                <a:solidFill>
                  <a:srgbClr val="ffffff"/>
                </a:solidFill>
                <a:latin typeface="Verdana"/>
              </a:rPr>
              <a:t> </a:t>
            </a:r>
            <a:r>
              <a:rPr b="0" lang="en-US" sz="2000" spc="-1" strike="noStrike" u="sng">
                <a:solidFill>
                  <a:srgbClr val="f5e647"/>
                </a:solidFill>
                <a:uFillTx/>
                <a:latin typeface="Verdana"/>
                <a:hlinkClick r:id="rId3"/>
              </a:rPr>
              <a:t>www.copyright.cornell.edu/training/Hirtle_Public_Domain.htm</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sz="1800" spc="-1" strike="noStrike">
                <a:solidFill>
                  <a:srgbClr val="ffffff"/>
                </a:solidFill>
                <a:latin typeface="Verdana"/>
              </a:rPr>
              <a:t>Rules Of Thumb For Digitizing And Using Others' Works In Multimedia Materials For Educational Purposes</a:t>
            </a:r>
            <a:r>
              <a:rPr b="0" lang="en-US" sz="1800" spc="-1" strike="noStrike">
                <a:solidFill>
                  <a:srgbClr val="ffffff"/>
                </a:solidFill>
                <a:latin typeface="Verdana"/>
              </a:rPr>
              <a:t>” by Georgia Harper, University of Texas </a:t>
            </a:r>
            <a:r>
              <a:rPr b="0" lang="en-US" sz="1800" spc="-1" strike="noStrike" u="sng">
                <a:solidFill>
                  <a:srgbClr val="f5e647"/>
                </a:solidFill>
                <a:uFillTx/>
                <a:latin typeface="Verdana"/>
                <a:hlinkClick r:id="rId4"/>
              </a:rPr>
              <a:t>www.utsystem.edu/ogc/intellectualproperty/copypol2.htm#mm</a:t>
            </a:r>
            <a:endParaRPr b="0" lang="en-US" sz="1800" spc="-1" strike="noStrike">
              <a:solidFill>
                <a:srgbClr val="ffffff"/>
              </a:solidFill>
              <a:latin typeface="Verdana"/>
            </a:endParaRPr>
          </a:p>
          <a:p>
            <a:pPr lvl="1" marL="2462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uration of Copyright</a:t>
            </a:r>
            <a:endParaRPr b="1" lang="en-US" sz="2600" spc="-1" strike="noStrike">
              <a:solidFill>
                <a:srgbClr val="ffffff"/>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 long does copyright last?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ything created after January 1, 1978 is ordinarily given a term enduring for the author's life plus an additional 70 years after the author's death.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r works made for hire (e.g., copyright held by companies), the duration of copyright will be 95 years from publication or 120 years from creation, whichever is shorte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96" name="">
            <a:hlinkClick r:id="rId1" action="ppaction://hlinksldjump"/>
          </p:cNvPr>
          <p:cNvSpPr/>
          <p:nvPr/>
        </p:nvSpPr>
        <p:spPr>
          <a:xfrm>
            <a:off x="6553080" y="5257800"/>
            <a:ext cx="1752840" cy="457200"/>
          </a:xfrm>
          <a:prstGeom prst="roundRect">
            <a:avLst>
              <a:gd name="adj" fmla="val 16667"/>
            </a:avLst>
          </a:prstGeom>
          <a:solidFill>
            <a:srgbClr val="aa014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ck for Detail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3505320"/>
          </a:xfrm>
          <a:prstGeom prst="rect">
            <a:avLst/>
          </a:prstGeom>
          <a:noFill/>
          <a:ln w="0">
            <a:noFill/>
          </a:ln>
        </p:spPr>
        <p:txBody>
          <a:bodyPr lIns="0" rIns="0" tIns="0" bIns="0" anchor="t">
            <a:normAutofit/>
          </a:bodyPr>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sz="1600" spc="-1" strike="noStrike">
                <a:solidFill>
                  <a:srgbClr val="ffffff"/>
                </a:solidFill>
                <a:latin typeface="Verdana"/>
              </a:rPr>
              <a:t>Rules Of Thumb For Coursepacks</a:t>
            </a:r>
            <a:r>
              <a:rPr b="0" lang="en-US" sz="1600" spc="-1" strike="noStrike">
                <a:solidFill>
                  <a:srgbClr val="ffffff"/>
                </a:solidFill>
                <a:latin typeface="Verdana"/>
              </a:rPr>
              <a:t>”</a:t>
            </a:r>
            <a:r>
              <a:rPr b="0" sz="1600" spc="-1" strike="noStrike">
                <a:solidFill>
                  <a:srgbClr val="ffffff"/>
                </a:solidFill>
                <a:latin typeface="Verdana"/>
              </a:rPr>
              <a:t> </a:t>
            </a:r>
            <a:r>
              <a:rPr b="0" lang="en-US" sz="1600" spc="-1" strike="noStrike">
                <a:solidFill>
                  <a:srgbClr val="ffffff"/>
                </a:solidFill>
                <a:latin typeface="Verdana"/>
              </a:rPr>
              <a:t>by Georgia Harper, University of Texas www.utsystem.edu/ogc/intellectualproperty/copypol2.htm#course</a:t>
            </a:r>
            <a:endParaRPr b="0" lang="en-US" sz="1600" spc="-1" strike="noStrike">
              <a:solidFill>
                <a:srgbClr val="ffffff"/>
              </a:solidFill>
              <a:latin typeface="Verdana"/>
            </a:endParaRPr>
          </a:p>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A Proposal For Educational Fair Use Guidelines For Digital Images” by Georgia Harper, University of Texas www.utsystem.edu/OGC/IntellectualProperty/imagguid.htm</a:t>
            </a:r>
            <a:endParaRPr b="0" lang="en-US" sz="1600" spc="-1" strike="noStrike">
              <a:solidFill>
                <a:srgbClr val="ffffff"/>
              </a:solidFill>
              <a:latin typeface="Verdana"/>
            </a:endParaRPr>
          </a:p>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ist of Links to Other Copyright Sites by Georgia Harper, University of Texas www.utsystem.edu/OGC/IntellectualProperty/offsite.htm</a:t>
            </a:r>
            <a:endParaRPr b="0" lang="en-US" sz="16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Guidelines for Multimedia” by Intel</a:t>
            </a:r>
            <a:r>
              <a:rPr b="0" lang="en-US" sz="1600" spc="-1" strike="noStrike" baseline="30000">
                <a:solidFill>
                  <a:srgbClr val="ffffff"/>
                </a:solidFill>
                <a:latin typeface="Verdana"/>
              </a:rPr>
              <a:t>®</a:t>
            </a:r>
            <a:r>
              <a:rPr b="0" lang="en-US" sz="1600" spc="-1" strike="noStrike">
                <a:solidFill>
                  <a:srgbClr val="ffffff"/>
                </a:solidFill>
                <a:latin typeface="Verdana"/>
              </a:rPr>
              <a:t> Education www.intel.com/education/newtotech/fair_use_multimedia.htm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formation on Software Copyright</a:t>
            </a: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ct Sheet on School Software Use” </a:t>
            </a:r>
            <a:r>
              <a:rPr b="0" lang="en-US" sz="1600" spc="-1" strike="noStrike">
                <a:solidFill>
                  <a:srgbClr val="ffffff"/>
                </a:solidFill>
                <a:latin typeface="Verdana"/>
                <a:ea typeface="Times New Roman"/>
              </a:rPr>
              <a:t>by Software &amp; Information Industry Association (SIIA) </a:t>
            </a:r>
            <a:r>
              <a:rPr b="0" lang="en-US" sz="1600" spc="-1" strike="noStrike" u="sng">
                <a:solidFill>
                  <a:srgbClr val="ffffff"/>
                </a:solidFill>
                <a:uFillTx/>
                <a:latin typeface="Verdana"/>
              </a:rPr>
              <a:t>www.siia.net/piracy/pubs/SchoolSoftwareUse.pdf</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Digital Anarchy: Part One of an Analysis of Software Piracy” </a:t>
            </a:r>
            <a:r>
              <a:rPr b="0" lang="en-US" sz="1600" spc="-1" strike="noStrike">
                <a:solidFill>
                  <a:srgbClr val="ffffff"/>
                </a:solidFill>
                <a:latin typeface="Verdana"/>
                <a:ea typeface="Times New Roman"/>
              </a:rPr>
              <a:t>by David Laprad </a:t>
            </a:r>
            <a:r>
              <a:rPr b="0" lang="en-US" sz="1600" spc="-1" strike="noStrike">
                <a:solidFill>
                  <a:srgbClr val="ffffff"/>
                </a:solidFill>
                <a:latin typeface="Verdana"/>
              </a:rPr>
              <a:t>www.avault.com/articles/getarticle.asp?name=warez1&amp;page=1  </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Federation Against Software Theft (FAST)” (United Kingdom organization) www.fast.org.uk</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Anti-Piracy FAQ” by Software &amp; Information Industry Association (SIIA) </a:t>
            </a:r>
            <a:r>
              <a:rPr b="0" lang="en-US" sz="1600" spc="-1" strike="noStrike" u="sng">
                <a:solidFill>
                  <a:srgbClr val="ffffff"/>
                </a:solidFill>
                <a:uFillTx/>
                <a:latin typeface="Verdana"/>
              </a:rPr>
              <a:t>www.siia.net/piracy/faq.asp </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Permissible Copying of Software” by Georgia Harper, University of Texas </a:t>
            </a:r>
            <a:r>
              <a:rPr b="0" lang="en-US" sz="1600" spc="-1" strike="noStrike" u="sng">
                <a:solidFill>
                  <a:srgbClr val="0000ff"/>
                </a:solidFill>
                <a:uFillTx/>
                <a:latin typeface="Verdana"/>
              </a:rPr>
              <a:t>www.utsystem.edu/OGC/IntellectualProperty/mono2.htm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Use of this Presentation</a:t>
            </a: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presentation is copyrighted by Intel.</a:t>
            </a:r>
            <a:endParaRPr b="0" lang="en-US" sz="26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 may be used, with copyright notices intact, for not-for-profit, educational purpose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17600" y="1908000"/>
            <a:ext cx="4953240" cy="2475000"/>
          </a:xfrm>
          <a:prstGeom prst="rect">
            <a:avLst/>
          </a:prstGeom>
          <a:ln w="0">
            <a:noFill/>
          </a:ln>
        </p:spPr>
      </p:pic>
      <p:sp>
        <p:nvSpPr>
          <p:cNvPr id="156" name=""/>
          <p:cNvSpPr/>
          <p:nvPr/>
        </p:nvSpPr>
        <p:spPr>
          <a:xfrm>
            <a:off x="457200" y="6539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graphicFrame>
        <p:nvGraphicFramePr>
          <p:cNvPr id="97" name=""/>
          <p:cNvGraphicFramePr/>
          <p:nvPr/>
        </p:nvGraphicFramePr>
        <p:xfrm>
          <a:off x="476280" y="1206360"/>
          <a:ext cx="7772400" cy="4584960"/>
        </p:xfrm>
        <a:graphic>
          <a:graphicData uri="http://schemas.openxmlformats.org/drawingml/2006/table">
            <a:tbl>
              <a:tblPr/>
              <a:tblGrid>
                <a:gridCol w="1595520"/>
                <a:gridCol w="2817720"/>
                <a:gridCol w="33591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Publishe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Condi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Public Domain Statu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fore 19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out a copyright noti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7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rch 1, 198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out copyright notice, and no subsequent registra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6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 but not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85% of copyrights were not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6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 and was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95 years after publication 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64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95 years after publication 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fte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rch 1, 198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ne (no copyright notice needs to appea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70 years after death of author; or if work of corporate authorship, either 95 years from publication or 120 years from creation, whichever is shor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uration of Copyright</a:t>
            </a:r>
            <a:endParaRPr b="1" lang="en-US" sz="26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tems Not Copyrighted</a:t>
            </a:r>
            <a:endParaRPr b="1" lang="en-US" sz="2600" spc="-1" strike="noStrike">
              <a:solidFill>
                <a:srgbClr val="ffffff"/>
              </a:solidFill>
              <a:latin typeface="Verdana"/>
            </a:endParaRPr>
          </a:p>
        </p:txBody>
      </p:sp>
      <p:sp>
        <p:nvSpPr>
          <p:cNvPr id="10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not copyrighted?</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s that have not been fixed in a tangible form of expression (have not been written or recorde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as, procedures, methods, systems, processes, concepts, principles, discoveries, or devices, as distinguished from a description, explanation, or illustrat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s consisting entirely of information that is common property and containing no original authorship (for example: standard calendars, height and weight charts, tape measures and rulers, etc.)</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gical, comprehensive compilations (such as the telephone boo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terials or reprints of materials in the public domain (all prior to 1923; most between 1923-1963; additional information at </a:t>
            </a:r>
            <a:r>
              <a:rPr b="0" lang="en-US" sz="1600" spc="-1" strike="noStrike" u="sng">
                <a:solidFill>
                  <a:srgbClr val="f5e647"/>
                </a:solidFill>
                <a:uFillTx/>
                <a:latin typeface="Verdana"/>
                <a:hlinkClick r:id="rId1"/>
              </a:rPr>
              <a:t>www.unc.edu/~unclng/public-d.htm</a:t>
            </a:r>
            <a:r>
              <a:rPr b="0" lang="en-US" sz="1600" spc="-1" strike="noStrike" u="sng">
                <a:solidFill>
                  <a:srgbClr val="ffffff"/>
                </a:solidFill>
                <a:uFillTx/>
                <a:latin typeface="Verdana"/>
              </a:rPr>
              <a:t>)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U.S. government materials (some items created by contractors for the government might be copyrighte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ts</a:t>
            </a:r>
            <a:endParaRPr b="0" lang="en-US" sz="16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Clause</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ducators get a break with a “fair use" clau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 107 of the Fair Use Provision of the Copyright Act state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Limitations on exclusive right: Fair use. Notwithstanding the provisions of sections 106 and 106A, the fair use of a copyrighted work, including such use by reproduction in copies or phonorecords or by any other means specified by that section, for purposes such as criticism, comment, news reporting, teaching (including multiple copies for classroom use), scholarship, or research, is not an infringement of copyr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ur Factors Help Determine Fair Use</a:t>
            </a:r>
            <a:endParaRPr b="1" lang="en-US" sz="2600" spc="-1" strike="noStrike">
              <a:solidFill>
                <a:srgbClr val="ffffff"/>
              </a:solidFill>
              <a:latin typeface="Verdana"/>
            </a:endParaRPr>
          </a:p>
        </p:txBody>
      </p:sp>
      <p:sp>
        <p:nvSpPr>
          <p:cNvPr id="104"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purpose and character of the use, including whether such use is of a commercial nature or is for nonprofit educational purposes</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You must be using it for educational use, not just using it in a school environment</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nature of the copyrighted work </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ir use applies more narrowly to highly creative works—in comparison to those that are mostly fact-based in nature</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amount and substantiality of the portion used in relation to the copyrighted work as a whole</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ation of quantity &amp; quality...using only what is </a:t>
            </a:r>
            <a:r>
              <a:rPr b="0" i="1" lang="en-US" sz="1400" spc="-1" strike="noStrike">
                <a:solidFill>
                  <a:srgbClr val="ffffff"/>
                </a:solidFill>
                <a:latin typeface="Verdana"/>
              </a:rPr>
              <a:t>necessary</a:t>
            </a:r>
            <a:r>
              <a:rPr b="0" lang="en-US" sz="1400" spc="-1" strike="noStrike">
                <a:solidFill>
                  <a:srgbClr val="ffffff"/>
                </a:solidFill>
                <a:latin typeface="Verdana"/>
              </a:rPr>
              <a:t> and not the  “heart” of the work</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effect of the use upon the potential market for or value of the copyrighted work</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copying should not harm the market for the original work</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pying materials from “consumables,” such as workbooks, weigh heavily against fair use </a:t>
            </a:r>
            <a:endParaRPr b="0" lang="en-US" sz="1400" spc="-1" strike="noStrike">
              <a:solidFill>
                <a:srgbClr val="ffffff"/>
              </a:solidFill>
              <a:latin typeface="Verdana"/>
            </a:endParaRPr>
          </a:p>
          <a:p>
            <a:pPr lvl="2"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 it would seem that it’s “fair use” if…</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pying is for educational u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riginal material is mainly facts and lacks originalit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use portions to make your point, not whole sections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re not taking potential sales away from the original</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e not providing copies just so your school doesn’t have to pay for the books (or original source material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following fair use is not as easy as you might think.</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etween 1992-1994, a group of publishers and educators gathered to agree to more specific guidelines so educators won’t be sued for copyright infringement when they were thinking their copying was “fair u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result was the creation of </a:t>
            </a:r>
            <a:r>
              <a:rPr b="0" i="1" lang="en-US" sz="2600" spc="-1" strike="noStrike">
                <a:solidFill>
                  <a:srgbClr val="ffffff"/>
                </a:solidFill>
                <a:latin typeface="Verdana"/>
              </a:rPr>
              <a:t>Fair Use Guidelines for Educational Multimedia</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eyostx</cp:lastModifiedBy>
  <dcterms:modified xsi:type="dcterms:W3CDTF">2008-10-07T07:52:27Z</dcterms:modified>
  <cp:revision>287</cp:revision>
  <dc:subject/>
  <dc:title>Copyright Chaos</dc:title>
</cp:coreProperties>
</file>