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3001-DE60-4D2A-BA70-EA07A487F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134D-23F0-438F-902D-C1D14827C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0CBF-0DA0-499E-96FC-E47A8B8EE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491C-176E-4472-90E4-CB6376DB9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CFD1-A8CE-4A11-9FF8-3DAF60DC9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FBFF-D547-4874-A9F1-A9509BBB9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53EA-5785-461C-9E23-0F9F811BF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C50B-26E5-4748-B1A4-134C85468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679D-06D5-4115-9BF7-B3B0C3F40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AB5D-5BD6-486F-86DF-DFD78C547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D1BE-E7F3-4313-B715-E1E6BB9D0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886B-BF52-4697-95A7-18105FCD9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A699-86F7-4A60-874E-653F9FB4D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8BE4-791B-4E03-84DC-6E2016192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06B0-7B5B-490D-A650-496D4863EF8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39960" y="63723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6539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benedict.com/" TargetMode="External"/><Relationship Id="rId4" Type="http://schemas.openxmlformats.org/officeDocument/2006/relationships/hyperlink" Target="http://www.utsystem.edu/OGC/IntellectualProperty/faculty.htm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hyperlink" Target="http://www.utsystem.edu/OGC/IntellectualProperty/offsite.htm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fast.org.uk/" TargetMode="External"/><Relationship Id="rId2" Type="http://schemas.openxmlformats.org/officeDocument/2006/relationships/hyperlink" Target="http://www.utsystem.edu/OGC/IntellectualProperty/mono2.htm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pyright Chao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2666880" y="3429000"/>
            <a:ext cx="60199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ducator's Guide to Copyright Law and “Fair Use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esentation created for t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ttribution and Acknowledgemen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 your sources and display the copyright noti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and copyright ownership inform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ing the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a full bibliographic description with the information that is available (including author, title, publisher, and place and date of publication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play copyright noti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 pictures, add the copyright ownership informati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© (the copyright noti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ear of first publ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me of the copyright hol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420F-4E0D-4A63-94CB-5D42C12FAD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uture Uses Beyond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f there is a possibility that a project could result in broader dissemination (for instance, publication on the Internet): obtain permissions when you create it, rather than wait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ple permission letters are available on the Curriculum Resource C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,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Copyrigh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copyright ow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parents to publish studen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example letter to use in this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A8A8-06E5-481A-86F2-6E4A7E841E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member... these are guidelines, not law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the further you venture from these guidelines, the more likely you are to be outside of “fair use.”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10C4-9C10-4CD1-B954-F3579FC588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hat about softwa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of software does not fall under fair us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less you have specific permission from the copyright own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 is illegal t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rchase a single user license and load it onto multiple computers or a serv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wnload copyrighted software from the Internet or bulletin bo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ad the software your school purchased onto your computer at h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6378-8086-45D7-BD10-8A7AFB48B9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1366-185E-4F6D-815B-C9DBED2224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5232-21C1-42C1-9E3B-8DECE44AFD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6F92-B075-4525-9D61-F113F04ED8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mono2.htm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2B37-D532-401F-AC12-F450629E05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se of this Pres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presentation is copyrighted by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t may be used, with copyright notices intact, for not-for-profit, educational purpo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62C8-BCC1-45D5-9171-B834F6B286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6539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DE0B-ED4C-4D8D-AA73-D11157060C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hat is copyright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exclusive right to produce or reproduce (copy), to perform in public, or to publish an original literary or artistic work.”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uhaime's Law Dictionary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lmost everything created privately and originally after March 1, 1989 is copyrighted and protected whether it has a notice or no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6BC2-80C0-45EC-B76C-18A0183746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tems Not Copyrighted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 of what are not protected by copyright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that have not been written or recor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as, procedures, methods, discoveries, etc. as distinguished from a description, explanation, or illus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consisting entirely of common information or compilations (for example: standard calendars, tape measures and rulers, telephone book, etc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ems in the public domain (all works created before 1923 and most between 1923-1963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U.S. government materials (some items created by contractors for the government might be copyrighte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429F-4264-41B6-80A0-1048951ECD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Cla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ir use is a part of the United States Copyright law. It allows people to use and make copies of copyrighted works if they are using them fo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s repor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olars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ec. 107 of the Fair Use Provision of the Copyright Ac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7D76-405D-4C2B-B93E-B83A2579DF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ur Factors Help Determine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purpose and character of the use, including whether such use is of a commercial nature or is for nonprofit educational purpos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 must be using it for educational use, not just using it in a school environ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nature of the copyrighted work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ir use applies more narrowly to highly creative works—in comparison to those that are mostly fact-based in na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amount and substantiality of the portion used in relation to the copyrighted work as a who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ideration of quantity &amp; quality...using only what is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necessa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and not the  “heart” of the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effect of the use upon the potential market for or value of the copyrighted 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copying should not harm the market for the original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pying materials from “consumables,” such as workbooks, weigh heavily against fair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9955-1A9F-42AF-87FE-A11D4C4D88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Fair Use Guidelines for Educational Multimedi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was created to provide guidance on what actually falls within fair 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it i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t a legal docu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n interpretation of the la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pplies to educators who produce multimed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C430-6484-453A-A2DC-8C05147C30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for Student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and educators have separate guidelin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their own educational multimedia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a specific course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form and display their own projects in the cours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which they were created; 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m in their own portfolio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s examples of their academic work for later personal uses such as job and school interview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2888-F091-4949-A1F1-C8D870C5E3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ducator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ducator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educational multimedia projects t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 their teaching nee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ir projects indefinite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the following purpos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perform or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splay in presentations to their peer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for example, at workshops and confere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tain in their personal portfolio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 personal uses such as promotion or job interview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ir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teaching, for a period of up to two year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fter the first instructional use with a clas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structional use beyond that time period requires permission for each copyrighted portion incorporated in the productio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6F6D-C123-4B0F-8E40-0E3027B992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In Order to Stay Within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5760" y="1371600"/>
          <a:ext cx="8237520" cy="4343040"/>
        </p:xfrm>
        <a:graphic>
          <a:graphicData uri="http://schemas.openxmlformats.org/drawingml/2006/table">
            <a:tbl>
              <a:tblPr/>
              <a:tblGrid>
                <a:gridCol w="2947320"/>
                <a:gridCol w="5290200"/>
              </a:tblGrid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 minu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1000 wor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t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words; no more than 3 poems by same author; no more than five poems from any single an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, Lyrics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0 seco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otos &amp; Illustr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es from one author; Not more than 10% or 15 images from a single published collected 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erical Data S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f 2500 fields or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457200" y="914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the copyrighted work, us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mallest amoun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CF85-430B-4AA8-899F-6B2D0B8F99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jeyostx</cp:lastModifiedBy>
  <dcterms:modified xsi:type="dcterms:W3CDTF">2008-10-07T07:48:08Z</dcterms:modified>
  <cp:revision>290</cp:revision>
  <dc:subject/>
  <dc:title>Copyright Chaos</dc:title>
</cp:coreProperties>
</file>