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BF5-3031-45EC-B159-F9B78768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F53-54DA-4A74-A686-CC43CCA6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82F-8D9B-430D-B92A-748D8343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088-DC6A-49E8-ABFF-9A5CBA34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043-6A3C-44B0-9F6E-2457F490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73A-23DA-4161-A485-1FE4D704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13F-14DC-4D6B-A401-9FE31A3A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2A9-03D5-4BC3-8711-5A4B39A9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C2C-389D-4541-B802-6AFE75F0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BA9-F65B-4591-9B10-789DA3AB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080-A862-46E5-9D56-F73D28C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10F-2AE9-4774-9923-D983E410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09FB-3678-422D-A837-0F66DC3EC7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"/>
              </a:rPr>
              <a:t>Classifying Fairy Tale Events as Fantasy or Re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ff"/>
                </a:solidFill>
                <a:latin typeface="Arial"/>
              </a:rPr>
              <a:t>Differences Between Fantasy and Re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sentence tells about an event that could happen in real lif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drillon held a fat lizard in her h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zard opened his mouth and spoke to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33412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What is the reasoning for the choice you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drillon Is a Mix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s that could never happen in real life make fairy tales lots of fun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s that are realistic help us relate to the characters in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>
            <a:off x="0" y="36576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path" presetID="4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1042 -0.13055 L 0.12639 -0.22106 C 0.15087 -0.24143 0.18715 -0.25277 0.22517 -0.25277 C 0.2684 -0.25277 0.30295 -0.24143 0.32743 -0.22106 L 0.44375 -0.13055 E">
                                      <p:cBhvr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ff"/>
                </a:solidFill>
                <a:latin typeface="Arial"/>
              </a:rPr>
              <a:t>Help Me Decide Events in </a:t>
            </a:r>
            <a:r>
              <a:rPr b="0" i="1" lang="en-US" sz="4000" spc="-1" strike="noStrike">
                <a:solidFill>
                  <a:srgbClr val="6699ff"/>
                </a:solidFill>
                <a:latin typeface="Arial"/>
              </a:rPr>
              <a:t>Cendrill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/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004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tasy or Re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981080"/>
            <a:ext cx="30481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360" y="25300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ff"/>
                </a:solidFill>
                <a:latin typeface="Arial"/>
              </a:rPr>
              <a:t>Think about how fantasy and realism are used in the next Cinderella      fairy tale you read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3:58:39Z</dcterms:created>
  <dc:creator> </dc:creator>
  <dc:description/>
  <dc:language>en-US</dc:language>
  <cp:lastModifiedBy> </cp:lastModifiedBy>
  <dcterms:modified xsi:type="dcterms:W3CDTF">2004-12-11T00:28:41Z</dcterms:modified>
  <cp:revision>5</cp:revision>
  <dc:subject/>
  <dc:title>Classifying Fairy Tale Events as Fantasy or Realism</dc:title>
</cp:coreProperties>
</file>