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7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CDBB-3F54-4278-AB46-ED2FD075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177-F496-4B7F-B283-29B4F91A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9EE-B695-4E0A-98A1-48668B74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398-D1FD-4112-87C4-DDCC4D88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3FC-1E68-4F44-A241-0935C6BB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14E-1A16-4124-984F-87EEC311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366-CE07-45A3-8040-F0B10CFD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6741-0C27-4BE8-A5BE-548C1009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0E1-6365-4C4D-8F2C-6124B86A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3A3-A3E0-46C0-AD05-D8E50E7C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A97-9C0F-4BE1-A427-84E6693A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ED4-C585-48A9-8735-65F5F630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69F3-F787-417C-8164-2CDA4CD02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Tools of</a:t>
            </a:r>
            <a:r>
              <a:rPr b="0" lang="en-US" sz="5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1" lang="en-US" sz="5400" spc="-1" strike="noStrike">
                <a:solidFill>
                  <a:srgbClr val="ffcc00"/>
                </a:solidFill>
                <a:latin typeface="Arial Narrow"/>
              </a:rPr>
              <a:t>  </a:t>
            </a:r>
            <a:r>
              <a:rPr b="1" lang="en-US" sz="5400" spc="-1" strike="noStrike">
                <a:solidFill>
                  <a:srgbClr val="ffcc00"/>
                </a:solidFill>
                <a:latin typeface="Arial Narrow"/>
              </a:rPr>
              <a:t>Composition</a:t>
            </a: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                 </a:t>
            </a: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in Photograp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7280" y="685800"/>
            <a:ext cx="2986200" cy="20653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57200" y="3733920"/>
            <a:ext cx="4114800" cy="2895480"/>
            <a:chOff x="457200" y="3733920"/>
            <a:chExt cx="4114800" cy="289548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57200" y="3733920"/>
              <a:ext cx="3200400" cy="14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600200" y="4648320"/>
              <a:ext cx="297180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" descr=""/>
          <p:cNvPicPr/>
          <p:nvPr/>
        </p:nvPicPr>
        <p:blipFill>
          <a:blip r:embed="rId4">
            <a:lum bright="-100000"/>
          </a:blip>
          <a:stretch/>
        </p:blipFill>
        <p:spPr>
          <a:xfrm>
            <a:off x="3049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325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 Narrow"/>
              </a:rPr>
              <a:t>The photographer’s </a:t>
            </a:r>
            <a:br>
              <a:rPr sz="5400"/>
            </a:br>
            <a:r>
              <a:rPr b="1" i="1" lang="en-US" sz="5400" spc="-1" strike="noStrike">
                <a:solidFill>
                  <a:srgbClr val="ffffff"/>
                </a:solidFill>
                <a:latin typeface="Arial Narrow"/>
              </a:rPr>
              <a:t> many choices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57440" y="22096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Narrow"/>
              </a:rPr>
              <a:t>point of vie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Narrow"/>
              </a:rPr>
              <a:t>foc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Narrow"/>
              </a:rPr>
              <a:t>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 Narrow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cc"/>
                </a:solidFill>
                <a:latin typeface="Viner Hand ITC"/>
              </a:rPr>
              <a:t>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2514600" cy="2819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i="1" lang="en-US" sz="7200" spc="-1" strike="noStrike">
                <a:solidFill>
                  <a:srgbClr val="ffcc00"/>
                </a:solidFill>
                <a:latin typeface="Arial Narrow"/>
              </a:rPr>
              <a:t>Golden Mea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214800"/>
            <a:ext cx="449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A means of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Narrow"/>
              </a:rPr>
              <a:t>place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3325680" cy="3262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grayscl/>
            <a:lum contrast="6000"/>
          </a:blip>
          <a:srcRect l="0" t="0" r="-1809" b="1018"/>
          <a:stretch/>
        </p:blipFill>
        <p:spPr>
          <a:xfrm>
            <a:off x="887400" y="1943280"/>
            <a:ext cx="2801880" cy="4154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 Narrow"/>
              </a:rPr>
              <a:t>What is the </a:t>
            </a:r>
            <a:r>
              <a:rPr b="1" i="1" lang="en-US" sz="5400" spc="-1" strike="noStrike">
                <a:solidFill>
                  <a:srgbClr val="ffcc00"/>
                </a:solidFill>
                <a:latin typeface="Arial Narrow"/>
              </a:rPr>
              <a:t>Golden Mean</a:t>
            </a:r>
            <a:r>
              <a:rPr b="1" i="1" lang="en-US" sz="54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21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lso known as th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000" spc="-1" strike="noStrike">
                <a:solidFill>
                  <a:srgbClr val="ffcc00"/>
                </a:solidFill>
                <a:latin typeface="Arial Narrow"/>
              </a:rPr>
              <a:t>Golden</a:t>
            </a: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 </a:t>
            </a:r>
            <a:r>
              <a:rPr b="0" lang="en-US" sz="3000" spc="-1" strike="noStrike">
                <a:solidFill>
                  <a:srgbClr val="ffcc00"/>
                </a:solidFill>
                <a:latin typeface="Arial Narrow"/>
              </a:rPr>
              <a:t>Sec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 composition tool for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reating a visually pleasing im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To accomplish th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000" spc="-1" strike="noStrike">
                <a:solidFill>
                  <a:srgbClr val="ffcc00"/>
                </a:solidFill>
                <a:latin typeface="Arial Narrow"/>
              </a:rPr>
              <a:t>Golden</a:t>
            </a: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 </a:t>
            </a:r>
            <a:r>
              <a:rPr b="0" lang="en-US" sz="3000" spc="-1" strike="noStrike">
                <a:solidFill>
                  <a:srgbClr val="ffcc00"/>
                </a:solidFill>
                <a:latin typeface="Arial Narrow"/>
              </a:rPr>
              <a:t>Mea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 ratio of 5:8 is used i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positioning th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ubject of the photograp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95680" y="1952640"/>
            <a:ext cx="0" cy="41432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5320" y="3124080"/>
            <a:ext cx="27622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i="1" lang="en-US" sz="6600" spc="-1" strike="noStrike">
                <a:solidFill>
                  <a:srgbClr val="ffcc00"/>
                </a:solidFill>
                <a:latin typeface="Arial Narrow"/>
              </a:rPr>
              <a:t>GOLDEN MEA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62120" y="1981080"/>
            <a:ext cx="3382560" cy="1981440"/>
            <a:chOff x="762120" y="1981080"/>
            <a:chExt cx="3382560" cy="1981440"/>
          </a:xfrm>
        </p:grpSpPr>
        <p:sp>
          <p:nvSpPr>
            <p:cNvPr id="60" name=""/>
            <p:cNvSpPr/>
            <p:nvPr/>
          </p:nvSpPr>
          <p:spPr>
            <a:xfrm>
              <a:off x="762120" y="1981080"/>
              <a:ext cx="3352680" cy="19814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1981080"/>
              <a:ext cx="0" cy="198144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2120" y="2819520"/>
              <a:ext cx="335268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9080" y="25909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5920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38640" y="202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95840" y="2251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1168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876920" y="1676520"/>
            <a:ext cx="3886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To fix the position of the horiz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181480" y="4191120"/>
            <a:ext cx="3276720" cy="2057400"/>
            <a:chOff x="5181480" y="4191120"/>
            <a:chExt cx="3276720" cy="2057400"/>
          </a:xfrm>
        </p:grpSpPr>
        <p:sp>
          <p:nvSpPr>
            <p:cNvPr id="70" name=""/>
            <p:cNvSpPr/>
            <p:nvPr/>
          </p:nvSpPr>
          <p:spPr>
            <a:xfrm>
              <a:off x="5181480" y="4191120"/>
              <a:ext cx="3276720" cy="2057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>
              <a:grayscl/>
              <a:lum bright="24000"/>
            </a:blip>
            <a:stretch/>
          </p:blipFill>
          <p:spPr>
            <a:xfrm>
              <a:off x="6934320" y="4371840"/>
              <a:ext cx="1253880" cy="187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685800" y="4191120"/>
            <a:ext cx="4419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To divide a composition in pleasant proport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To establish the location of the center of intere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Which photograph below is an example of the </a:t>
            </a:r>
            <a:r>
              <a:rPr b="1" i="1" lang="en-US" sz="4800" spc="-1" strike="noStrike">
                <a:solidFill>
                  <a:srgbClr val="ffcc00"/>
                </a:solidFill>
                <a:latin typeface="Arial Narrow"/>
              </a:rPr>
              <a:t>Golden Mean</a:t>
            </a: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1143000" y="2209680"/>
            <a:ext cx="2921040" cy="4114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2822400" cy="4114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3124080" y="2209680"/>
            <a:ext cx="0" cy="41148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3048120"/>
            <a:ext cx="28954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4935"/>
          <a:stretch/>
        </p:blipFill>
        <p:spPr>
          <a:xfrm>
            <a:off x="3886200" y="1771560"/>
            <a:ext cx="4876920" cy="3024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838080" y="533520"/>
            <a:ext cx="291168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This photograph is an example of the </a:t>
            </a:r>
            <a:r>
              <a:rPr b="0" lang="en-US" sz="3000" spc="-1" strike="noStrike">
                <a:solidFill>
                  <a:srgbClr val="ffcc00"/>
                </a:solidFill>
                <a:latin typeface="Arial Narrow"/>
              </a:rPr>
              <a:t>Golden Mean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. 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otice the placement of the sailboat  and the ocean’s horizon line.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It represents where  the 5 to 8 ratio would intersec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1781280"/>
            <a:ext cx="0" cy="30193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3886200"/>
            <a:ext cx="48769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3810240" cy="2602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Which photograph below is an example of the </a:t>
            </a:r>
            <a:r>
              <a:rPr b="1" i="1" lang="en-US" sz="4800" spc="-1" strike="noStrike">
                <a:solidFill>
                  <a:srgbClr val="ffcc00"/>
                </a:solidFill>
                <a:latin typeface="Arial Narrow"/>
              </a:rPr>
              <a:t>Golden Mean</a:t>
            </a: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2293920"/>
            <a:ext cx="3810240" cy="2573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838080" y="5029200"/>
            <a:ext cx="771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photograph on the right is another good example of the </a:t>
            </a: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Golden Mea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.  The subject is placed where the imaginary lines would inters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3309840"/>
            <a:ext cx="381024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2286000"/>
            <a:ext cx="0" cy="26668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00"/>
                </a:solidFill>
                <a:latin typeface="Arial Narrow"/>
              </a:rPr>
              <a:t>The Golden Mea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53341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The Path to a Beautiful End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grayscl/>
            <a:lum bright="12000"/>
          </a:blip>
          <a:srcRect l="18248" t="4921" r="0" b="0"/>
          <a:stretch/>
        </p:blipFill>
        <p:spPr>
          <a:xfrm>
            <a:off x="2362320" y="1676520"/>
            <a:ext cx="4492440" cy="34495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548160" y="1676520"/>
            <a:ext cx="0" cy="3429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895480"/>
            <a:ext cx="44956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17:19:18Z</dcterms:created>
  <dc:creator>RRHS</dc:creator>
  <dc:description/>
  <dc:language>en-US</dc:language>
  <cp:lastModifiedBy>Debbie Candau</cp:lastModifiedBy>
  <dcterms:modified xsi:type="dcterms:W3CDTF">2004-08-03T15:59:19Z</dcterms:modified>
  <cp:revision>64</cp:revision>
  <dc:subject/>
  <dc:title>PowerPoint Presentation</dc:title>
</cp:coreProperties>
</file>