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C213-928D-4262-BA91-227A980C8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5120" y="428940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A92A-3464-4979-9FCA-F0AA83E8B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6296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577A-C30E-4CFF-AFB4-9EE923575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5316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1120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9512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85316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1120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EBE5-9DE7-4228-BF25-11FC72DE0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7760" y="457200"/>
            <a:ext cx="2971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ADBC-7430-4E47-A9B0-618484B93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6296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95120" y="428940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6296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316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1120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9512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5316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81120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A581-7952-4AC9-8961-65993F12A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99D4-051E-454D-8B74-C7B7B7E88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AB04-2002-4506-AAD1-6FA0DCCB0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7760" y="457200"/>
            <a:ext cx="2971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FD22A-EE55-4D5D-A0F2-6D2195EDA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B94D-078A-4964-AE8A-AE53C0B0E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6296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21CC-2E0F-4FDD-A6F7-2D37E06AE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2517-B395-46C6-A70B-16C017DEA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720" y="6400440"/>
            <a:ext cx="83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DA67-3B53-43E7-8859-864078B14F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5032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6397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3975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560" y="2895480"/>
            <a:ext cx="6553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oint of View in Fairy T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33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int of View in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 art it’s the angle of view from which a person sees the picture or sc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et’s look at a photograph to determine “angle of view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732480" cy="4953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3713400" cy="4953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705720" y="2133720"/>
            <a:ext cx="2209680" cy="285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783" y="6336"/>
                </a:moveTo>
                <a:lnTo>
                  <a:pt x="-745" y="864"/>
                </a:lnTo>
              </a:path>
              <a:path w="21600" h="21600">
                <a:moveTo>
                  <a:pt x="-745" y="0"/>
                </a:moveTo>
                <a:lnTo>
                  <a:pt x="-745" y="21600"/>
                </a:ln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beyond the green tree in the foreg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ew Angles in Photo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oint of view in a story is like the angle of a photo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 different angle in a picture gives us a new way of thinking about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int of View in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95480" y="1980720"/>
            <a:ext cx="6019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 literature point of view is the angle which a reader connects to the story—usually by the person who tells the sto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 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Cendrillon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, we know the person telling the story is Nannin, Cendrillon’s god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Person Telling the S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95480" y="19807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aving a character relate the events makes a story more personal and helps the reader feel invol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endrillon’s godmother can only see things from her own understan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r instance, she doesn’t know Cendrillon’s thoughts, but she can tell what Cendrillon’s feelings are from her actions and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at Happens  When Point of View Chan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if the wicked stepmom, Madame Prosperine, tells the stor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if Paul tells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 Point of View Cho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w would the story change if a distant, all-knowing narrator told the story? This person is called a 3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person nar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if you are the “I” person telling the story? How will the story change? This person  is called the 1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person nar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Decid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ould 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Cendrillon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be a better fairy tale if another character told the sto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nk about this as you choose the next Cinderella fairy tale to r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1:47:06Z</dcterms:created>
  <dc:creator> </dc:creator>
  <dc:description/>
  <dc:language>en-US</dc:language>
  <cp:lastModifiedBy> </cp:lastModifiedBy>
  <dcterms:modified xsi:type="dcterms:W3CDTF">2004-12-10T23:48:28Z</dcterms:modified>
  <cp:revision>6</cp:revision>
  <dc:subject/>
  <dc:title>Point of View in Fairy Tales</dc:title>
</cp:coreProperties>
</file>