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wmf" ContentType="image/x-wmf"/>
  <Override PartName="/ppt/media/image10.gif" ContentType="image/gif"/>
  <Override PartName="/ppt/media/image8.wmf" ContentType="image/x-wmf"/>
  <Override PartName="/ppt/media/hammer.wav" ContentType="audio/x-wav"/>
  <Override PartName="/ppt/media/applause.wav" ContentType="audio/x-wav"/>
  <Override PartName="/ppt/media/image5.wmf" ContentType="image/x-wmf"/>
  <Override PartName="/ppt/media/image7.wmf" ContentType="image/x-wmf"/>
  <Override PartName="/ppt/media/image4.gif" ContentType="image/gif"/>
  <Override PartName="/ppt/media/image1.jpeg" ContentType="image/jpeg"/>
  <Override PartName="/ppt/media/image15.wmf" ContentType="image/x-wmf"/>
  <Override PartName="/ppt/media/clap.wav" ContentType="audio/x-wav"/>
  <Override PartName="/ppt/media/image17.gif" ContentType="image/gif"/>
  <Override PartName="/ppt/media/image2.wmf" ContentType="image/x-wmf"/>
  <Override PartName="/ppt/media/image21.gif" ContentType="image/gi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3.wmf" ContentType="image/x-wmf"/>
  <Override PartName="/ppt/media/image12.gif" ContentType="image/gif"/>
  <Override PartName="/ppt/media/image14.wmf" ContentType="image/x-wmf"/>
  <Override PartName="/ppt/media/image3.gif" ContentType="image/gi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1BB1-5361-4769-B834-79E1ADBC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4110-D4B7-4605-AD3C-88B57698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599-9FD9-4E59-8F24-51103D13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96D-84A7-4FFC-B932-CABE68DB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014D-0054-44C6-8D57-33E849F9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2109-9E3A-42CA-854B-09836778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CF1F-C7D0-4F34-92E1-8B56D3D2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EFCA-5727-47DF-AE2D-1B0939E9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2A01-0DF8-4B9D-BEE0-356522F3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DA14-73D4-438F-9757-B59FF3DD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ECB8-35E8-4D20-897A-8CE4EC43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1442-ACC0-4C3F-9B3C-B509F75A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26EC-226C-4298-AC71-ECF174885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7.gi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gif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" Target="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Kristen ITC"/>
              </a:rPr>
              <a:t>Let’s Practice Our Rhym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3200400" y="2286000"/>
            <a:ext cx="3352680" cy="838080"/>
          </a:xfrm>
          <a:custGeom>
            <a:avLst/>
            <a:gdLst>
              <a:gd name="textAreaLeft" fmla="*/ 54000 w 3352680"/>
              <a:gd name="textAreaRight" fmla="*/ 3298680 w 3352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6381" h="21600">
                <a:moveTo>
                  <a:pt x="0" y="0"/>
                </a:moveTo>
                <a:lnTo>
                  <a:pt x="86381" y="0"/>
                </a:lnTo>
                <a:lnTo>
                  <a:pt x="86381" y="21600"/>
                </a:lnTo>
                <a:lnTo>
                  <a:pt x="0" y="21600"/>
                </a:lnTo>
                <a:close/>
              </a:path>
              <a:path fill="lightenLess" w="86381" h="21600">
                <a:moveTo>
                  <a:pt x="0" y="0"/>
                </a:moveTo>
                <a:lnTo>
                  <a:pt x="86381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1" h="21600">
                <a:moveTo>
                  <a:pt x="86381" y="0"/>
                </a:moveTo>
                <a:lnTo>
                  <a:pt x="86381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1" h="21600">
                <a:moveTo>
                  <a:pt x="8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16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Kristen ITC"/>
              </a:rPr>
              <a:t>Good Job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06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91120" y="1066320"/>
            <a:ext cx="121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981080" y="1143000"/>
            <a:ext cx="1981440" cy="1239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3880" y="266688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hat word rhymes with r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4876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562720" y="3124080"/>
            <a:ext cx="1404720" cy="1886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828800" y="3352680"/>
            <a:ext cx="1287360" cy="1298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05120" y="4800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3200400" y="2286000"/>
            <a:ext cx="3352680" cy="838080"/>
          </a:xfrm>
          <a:custGeom>
            <a:avLst/>
            <a:gdLst>
              <a:gd name="textAreaLeft" fmla="*/ 54000 w 3352680"/>
              <a:gd name="textAreaRight" fmla="*/ 3298680 w 3352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6381" h="21600">
                <a:moveTo>
                  <a:pt x="0" y="0"/>
                </a:moveTo>
                <a:lnTo>
                  <a:pt x="86381" y="0"/>
                </a:lnTo>
                <a:lnTo>
                  <a:pt x="86381" y="21600"/>
                </a:lnTo>
                <a:lnTo>
                  <a:pt x="0" y="21600"/>
                </a:lnTo>
                <a:close/>
              </a:path>
              <a:path fill="lightenLess" w="86381" h="21600">
                <a:moveTo>
                  <a:pt x="0" y="0"/>
                </a:moveTo>
                <a:lnTo>
                  <a:pt x="86381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1" h="21600">
                <a:moveTo>
                  <a:pt x="86381" y="0"/>
                </a:moveTo>
                <a:lnTo>
                  <a:pt x="86381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1" h="21600">
                <a:moveTo>
                  <a:pt x="8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16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Kristen ITC"/>
              </a:rPr>
              <a:t>Try Agai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3200400" y="2286000"/>
            <a:ext cx="3352680" cy="838080"/>
          </a:xfrm>
          <a:custGeom>
            <a:avLst/>
            <a:gdLst>
              <a:gd name="textAreaLeft" fmla="*/ 54000 w 3352680"/>
              <a:gd name="textAreaRight" fmla="*/ 3298680 w 3352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6381" h="21600">
                <a:moveTo>
                  <a:pt x="0" y="0"/>
                </a:moveTo>
                <a:lnTo>
                  <a:pt x="86381" y="0"/>
                </a:lnTo>
                <a:lnTo>
                  <a:pt x="86381" y="21600"/>
                </a:lnTo>
                <a:lnTo>
                  <a:pt x="0" y="21600"/>
                </a:lnTo>
                <a:close/>
              </a:path>
              <a:path fill="lightenLess" w="86381" h="21600">
                <a:moveTo>
                  <a:pt x="0" y="0"/>
                </a:moveTo>
                <a:lnTo>
                  <a:pt x="86381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1" h="21600">
                <a:moveTo>
                  <a:pt x="86381" y="0"/>
                </a:moveTo>
                <a:lnTo>
                  <a:pt x="86381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1" h="21600">
                <a:moveTo>
                  <a:pt x="8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16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Kristen ITC"/>
              </a:rPr>
              <a:t>Good Job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risten ITC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95280" y="762120"/>
            <a:ext cx="2438640" cy="1209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038480" y="10666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22860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hat word rhymes with do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181480" y="3429000"/>
            <a:ext cx="2259000" cy="1189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71500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905120" y="2971800"/>
            <a:ext cx="1008000" cy="1838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14600" y="42670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3200400" y="2286000"/>
            <a:ext cx="3352680" cy="838080"/>
          </a:xfrm>
          <a:custGeom>
            <a:avLst/>
            <a:gdLst>
              <a:gd name="textAreaLeft" fmla="*/ 54000 w 3352680"/>
              <a:gd name="textAreaRight" fmla="*/ 3298680 w 3352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6381" h="21600">
                <a:moveTo>
                  <a:pt x="0" y="0"/>
                </a:moveTo>
                <a:lnTo>
                  <a:pt x="86381" y="0"/>
                </a:lnTo>
                <a:lnTo>
                  <a:pt x="86381" y="21600"/>
                </a:lnTo>
                <a:lnTo>
                  <a:pt x="0" y="21600"/>
                </a:lnTo>
                <a:close/>
              </a:path>
              <a:path fill="lightenLess" w="86381" h="21600">
                <a:moveTo>
                  <a:pt x="0" y="0"/>
                </a:moveTo>
                <a:lnTo>
                  <a:pt x="86381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1" h="21600">
                <a:moveTo>
                  <a:pt x="86381" y="0"/>
                </a:moveTo>
                <a:lnTo>
                  <a:pt x="86381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1" h="21600">
                <a:moveTo>
                  <a:pt x="8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16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Kristen ITC"/>
              </a:rPr>
              <a:t>Try Agai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3200400" y="2286000"/>
            <a:ext cx="3352680" cy="838080"/>
          </a:xfrm>
          <a:custGeom>
            <a:avLst/>
            <a:gdLst>
              <a:gd name="textAreaLeft" fmla="*/ 54000 w 3352680"/>
              <a:gd name="textAreaRight" fmla="*/ 3298680 w 3352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6381" h="21600">
                <a:moveTo>
                  <a:pt x="0" y="0"/>
                </a:moveTo>
                <a:lnTo>
                  <a:pt x="86381" y="0"/>
                </a:lnTo>
                <a:lnTo>
                  <a:pt x="86381" y="21600"/>
                </a:lnTo>
                <a:lnTo>
                  <a:pt x="0" y="21600"/>
                </a:lnTo>
                <a:close/>
              </a:path>
              <a:path fill="lightenLess" w="86381" h="21600">
                <a:moveTo>
                  <a:pt x="0" y="0"/>
                </a:moveTo>
                <a:lnTo>
                  <a:pt x="86381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1" h="21600">
                <a:moveTo>
                  <a:pt x="86381" y="0"/>
                </a:moveTo>
                <a:lnTo>
                  <a:pt x="86381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1" h="21600">
                <a:moveTo>
                  <a:pt x="8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16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Kristen ITC"/>
              </a:rPr>
              <a:t>Good Job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You are finish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76520" y="19051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Another good rhym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76920" y="2590920"/>
            <a:ext cx="1996920" cy="2057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6000" y="2819520"/>
            <a:ext cx="266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but we’re now out of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picture rhymes with c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hear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657600" y="533520"/>
            <a:ext cx="213372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981080" y="3733920"/>
            <a:ext cx="2022480" cy="788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638680" y="3200400"/>
            <a:ext cx="85896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200400" y="2286000"/>
            <a:ext cx="3352680" cy="838080"/>
          </a:xfrm>
          <a:custGeom>
            <a:avLst/>
            <a:gdLst>
              <a:gd name="textAreaLeft" fmla="*/ 54000 w 3352680"/>
              <a:gd name="textAreaRight" fmla="*/ 3298680 w 3352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6381" h="21600">
                <a:moveTo>
                  <a:pt x="0" y="0"/>
                </a:moveTo>
                <a:lnTo>
                  <a:pt x="86381" y="0"/>
                </a:lnTo>
                <a:lnTo>
                  <a:pt x="86381" y="21600"/>
                </a:lnTo>
                <a:lnTo>
                  <a:pt x="0" y="21600"/>
                </a:lnTo>
                <a:close/>
              </a:path>
              <a:path fill="lightenLess" w="86381" h="21600">
                <a:moveTo>
                  <a:pt x="0" y="0"/>
                </a:moveTo>
                <a:lnTo>
                  <a:pt x="86381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1" h="21600">
                <a:moveTo>
                  <a:pt x="86381" y="0"/>
                </a:moveTo>
                <a:lnTo>
                  <a:pt x="86381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1" h="21600">
                <a:moveTo>
                  <a:pt x="8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16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Kristen ITC"/>
              </a:rPr>
              <a:t>Try Agai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200400" y="2286000"/>
            <a:ext cx="3352680" cy="838080"/>
          </a:xfrm>
          <a:custGeom>
            <a:avLst/>
            <a:gdLst>
              <a:gd name="textAreaLeft" fmla="*/ 54000 w 3352680"/>
              <a:gd name="textAreaRight" fmla="*/ 3298680 w 3352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6381" h="21600">
                <a:moveTo>
                  <a:pt x="0" y="0"/>
                </a:moveTo>
                <a:lnTo>
                  <a:pt x="86381" y="0"/>
                </a:lnTo>
                <a:lnTo>
                  <a:pt x="86381" y="21600"/>
                </a:lnTo>
                <a:lnTo>
                  <a:pt x="0" y="21600"/>
                </a:lnTo>
                <a:close/>
              </a:path>
              <a:path fill="lightenLess" w="86381" h="21600">
                <a:moveTo>
                  <a:pt x="0" y="0"/>
                </a:moveTo>
                <a:lnTo>
                  <a:pt x="86381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1" h="21600">
                <a:moveTo>
                  <a:pt x="86381" y="0"/>
                </a:moveTo>
                <a:lnTo>
                  <a:pt x="86381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1" h="21600">
                <a:moveTo>
                  <a:pt x="8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16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Kristen ITC"/>
              </a:rPr>
              <a:t>Good Job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hat word rhymes with cr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2239920" cy="1931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1877760" cy="1877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4400" y="6019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15000" y="3962520"/>
            <a:ext cx="1463760" cy="1792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791320" y="59436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3200400" y="2286000"/>
            <a:ext cx="3352680" cy="838080"/>
          </a:xfrm>
          <a:custGeom>
            <a:avLst/>
            <a:gdLst>
              <a:gd name="textAreaLeft" fmla="*/ 54000 w 3352680"/>
              <a:gd name="textAreaRight" fmla="*/ 3298680 w 3352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6381" h="21600">
                <a:moveTo>
                  <a:pt x="0" y="0"/>
                </a:moveTo>
                <a:lnTo>
                  <a:pt x="86381" y="0"/>
                </a:lnTo>
                <a:lnTo>
                  <a:pt x="86381" y="21600"/>
                </a:lnTo>
                <a:lnTo>
                  <a:pt x="0" y="21600"/>
                </a:lnTo>
                <a:close/>
              </a:path>
              <a:path fill="lightenLess" w="86381" h="21600">
                <a:moveTo>
                  <a:pt x="0" y="0"/>
                </a:moveTo>
                <a:lnTo>
                  <a:pt x="86381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1" h="21600">
                <a:moveTo>
                  <a:pt x="86381" y="0"/>
                </a:moveTo>
                <a:lnTo>
                  <a:pt x="86381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1" h="21600">
                <a:moveTo>
                  <a:pt x="8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16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Kristen ITC"/>
              </a:rPr>
              <a:t>Try Agai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3200400" y="2286000"/>
            <a:ext cx="3352680" cy="838080"/>
          </a:xfrm>
          <a:custGeom>
            <a:avLst/>
            <a:gdLst>
              <a:gd name="textAreaLeft" fmla="*/ 54000 w 3352680"/>
              <a:gd name="textAreaRight" fmla="*/ 3298680 w 3352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6381" h="21600">
                <a:moveTo>
                  <a:pt x="0" y="0"/>
                </a:moveTo>
                <a:lnTo>
                  <a:pt x="86381" y="0"/>
                </a:lnTo>
                <a:lnTo>
                  <a:pt x="86381" y="21600"/>
                </a:lnTo>
                <a:lnTo>
                  <a:pt x="0" y="21600"/>
                </a:lnTo>
                <a:close/>
              </a:path>
              <a:path fill="lightenLess" w="86381" h="21600">
                <a:moveTo>
                  <a:pt x="0" y="0"/>
                </a:moveTo>
                <a:lnTo>
                  <a:pt x="86381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1" h="21600">
                <a:moveTo>
                  <a:pt x="86381" y="0"/>
                </a:moveTo>
                <a:lnTo>
                  <a:pt x="86381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1" h="21600">
                <a:moveTo>
                  <a:pt x="8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16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Kristen ITC"/>
              </a:rPr>
              <a:t>Good Job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c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hat word rhymes with ca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09680" y="990720"/>
            <a:ext cx="1532160" cy="1501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172200" y="3505320"/>
            <a:ext cx="1076400" cy="1904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24280" y="4952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n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295280" y="3733920"/>
            <a:ext cx="1981440" cy="1025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828800" y="4952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3200400" y="2286000"/>
            <a:ext cx="3352680" cy="838080"/>
          </a:xfrm>
          <a:custGeom>
            <a:avLst/>
            <a:gdLst>
              <a:gd name="textAreaLeft" fmla="*/ 54000 w 3352680"/>
              <a:gd name="textAreaRight" fmla="*/ 3298680 w 3352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6381" h="21600">
                <a:moveTo>
                  <a:pt x="0" y="0"/>
                </a:moveTo>
                <a:lnTo>
                  <a:pt x="86381" y="0"/>
                </a:lnTo>
                <a:lnTo>
                  <a:pt x="86381" y="21600"/>
                </a:lnTo>
                <a:lnTo>
                  <a:pt x="0" y="21600"/>
                </a:lnTo>
                <a:close/>
              </a:path>
              <a:path fill="lightenLess" w="86381" h="21600">
                <a:moveTo>
                  <a:pt x="0" y="0"/>
                </a:moveTo>
                <a:lnTo>
                  <a:pt x="86381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1" h="21600">
                <a:moveTo>
                  <a:pt x="86381" y="0"/>
                </a:moveTo>
                <a:lnTo>
                  <a:pt x="86381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1" h="21600">
                <a:moveTo>
                  <a:pt x="8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16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Kristen ITC"/>
              </a:rPr>
              <a:t>Try Agai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1T22:31:18Z</dcterms:created>
  <dc:creator>KSD Kyrene School District</dc:creator>
  <dc:description/>
  <dc:language>en-US</dc:language>
  <cp:lastModifiedBy>jeyostX</cp:lastModifiedBy>
  <dcterms:modified xsi:type="dcterms:W3CDTF">2007-01-11T01:52:30Z</dcterms:modified>
  <cp:revision>21</cp:revision>
  <dc:subject/>
  <dc:title>Phonemic Awareness Assessments</dc:title>
</cp:coreProperties>
</file>