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5.png" ContentType="image/png"/>
  <Override PartName="/ppt/media/glass.wav" ContentType="audio/x-wav"/>
  <Override PartName="/ppt/media/camera.wav" ContentType="audio/x-wav"/>
  <Override PartName="/ppt/media/explode.wav" ContentType="audio/x-wav"/>
  <Override PartName="/ppt/media/image6.png" ContentType="image/png"/>
  <Override PartName="/ppt/media/image3.png" ContentType="image/png"/>
  <Override PartName="/ppt/media/clap.wav" ContentType="audio/x-wav"/>
  <Override PartName="/ppt/media/chimes.wav" ContentType="audio/x-wav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9FD-CD04-40F6-A147-ED18DBE2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94D-1317-4BC5-9351-5901A21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056-99C5-4569-8EE6-A66A449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902-3CC8-454B-AF89-64A0B015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964-087E-4380-BF58-89308DBD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EAE-CAEA-47C3-82AA-32B8D0B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F87-48BA-4606-BB78-9E6C0C0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39F-7D75-4301-9594-B7F674C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B06A-19C6-4125-BC98-D623F2E4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2146-4B46-4E66-ABB9-4919D0D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2026-FEC0-4ADC-B06A-B80DAB0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E13-53B5-4B7D-B735-2CD991B7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B23-E8BE-4A7B-9DC0-3FC21B9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8849-6DEF-4DF7-B566-AE0EB9F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0012-DCE7-4AE4-95AA-830F3A9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037-7512-4C3D-ACB0-86925265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BF00-1007-427B-8464-CD8EAF06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2B7-094C-455B-8612-ABADDC08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F1A-5016-47B9-B308-1B0A6FF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469-889E-4F80-90F1-F19021A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7A3-10F2-4398-A900-61B4E552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9FD-3F14-4314-864E-F9E2DF7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16B-7BB8-4504-AC48-E74332C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A31-CD2B-4A53-92B4-96686338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A5D3-724A-425F-B6F7-1E4BBF08C0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DFA7-15B1-4147-BFAB-2906CC896F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99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16480" y="3809880"/>
            <a:ext cx="4952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r>
              <a:rPr b="0" lang="en-US" sz="5000" spc="-1" strike="noStrike">
                <a:solidFill>
                  <a:srgbClr val="808080"/>
                </a:solidFill>
                <a:latin typeface="Arial"/>
              </a:rPr>
              <a:t>Photographs: </a:t>
            </a:r>
            <a:br>
              <a:rPr sz="50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Stories They Tel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685800" y="914400"/>
            <a:ext cx="2982960" cy="4495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62520" y="1600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s a pictu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or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thousand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7680" y="5486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rch in Tennessee, 19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67240" cy="382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99ff"/>
                </a:solidFill>
                <a:latin typeface="Elephant"/>
              </a:rPr>
              <a:t>How do Images Tell Stories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 An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Let Them Eat Cak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e same ingredients will make cake or cookies or play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gredients are combined in different ways to produce a variety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3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Is It Cake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scribe the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ex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Tas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m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4120" y="1447920"/>
            <a:ext cx="267804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3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3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3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3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3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Desig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ign is the language of ar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ign elements are like baking ingredie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ign composition is similar to a recip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sign principles are ways of describing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Design Element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n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hap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pa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3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3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3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Design Principle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6440" y="19810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n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rie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hyth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ove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4040" y="808200"/>
            <a:ext cx="62481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Your Task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4040" y="1722600"/>
            <a:ext cx="809136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 on the duties and assignments of a photojourn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Interpret and critique photographs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ke on the duties and assignments of a graphic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Develop a photography/design portfol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55627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Young immigrants at Ellis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176480"/>
            <a:ext cx="6969240" cy="3871800"/>
          </a:xfrm>
          <a:prstGeom prst="rect">
            <a:avLst/>
          </a:prstGeom>
          <a:ln w="54000">
            <a:solidFill>
              <a:srgbClr val="000000"/>
            </a:solidFill>
            <a:miter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50292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igrant worker and her children, 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065240"/>
            <a:ext cx="5024160" cy="3963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506736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ther playing with his child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1295280"/>
            <a:ext cx="4419720" cy="2946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67080" y="4844520"/>
            <a:ext cx="4267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e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1784520"/>
            <a:ext cx="441972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7680" y="547560"/>
            <a:ext cx="3124080" cy="2463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517680" y="3581280"/>
            <a:ext cx="3124080" cy="2082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67080" y="71748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ee Famil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  <p:sndAc>
      <p:stSnd>
        <p:snd r:embed="rId4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7200" y="465120"/>
            <a:ext cx="85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Think About It!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756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ee photos of families (same su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nged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ell differ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530080"/>
            <a:ext cx="73152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f I could tell the story with words, I wouldn’t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need to lug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camera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914040"/>
            <a:ext cx="6400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Lewis Hi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3971880"/>
            <a:ext cx="3900240" cy="235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pull dir="ru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9999ff"/>
                </a:solidFill>
                <a:latin typeface="Elephant"/>
              </a:rPr>
              <a:t>Lewis Hi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ne’s documentary photographs changed child labor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2025720"/>
            <a:ext cx="4599000" cy="327636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36147" dir="2700000" blurRad="0" rotWithShape="0">
              <a:srgbClr val="9933ff"/>
            </a:outerShdw>
          </a:effectLst>
        </p:spPr>
      </p:pic>
    </p:spTree>
  </p:cSld>
  <p:transition>
    <p:zoom dir="in"/>
    <p:sndAc>
      <p:stSnd>
        <p:snd r:embed="rId2" name="camera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3636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99ff"/>
                </a:solidFill>
                <a:latin typeface="Elephant"/>
              </a:rPr>
              <a:t>What Story Does the Photograph Tell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7:41:30Z</dcterms:created>
  <dc:creator>RRHS</dc:creator>
  <dc:description/>
  <dc:language>en-US</dc:language>
  <cp:lastModifiedBy>jeyostX</cp:lastModifiedBy>
  <dcterms:modified xsi:type="dcterms:W3CDTF">2007-01-11T01:59:33Z</dcterms:modified>
  <cp:revision>36</cp:revision>
  <dc:subject/>
  <dc:title>Photographs: The Stories They Tell</dc:title>
</cp:coreProperties>
</file>