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0EEF-DD65-45B8-AD78-002DBF0E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254-112E-4455-BDBE-0758FF78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0FF-0D84-436F-AAEA-5669D9E8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E5E-D60A-4627-A6FF-EAA2646F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3D8-D137-4B23-9810-563E89AB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16A-EDCC-4C3A-AFD0-FEAC106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60E-211C-4AF3-B0BC-EBEB428D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B72-1280-4E6E-B9E9-AD911562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3F6-F919-4D2A-B900-7EC0BA4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DF5-5562-4CBA-A3FA-0904ACAE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C5A-334A-433E-A129-B8CAC41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220-888F-42C8-B696-787A33A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4A8-D86E-45F5-99CC-4548190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9C41-ADB9-479B-A8AD-A5B3B2E7E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ions for Your Electronic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Inte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duca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elp Gu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you need assistanc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any technology skills identified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introductory slide, insert the title of your unit, your name, subject, and grad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next sli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yperlink to your documents from the slide  (Multimedia Skill 7.9)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will be moving your portfolio to another computer after linking, embed the files. (Multimedia Skill 7.11 and 7.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bedding files may greatly increase the file size of thi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 this slide when you are done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ultimedia Skill 3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this presentation at the top level of your Unit Portfolio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Plan Portfolio Present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90972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2640" y="22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 Plan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114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 Sample Summativ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5486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ent Support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ilitation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137160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838080" y="838080"/>
          <a:ext cx="7543800" cy="1803600"/>
        </p:xfrm>
        <a:graphic>
          <a:graphicData uri="http://schemas.openxmlformats.org/drawingml/2006/table">
            <a:tbl>
              <a:tblPr/>
              <a:tblGrid>
                <a:gridCol w="2514600"/>
                <a:gridCol w="502920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ntial Questio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Question(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t Questi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885960" cy="132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5120" y="4033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jeyostx</cp:lastModifiedBy>
  <dcterms:modified xsi:type="dcterms:W3CDTF">2008-10-07T19:47:03Z</dcterms:modified>
  <cp:revision>14</cp:revision>
  <dc:subject/>
  <dc:title>Unit Plan Portfolio</dc:title>
</cp:coreProperties>
</file>