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75E1-7617-46AE-A5E1-0CAA59F5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B03-1BFF-417F-B459-909EE9E4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C7F-DB53-4C34-8BF0-AE66B5C2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9A3C-4C07-4D3B-A5F5-10F68611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EB81-1F05-4987-B5C3-ED181F86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E574-6C0B-4C9D-B9EE-1BC42611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D634-681E-4474-99A2-AFD09B7D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60F7-D08C-401C-BDA2-3C561BC0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49B5-3F79-4BD6-B1B3-1FCE2DFB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66DC-8CE8-4811-9ED8-B7234C83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E5FB-C50F-4806-BA53-8743EB3E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CED7-AA9E-412A-B816-EB67681C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2923-38B4-4124-AB30-E22E3936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4C5C-7852-44B1-A8B3-6389E3B4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ACB4-66CE-4B60-A58C-547928A5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76B7-992B-4CF2-9051-9FB67AB4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620D-D224-479B-890F-18B22A46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7F74-7A54-408E-B8DE-385BAD06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B809-48A9-4CED-9CFB-B12B81ED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2A7-439D-4A7E-A10D-E3F17B86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589E-D297-4A51-B3B8-3449F635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7E5A-C567-4601-BC99-544BD563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6248-2F6B-4B1D-9718-80EC8640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B525-7C83-401A-990D-72E20CC8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4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4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4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4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4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DB6C-6D6D-4910-B8C8-289EFF1896FB}" type="slidenum">
              <a:rPr b="0" lang="en-US" sz="1400" spc="-1" strike="noStrike">
                <a:solidFill>
                  <a:srgbClr val="32324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4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4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4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4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4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A5A7-901F-40EB-BFF7-E01BBD7E41B1}" type="slidenum">
              <a:rPr b="0" lang="en-US" sz="1400" spc="-1" strike="noStrike">
                <a:solidFill>
                  <a:srgbClr val="32324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323244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323244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685800"/>
            <a:ext cx="6324480" cy="5105520"/>
          </a:xfrm>
          <a:prstGeom prst="triangle">
            <a:avLst>
              <a:gd name="adj" fmla="val 50000"/>
            </a:avLst>
          </a:prstGeom>
          <a:solidFill>
            <a:srgbClr val="979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44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Bloom’s Taxonomy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cus on Higher-Ord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Background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56, Benjamin Bloom, a professor at the University of Chicago, shared his famous "Taxonomy of Educational Objectives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m identified six levels of cognitive complexity that have been used over the past four decades to make sure that instruction stimulates and develops students' higher-order thinking skil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1486080" y="1574640"/>
            <a:ext cx="6209640" cy="5054400"/>
            <a:chOff x="1486080" y="1574640"/>
            <a:chExt cx="6209640" cy="5054400"/>
          </a:xfrm>
        </p:grpSpPr>
        <p:grpSp>
          <p:nvGrpSpPr>
            <p:cNvPr id="142" name=""/>
            <p:cNvGrpSpPr/>
            <p:nvPr/>
          </p:nvGrpSpPr>
          <p:grpSpPr>
            <a:xfrm>
              <a:off x="1486080" y="1574640"/>
              <a:ext cx="6209640" cy="4787640"/>
              <a:chOff x="1486080" y="1574640"/>
              <a:chExt cx="6209640" cy="4787640"/>
            </a:xfrm>
          </p:grpSpPr>
          <p:sp>
            <p:nvSpPr>
              <p:cNvPr id="143" name=""/>
              <p:cNvSpPr/>
              <p:nvPr/>
            </p:nvSpPr>
            <p:spPr>
              <a:xfrm>
                <a:off x="1486080" y="1574640"/>
                <a:ext cx="6209640" cy="478764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928680" y="2593440"/>
                <a:ext cx="132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76880" y="3306960"/>
                <a:ext cx="223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971080" y="4096080"/>
                <a:ext cx="325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944000" y="5649120"/>
                <a:ext cx="529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10560" y="4935600"/>
                <a:ext cx="437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2373480" y="2336760"/>
              <a:ext cx="4434840" cy="4292280"/>
              <a:chOff x="2373480" y="2336760"/>
              <a:chExt cx="4434840" cy="4292280"/>
            </a:xfrm>
          </p:grpSpPr>
          <p:sp>
            <p:nvSpPr>
              <p:cNvPr id="150" name=""/>
              <p:cNvSpPr/>
              <p:nvPr/>
            </p:nvSpPr>
            <p:spPr>
              <a:xfrm>
                <a:off x="3570120" y="2336760"/>
                <a:ext cx="2070360" cy="59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23244"/>
                    </a:solidFill>
                    <a:latin typeface="Arial Black"/>
                  </a:rPr>
                  <a:t>Evaluation</a:t>
                </a:r>
                <a:endParaRPr b="0" lang="en-US" sz="1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2373480" y="3014640"/>
                <a:ext cx="4434840" cy="3614400"/>
                <a:chOff x="2373480" y="3014640"/>
                <a:chExt cx="4434840" cy="36144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260160" y="3014640"/>
                  <a:ext cx="266112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23244"/>
                      </a:solidFill>
                      <a:latin typeface="Arial Black"/>
                    </a:rPr>
                    <a:t>Synthesis</a:t>
                  </a:r>
                  <a:endParaRPr b="0" lang="en-US" sz="1400" spc="-1" strike="noStrike">
                    <a:solidFill>
                      <a:srgbClr val="323244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964600" y="3796560"/>
                  <a:ext cx="325260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23244"/>
                      </a:solidFill>
                      <a:latin typeface="Arial Black"/>
                    </a:rPr>
                    <a:t>Analysis</a:t>
                  </a:r>
                  <a:endParaRPr b="0" lang="en-US" sz="1400" spc="-1" strike="noStrike">
                    <a:solidFill>
                      <a:srgbClr val="323244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669040" y="4637880"/>
                  <a:ext cx="384336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23244"/>
                      </a:solidFill>
                      <a:latin typeface="Arial Black"/>
                    </a:rPr>
                    <a:t>Application</a:t>
                  </a:r>
                  <a:endParaRPr b="0" lang="en-US" sz="1400" spc="-1" strike="noStrike">
                    <a:solidFill>
                      <a:srgbClr val="323244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373480" y="5340960"/>
                  <a:ext cx="443484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23244"/>
                      </a:solidFill>
                      <a:latin typeface="Arial Black"/>
                    </a:rPr>
                    <a:t>Comprehension</a:t>
                  </a:r>
                  <a:endParaRPr b="0" lang="en-US" sz="1400" spc="-1" strike="noStrike">
                    <a:solidFill>
                      <a:srgbClr val="323244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373480" y="6037560"/>
                  <a:ext cx="443484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23244"/>
                      </a:solidFill>
                      <a:latin typeface="Arial Black"/>
                    </a:rPr>
                    <a:t>Knowledge</a:t>
                  </a:r>
                  <a:endParaRPr b="0" lang="en-US" sz="1400" spc="-1" strike="noStrike">
                    <a:solidFill>
                      <a:srgbClr val="323244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7" name=""/>
          <p:cNvSpPr/>
          <p:nvPr/>
        </p:nvSpPr>
        <p:spPr>
          <a:xfrm>
            <a:off x="390600" y="700200"/>
            <a:ext cx="882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Higher-Order Thinking Skills</a:t>
            </a:r>
            <a:endParaRPr b="0" lang="en-US" sz="4800" spc="-1" strike="noStrike">
              <a:solidFill>
                <a:srgbClr val="323244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Knowledge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19280" y="161424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all or recognition of inform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33520" y="2514600"/>
            <a:ext cx="8839080" cy="3146400"/>
            <a:chOff x="533520" y="2514600"/>
            <a:chExt cx="8839080" cy="3146400"/>
          </a:xfrm>
        </p:grpSpPr>
        <p:sp>
          <p:nvSpPr>
            <p:cNvPr id="161" name=""/>
            <p:cNvSpPr/>
            <p:nvPr/>
          </p:nvSpPr>
          <p:spPr>
            <a:xfrm>
              <a:off x="4724280" y="2514600"/>
              <a:ext cx="4648320" cy="29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list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nam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dentify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how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fin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cogniz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call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atch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520" y="2529000"/>
              <a:ext cx="4572000" cy="31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fin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lassify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scrib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locat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utlin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ive examples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istinguish opinion from fact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Comprehension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bility to understand, translate, paraphrase, interpret or extrapolate material. (Predict outcome and effec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80960" y="2838600"/>
            <a:ext cx="7391520" cy="3378600"/>
            <a:chOff x="480960" y="2838600"/>
            <a:chExt cx="7391520" cy="3378600"/>
          </a:xfrm>
        </p:grpSpPr>
        <p:sp>
          <p:nvSpPr>
            <p:cNvPr id="166" name=""/>
            <p:cNvSpPr/>
            <p:nvPr/>
          </p:nvSpPr>
          <p:spPr>
            <a:xfrm>
              <a:off x="3986280" y="2838600"/>
              <a:ext cx="3886200" cy="31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araphras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ifferentiat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monstrat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visualiz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state 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wri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ive examples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0960" y="2852640"/>
              <a:ext cx="4114800" cy="33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ummariz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xplain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nterpret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scrib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ar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nvert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istinguish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stim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50"/>
                </a:spcBef>
                <a:buClr>
                  <a:srgbClr val="000000"/>
                </a:buClr>
                <a:buSzPct val="80000"/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Application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apacity to use information and transfer knowledge from one setting to another. (Use learned material in a new situ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19040" y="2781360"/>
            <a:ext cx="7315200" cy="2660400"/>
            <a:chOff x="419040" y="2781360"/>
            <a:chExt cx="7315200" cy="2660400"/>
          </a:xfrm>
        </p:grpSpPr>
        <p:sp>
          <p:nvSpPr>
            <p:cNvPr id="171" name=""/>
            <p:cNvSpPr/>
            <p:nvPr/>
          </p:nvSpPr>
          <p:spPr>
            <a:xfrm>
              <a:off x="4000320" y="2781360"/>
              <a:ext cx="3733920" cy="26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pply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lassify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odify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ut into practic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monstr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u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per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9040" y="2819520"/>
              <a:ext cx="3504960" cy="26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olv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llustrat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alculat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nterpret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anipul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redict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how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Analysis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ing detail and having the ability to discover and differentiate the component parts of a situation or inform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4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4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85920" y="2971800"/>
            <a:ext cx="7696080" cy="2963880"/>
            <a:chOff x="385920" y="2971800"/>
            <a:chExt cx="7696080" cy="2963880"/>
          </a:xfrm>
        </p:grpSpPr>
        <p:sp>
          <p:nvSpPr>
            <p:cNvPr id="176" name=""/>
            <p:cNvSpPr/>
            <p:nvPr/>
          </p:nvSpPr>
          <p:spPr>
            <a:xfrm>
              <a:off x="3662640" y="2971800"/>
              <a:ext cx="441936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ntrast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ar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istinguish 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ategoriz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utlin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l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5920" y="2971800"/>
              <a:ext cx="3200400" cy="24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nalyz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rganiz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duc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hoos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iagram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iscrimin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Synthesis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bility to combine parts to create the big pic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2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00120" y="2590920"/>
            <a:ext cx="7391520" cy="3503160"/>
            <a:chOff x="600120" y="2590920"/>
            <a:chExt cx="7391520" cy="3503160"/>
          </a:xfrm>
        </p:grpSpPr>
        <p:sp>
          <p:nvSpPr>
            <p:cNvPr id="181" name=""/>
            <p:cNvSpPr/>
            <p:nvPr/>
          </p:nvSpPr>
          <p:spPr>
            <a:xfrm>
              <a:off x="4486320" y="2590920"/>
              <a:ext cx="3505320" cy="35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iscuss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lan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ar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nstruct 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arrang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rganiz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0120" y="2590920"/>
              <a:ext cx="4191120" cy="29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sign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ypothesiz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upport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writ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port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bin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ly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velop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Evaluation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bility to judge the value or use of information using appropriate criteria. (Support judgment with reas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9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33520" y="2971800"/>
            <a:ext cx="7543800" cy="3151080"/>
            <a:chOff x="533520" y="2971800"/>
            <a:chExt cx="7543800" cy="3151080"/>
          </a:xfrm>
        </p:grpSpPr>
        <p:sp>
          <p:nvSpPr>
            <p:cNvPr id="186" name=""/>
            <p:cNvSpPr/>
            <p:nvPr/>
          </p:nvSpPr>
          <p:spPr>
            <a:xfrm>
              <a:off x="3962520" y="2990880"/>
              <a:ext cx="4114800" cy="31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riticiz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justify 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b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upport your reason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nclud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ssess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3520" y="2971800"/>
              <a:ext cx="525780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valuat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hoos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stimat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judge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fend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pprais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5T20:37:00Z</dcterms:created>
  <dc:creator>Debbie Candau</dc:creator>
  <dc:description/>
  <dc:language>en-US</dc:language>
  <cp:lastModifiedBy>Judi Yost</cp:lastModifiedBy>
  <dcterms:modified xsi:type="dcterms:W3CDTF">2005-01-24T19:10:37Z</dcterms:modified>
  <cp:revision>101</cp:revision>
  <dc:subject/>
  <dc:title>Bloom’s Taxonomy</dc:title>
</cp:coreProperties>
</file>