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CCD76-81DB-460C-BB0F-E475A7D2B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51EBBF9-DCC8-4A30-96CC-566C2A79B2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4E90B5FE-442D-4985-9B91-0C6A2FDFC4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F8F9A958-824B-4A0F-B45F-25CC6BC38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BF22916-B6F0-45E7-B69E-D325CEBE14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BBB43-45CA-4636-A53E-A23094E737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F6A4005-9773-43AC-8F08-F25BE8B205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0A9D399-9B08-4CF3-A695-980E46968D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271278DA-9F58-409B-A82E-BF7776A87A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C8858C08-61A6-4E3C-8BA3-BCE21FE8B3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A97C649-23CE-48F6-AFFD-17668C3EA4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DD2408BD-B5CD-40F4-8E11-B1B899B504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A50A793-1AF9-4A4A-BF55-212559C92A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DA66F31F-0293-4E5D-9489-15D89D9048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F2F2763-94C4-4551-A0B4-6FB054123F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78972284-40B6-4E0D-8D25-E06ECEB04F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E0ED60AE-8FE4-4E5F-ADFA-836D0D6B32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5DDF25FA-8E3C-4B02-BA8C-B7E6365F9F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66C2AF63-C275-4670-BC3F-276C054CF1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0B902371-B2A1-4449-B95E-A16190A68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AF8A6A10-6B90-4A52-9412-4AADA2FF42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463A6EB-7073-4611-A902-4CB2ED7187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717801C-F1F3-496A-826C-065E11DD4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4258CEE-83A3-48C7-A3C6-0BF42EE85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37F9-055A-4FDB-A05C-A1C184AEC7F5}"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BB50-86DE-4148-87D2-1D5E33AEDF2E}"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1"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7956720" cy="6066000"/>
          </a:xfrm>
          <a:prstGeom prst="rect">
            <a:avLst/>
          </a:prstGeom>
          <a:ln w="0">
            <a:noFill/>
          </a:ln>
        </p:spPr>
      </p:pic>
      <p:sp>
        <p:nvSpPr>
          <p:cNvPr id="204"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
        <p:nvSpPr>
          <p:cNvPr id="3" name="PlaceHolder 2"/>
          <p:cNvSpPr>
            <a:spLocks noGrp="1"/>
          </p:cNvSpPr>
          <p:nvPr>
            <p:ph type="sldNum" idx="2"/>
          </p:nvPr>
        </p:nvSpPr>
        <p:spPr/>
        <p:txBody>
          <a:bodyPr/>
          <a:p>
            <a:fld id="{98A9E786-DB05-4266-9D05-EFC5BBC74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65480" y="2084400"/>
            <a:ext cx="4500360" cy="2247840"/>
          </a:xfrm>
          <a:prstGeom prst="rect">
            <a:avLst/>
          </a:prstGeom>
          <a:ln w="0">
            <a:noFill/>
          </a:ln>
        </p:spPr>
      </p:pic>
      <p:sp>
        <p:nvSpPr>
          <p:cNvPr id="206"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185BB452-891A-4A8D-BA7B-7880FB99711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4"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F8CFB29-379D-459B-B63A-6D2824A8E3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6"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8B26DA0-2B6E-4AAC-8DE9-CC7F892A41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94867423-E90C-48AE-96AD-4D5A67A7E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80"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81"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EFE58FBC-D87F-4959-B04E-7EF9F07DD4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44C159E-0931-4D41-AADA-1C68CCC529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5" name=""/>
          <p:cNvGrpSpPr/>
          <p:nvPr/>
        </p:nvGrpSpPr>
        <p:grpSpPr>
          <a:xfrm>
            <a:off x="990720" y="2133720"/>
            <a:ext cx="7086600" cy="3614760"/>
            <a:chOff x="990720" y="2133720"/>
            <a:chExt cx="7086600" cy="3614760"/>
          </a:xfrm>
        </p:grpSpPr>
        <p:sp>
          <p:nvSpPr>
            <p:cNvPr id="186"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5"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6"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7"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31AB3540-F641-4F1F-A114-4A8DFF683F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9"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00"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64589293-0C1B-45AD-A53A-9AAEC85D4D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02" name="PlaceHolder 2"/>
          <p:cNvSpPr>
            <a:spLocks noGrp="1"/>
          </p:cNvSpPr>
          <p:nvPr>
            <p:ph/>
          </p:nvPr>
        </p:nvSpPr>
        <p:spPr>
          <a:xfrm>
            <a:off x="456840" y="1371600"/>
            <a:ext cx="8458200" cy="45259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D902157-3167-4731-BB2B-6E4203B24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50:07Z</dcterms:modified>
  <cp:revision>197</cp:revision>
  <dc:subject/>
  <dc:title>Why Essential Questions?</dc:title>
</cp:coreProperties>
</file>