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Lst>
  <p:sldSz cx="9144000" cy="6858000"/>
  <p:notesSz cx="6858000" cy="9144000"/>
  <p:custShowLst>
    <p:custShow name="Custom Show 1" id="0">
      <p:sldLst>
        <p:sld r:id="rId6"/>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8E520D5-AD32-4E9C-AC51-68B3E466E86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5" name="PlaceHolder 4"/>
          <p:cNvSpPr>
            <a:spLocks noGrp="1"/>
          </p:cNvSpPr>
          <p:nvPr>
            <p:ph type="sldNum" idx="1"/>
          </p:nvPr>
        </p:nvSpPr>
        <p:spPr/>
        <p:txBody>
          <a:bodyPr/>
          <a:p>
            <a:fld id="{7ADB1B57-CDA2-4142-BC12-1B178AC93D1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7" name="PlaceHolder 6"/>
          <p:cNvSpPr>
            <a:spLocks noGrp="1"/>
          </p:cNvSpPr>
          <p:nvPr>
            <p:ph type="sldNum" idx="1"/>
          </p:nvPr>
        </p:nvSpPr>
        <p:spPr/>
        <p:txBody>
          <a:bodyPr/>
          <a:p>
            <a:fld id="{E26627A9-7A11-4676-891B-A7D4B12088D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9" name="PlaceHolder 8"/>
          <p:cNvSpPr>
            <a:spLocks noGrp="1"/>
          </p:cNvSpPr>
          <p:nvPr>
            <p:ph type="sldNum" idx="1"/>
          </p:nvPr>
        </p:nvSpPr>
        <p:spPr/>
        <p:txBody>
          <a:bodyPr/>
          <a:p>
            <a:fld id="{E08ED250-7138-416B-BF11-CDB150F53ED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 name="PlaceHolder 3"/>
          <p:cNvSpPr>
            <a:spLocks noGrp="1"/>
          </p:cNvSpPr>
          <p:nvPr>
            <p:ph type="sldNum" idx="1"/>
          </p:nvPr>
        </p:nvSpPr>
        <p:spPr/>
        <p:txBody>
          <a:bodyPr/>
          <a:p>
            <a:fld id="{168A625C-DFDF-429A-8E81-19D208089DC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AAE24D0-1698-4005-A887-B3075C3EF591}"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9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 name="PlaceHolder 3"/>
          <p:cNvSpPr>
            <a:spLocks noGrp="1"/>
          </p:cNvSpPr>
          <p:nvPr>
            <p:ph type="sldNum" idx="2"/>
          </p:nvPr>
        </p:nvSpPr>
        <p:spPr/>
        <p:txBody>
          <a:bodyPr/>
          <a:p>
            <a:fld id="{76A28D3C-97D0-4C16-92DE-D1BF89EC3CDA}"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 name="PlaceHolder 3"/>
          <p:cNvSpPr>
            <a:spLocks noGrp="1"/>
          </p:cNvSpPr>
          <p:nvPr>
            <p:ph type="sldNum" idx="2"/>
          </p:nvPr>
        </p:nvSpPr>
        <p:spPr/>
        <p:txBody>
          <a:bodyPr/>
          <a:p>
            <a:fld id="{CBFFDB30-0F47-4504-A5C2-E8D884A166A3}"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5" name="PlaceHolder 4"/>
          <p:cNvSpPr>
            <a:spLocks noGrp="1"/>
          </p:cNvSpPr>
          <p:nvPr>
            <p:ph type="sldNum" idx="2"/>
          </p:nvPr>
        </p:nvSpPr>
        <p:spPr/>
        <p:txBody>
          <a:bodyPr/>
          <a:p>
            <a:fld id="{DCBFD0F3-4C0C-4B62-AF34-5854CCD738BF}"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 name="PlaceHolder 2"/>
          <p:cNvSpPr>
            <a:spLocks noGrp="1"/>
          </p:cNvSpPr>
          <p:nvPr>
            <p:ph type="sldNum" idx="2"/>
          </p:nvPr>
        </p:nvSpPr>
        <p:spPr/>
        <p:txBody>
          <a:bodyPr/>
          <a:p>
            <a:fld id="{8B951BC5-CB2E-46C2-B784-BB810387F13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 name="PlaceHolder 3"/>
          <p:cNvSpPr>
            <a:spLocks noGrp="1"/>
          </p:cNvSpPr>
          <p:nvPr>
            <p:ph type="sldNum" idx="1"/>
          </p:nvPr>
        </p:nvSpPr>
        <p:spPr/>
        <p:txBody>
          <a:bodyPr/>
          <a:p>
            <a:fld id="{44EEBA6E-0B60-4D6F-9179-139368CAEF47}"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3" name="PlaceHolder 2"/>
          <p:cNvSpPr>
            <a:spLocks noGrp="1"/>
          </p:cNvSpPr>
          <p:nvPr>
            <p:ph type="sldNum" idx="2"/>
          </p:nvPr>
        </p:nvSpPr>
        <p:spPr/>
        <p:txBody>
          <a:bodyPr/>
          <a:p>
            <a:fld id="{221C8AAD-9D20-4412-AD2A-00038EB5C1EC}"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 name="PlaceHolder 5"/>
          <p:cNvSpPr>
            <a:spLocks noGrp="1"/>
          </p:cNvSpPr>
          <p:nvPr>
            <p:ph type="sldNum" idx="2"/>
          </p:nvPr>
        </p:nvSpPr>
        <p:spPr/>
        <p:txBody>
          <a:bodyPr/>
          <a:p>
            <a:fld id="{EAB8A959-83DA-430E-9A3E-6D26A8AC7F8E}"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0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 name="PlaceHolder 5"/>
          <p:cNvSpPr>
            <a:spLocks noGrp="1"/>
          </p:cNvSpPr>
          <p:nvPr>
            <p:ph type="sldNum" idx="2"/>
          </p:nvPr>
        </p:nvSpPr>
        <p:spPr/>
        <p:txBody>
          <a:bodyPr/>
          <a:p>
            <a:fld id="{7426A1B7-1AC8-4FAA-B9AF-71EE833175F7}"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1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 name="PlaceHolder 5"/>
          <p:cNvSpPr>
            <a:spLocks noGrp="1"/>
          </p:cNvSpPr>
          <p:nvPr>
            <p:ph type="sldNum" idx="2"/>
          </p:nvPr>
        </p:nvSpPr>
        <p:spPr/>
        <p:txBody>
          <a:bodyPr/>
          <a:p>
            <a:fld id="{72461D88-E441-4AE3-994A-FB8A34E5838D}"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1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1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5" name="PlaceHolder 4"/>
          <p:cNvSpPr>
            <a:spLocks noGrp="1"/>
          </p:cNvSpPr>
          <p:nvPr>
            <p:ph type="sldNum" idx="2"/>
          </p:nvPr>
        </p:nvSpPr>
        <p:spPr/>
        <p:txBody>
          <a:bodyPr/>
          <a:p>
            <a:fld id="{E53707FB-BCD1-4636-A070-D1B08340AB0B}"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1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7" name="PlaceHolder 6"/>
          <p:cNvSpPr>
            <a:spLocks noGrp="1"/>
          </p:cNvSpPr>
          <p:nvPr>
            <p:ph type="sldNum" idx="2"/>
          </p:nvPr>
        </p:nvSpPr>
        <p:spPr/>
        <p:txBody>
          <a:bodyPr/>
          <a:p>
            <a:fld id="{51D0390B-9FC1-4C83-85BE-984F0FE9FA8C}"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2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2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2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2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2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2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9" name="PlaceHolder 8"/>
          <p:cNvSpPr>
            <a:spLocks noGrp="1"/>
          </p:cNvSpPr>
          <p:nvPr>
            <p:ph type="sldNum" idx="2"/>
          </p:nvPr>
        </p:nvSpPr>
        <p:spPr/>
        <p:txBody>
          <a:bodyPr/>
          <a:p>
            <a:fld id="{86A9B12F-5E20-4691-AE8A-524AF5AB7842}"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3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5" name="PlaceHolder 4"/>
          <p:cNvSpPr>
            <a:spLocks noGrp="1"/>
          </p:cNvSpPr>
          <p:nvPr>
            <p:ph type="sldNum" idx="1"/>
          </p:nvPr>
        </p:nvSpPr>
        <p:spPr/>
        <p:txBody>
          <a:bodyPr/>
          <a:p>
            <a:fld id="{00F92285-345B-42E8-92D1-404A4AC4539A}"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5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5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5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5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6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6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6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6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6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6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6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 name="PlaceHolder 2"/>
          <p:cNvSpPr>
            <a:spLocks noGrp="1"/>
          </p:cNvSpPr>
          <p:nvPr>
            <p:ph type="sldNum" idx="1"/>
          </p:nvPr>
        </p:nvSpPr>
        <p:spPr/>
        <p:txBody>
          <a:bodyPr/>
          <a:p>
            <a:fld id="{8753599D-8DE4-4BDC-BFA8-FBE105A7791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3" name="PlaceHolder 2"/>
          <p:cNvSpPr>
            <a:spLocks noGrp="1"/>
          </p:cNvSpPr>
          <p:nvPr>
            <p:ph type="sldNum" idx="1"/>
          </p:nvPr>
        </p:nvSpPr>
        <p:spPr/>
        <p:txBody>
          <a:bodyPr/>
          <a:p>
            <a:fld id="{3FAFA245-9DFA-4485-BA42-4AB181EB0BF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 name="PlaceHolder 5"/>
          <p:cNvSpPr>
            <a:spLocks noGrp="1"/>
          </p:cNvSpPr>
          <p:nvPr>
            <p:ph type="sldNum" idx="1"/>
          </p:nvPr>
        </p:nvSpPr>
        <p:spPr/>
        <p:txBody>
          <a:bodyPr/>
          <a:p>
            <a:fld id="{B4AC0EDB-466D-45EF-A41D-4B96B318669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 name="PlaceHolder 5"/>
          <p:cNvSpPr>
            <a:spLocks noGrp="1"/>
          </p:cNvSpPr>
          <p:nvPr>
            <p:ph type="sldNum" idx="1"/>
          </p:nvPr>
        </p:nvSpPr>
        <p:spPr/>
        <p:txBody>
          <a:bodyPr/>
          <a:p>
            <a:fld id="{82CDDF0B-805F-4B3E-BCBC-31030B77CA5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 name="PlaceHolder 5"/>
          <p:cNvSpPr>
            <a:spLocks noGrp="1"/>
          </p:cNvSpPr>
          <p:nvPr>
            <p:ph type="sldNum" idx="1"/>
          </p:nvPr>
        </p:nvSpPr>
        <p:spPr/>
        <p:txBody>
          <a:bodyPr/>
          <a:p>
            <a:fld id="{C2C0F21E-EDE0-419E-8A1D-F6AAB76FC65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3.jpe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3240" y="6029280"/>
            <a:ext cx="9140760" cy="828720"/>
          </a:xfrm>
          <a:prstGeom prst="rect">
            <a:avLst/>
          </a:prstGeom>
          <a:solidFill>
            <a:srgbClr val="086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860a8"/>
                </a:solidFill>
                <a:latin typeface="Verdana"/>
              </a:rPr>
              <a:t>Click to edit the title text format</a:t>
            </a:r>
            <a:endParaRPr b="1" lang="en-US" sz="2600" spc="-1" strike="noStrike">
              <a:solidFill>
                <a:srgbClr val="0860a8"/>
              </a:solidFill>
              <a:latin typeface="Verdana"/>
            </a:endParaRPr>
          </a:p>
        </p:txBody>
      </p:sp>
      <p:sp>
        <p:nvSpPr>
          <p:cNvPr id="2" name="PlaceHolder 2"/>
          <p:cNvSpPr>
            <a:spLocks noGrp="1"/>
          </p:cNvSpPr>
          <p:nvPr>
            <p:ph type="body"/>
          </p:nvPr>
        </p:nvSpPr>
        <p:spPr>
          <a:xfrm>
            <a:off x="455760" y="1371240"/>
            <a:ext cx="8237520" cy="4343400"/>
          </a:xfrm>
          <a:prstGeom prst="rect">
            <a:avLst/>
          </a:prstGeom>
          <a:noFill/>
          <a:ln w="0">
            <a:noFill/>
          </a:ln>
        </p:spPr>
        <p:txBody>
          <a:bodyPr lIns="0" rIns="0" tIns="0" bIns="0" anchor="t">
            <a:normAutofit/>
          </a:bodyPr>
          <a:p>
            <a:pPr indent="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Click to edit the outline text format</a:t>
            </a:r>
            <a:endParaRPr b="0" lang="en-US" sz="1800" spc="-1" strike="noStrike">
              <a:solidFill>
                <a:srgbClr val="0860a8"/>
              </a:solidFill>
              <a:latin typeface="Verdana"/>
            </a:endParaRPr>
          </a:p>
          <a:p>
            <a:pPr lvl="1" marL="246240" indent="-244800">
              <a:spcBef>
                <a:spcPts val="1349"/>
              </a:spcBef>
              <a:buClr>
                <a:srgbClr val="0860a8"/>
              </a:buClr>
              <a:buSzPct val="12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Second Outline Level</a:t>
            </a:r>
            <a:endParaRPr b="0" lang="en-US" sz="1800" spc="-1" strike="noStrike">
              <a:solidFill>
                <a:srgbClr val="0860a8"/>
              </a:solidFill>
              <a:latin typeface="Verdana"/>
            </a:endParaRPr>
          </a:p>
          <a:p>
            <a:pPr lvl="2" marL="571680" indent="-324000">
              <a:spcBef>
                <a:spcPts val="1349"/>
              </a:spcBef>
              <a:buClr>
                <a:srgbClr val="0860a8"/>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Third Outline Level</a:t>
            </a:r>
            <a:endParaRPr b="0" lang="en-US" sz="1800" spc="-1" strike="noStrike">
              <a:solidFill>
                <a:srgbClr val="0860a8"/>
              </a:solidFill>
              <a:latin typeface="Verdana"/>
            </a:endParaRPr>
          </a:p>
          <a:p>
            <a:pPr lvl="3" marL="725400" indent="-152280">
              <a:spcBef>
                <a:spcPts val="1349"/>
              </a:spcBef>
              <a:buClr>
                <a:srgbClr val="0860a8"/>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Fourth Outline Level</a:t>
            </a:r>
            <a:endParaRPr b="0" lang="en-US" sz="1800" spc="-1" strike="noStrike">
              <a:solidFill>
                <a:srgbClr val="0860a8"/>
              </a:solidFill>
              <a:latin typeface="Verdana"/>
            </a:endParaRPr>
          </a:p>
          <a:p>
            <a:pPr lvl="4" marL="1136520" indent="-409320">
              <a:spcBef>
                <a:spcPts val="1349"/>
              </a:spcBef>
              <a:buClr>
                <a:srgbClr val="0860a8"/>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Fifth Outline Level</a:t>
            </a:r>
            <a:endParaRPr b="0" lang="en-US" sz="1800" spc="-1" strike="noStrike">
              <a:solidFill>
                <a:srgbClr val="0860a8"/>
              </a:solidFill>
              <a:latin typeface="Verdana"/>
            </a:endParaRPr>
          </a:p>
          <a:p>
            <a:pPr lvl="5" marL="1136520" indent="-409320">
              <a:spcBef>
                <a:spcPts val="1349"/>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Sixth Outline Level</a:t>
            </a:r>
            <a:endParaRPr b="0" lang="en-US" sz="1800" spc="-1" strike="noStrike">
              <a:solidFill>
                <a:srgbClr val="0860a8"/>
              </a:solidFill>
              <a:latin typeface="Verdana"/>
            </a:endParaRPr>
          </a:p>
          <a:p>
            <a:pPr lvl="6" marL="1136520" indent="-409320">
              <a:spcBef>
                <a:spcPts val="1349"/>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Seventh Outline Level</a:t>
            </a:r>
            <a:endParaRPr b="0" lang="en-US" sz="1800" spc="-1" strike="noStrike">
              <a:solidFill>
                <a:srgbClr val="0860a8"/>
              </a:solidFill>
              <a:latin typeface="Verdana"/>
            </a:endParaRPr>
          </a:p>
        </p:txBody>
      </p:sp>
      <p:sp>
        <p:nvSpPr>
          <p:cNvPr id="3" name="PlaceHolder 3"/>
          <p:cNvSpPr>
            <a:spLocks noGrp="1"/>
          </p:cNvSpPr>
          <p:nvPr>
            <p:ph type="sldNum" idx="1"/>
          </p:nvPr>
        </p:nvSpPr>
        <p:spPr>
          <a:xfrm>
            <a:off x="455400" y="6357600"/>
            <a:ext cx="415800" cy="30492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8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490EFE-206D-428F-AD03-AD84F9E1D73B}" type="slidenum">
              <a:rPr b="1" lang="en-US" sz="800" spc="-1" strike="noStrike">
                <a:solidFill>
                  <a:srgbClr val="ffffff"/>
                </a:solidFill>
                <a:latin typeface="Verdana"/>
              </a:rPr>
              <a:t>&lt;number&gt;</a:t>
            </a:fld>
            <a:endParaRPr b="0" lang="en-US" sz="800" spc="-1" strike="noStrike">
              <a:solidFill>
                <a:srgbClr val="000000"/>
              </a:solidFill>
              <a:latin typeface="Times New Roman"/>
            </a:endParaRPr>
          </a:p>
        </p:txBody>
      </p:sp>
      <p:sp>
        <p:nvSpPr>
          <p:cNvPr id="4" name=""/>
          <p:cNvSpPr/>
          <p:nvPr/>
        </p:nvSpPr>
        <p:spPr>
          <a:xfrm>
            <a:off x="1727280" y="5856120"/>
            <a:ext cx="3908520" cy="1069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Verdana"/>
              </a:rPr>
              <a:t>Copyright © 2006, Intel Corporation. All rights reserved.</a:t>
            </a:r>
            <a:endParaRPr b="0" lang="en-US" sz="700" spc="-1" strike="noStrike">
              <a:solidFill>
                <a:srgbClr val="ffffff"/>
              </a:solidFill>
              <a:latin typeface="Times New Roman"/>
            </a:endParaRPr>
          </a:p>
        </p:txBody>
      </p:sp>
      <p:pic>
        <p:nvPicPr>
          <p:cNvPr id="5" name="" descr=""/>
          <p:cNvPicPr/>
          <p:nvPr/>
        </p:nvPicPr>
        <p:blipFill>
          <a:blip r:embed="rId2"/>
          <a:stretch/>
        </p:blipFill>
        <p:spPr>
          <a:xfrm>
            <a:off x="7547040" y="6178680"/>
            <a:ext cx="1116000" cy="556920"/>
          </a:xfrm>
          <a:prstGeom prst="rect">
            <a:avLst/>
          </a:prstGeom>
          <a:ln w="0">
            <a:noFill/>
          </a:ln>
        </p:spPr>
      </p:pic>
      <p:sp>
        <p:nvSpPr>
          <p:cNvPr id="6" name=""/>
          <p:cNvSpPr/>
          <p:nvPr/>
        </p:nvSpPr>
        <p:spPr>
          <a:xfrm>
            <a:off x="903240" y="6491160"/>
            <a:ext cx="6451560" cy="3200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Verdana"/>
              </a:rPr>
              <a:t>Programs of the Intel Education Initiative are funded by the Intel Foundation and Intel Corporation.  </a:t>
            </a:r>
            <a:br>
              <a:rPr sz="700"/>
            </a:br>
            <a:r>
              <a:rPr b="0" lang="en-US" sz="700" spc="-1" strike="noStrike">
                <a:solidFill>
                  <a:srgbClr val="ffffff"/>
                </a:solidFill>
                <a:latin typeface="Verdana"/>
              </a:rPr>
              <a:t>Copyright © 2007 Intel Corporation. All rights reserved. Intel and Intel</a:t>
            </a:r>
            <a:r>
              <a:rPr b="0" lang="en-US" sz="700" spc="-1" strike="noStrike" baseline="30000">
                <a:solidFill>
                  <a:srgbClr val="ffffff"/>
                </a:solidFill>
                <a:latin typeface="Symbol"/>
                <a:ea typeface="Symbol"/>
              </a:rPr>
              <a:t></a:t>
            </a:r>
            <a:r>
              <a:rPr b="0" lang="en-US" sz="700" spc="-1" strike="noStrike">
                <a:solidFill>
                  <a:srgbClr val="ffffff"/>
                </a:solidFill>
                <a:latin typeface="Verdana"/>
              </a:rPr>
              <a:t> Education are trademarks or registered trademarks of Intel Corporation or its subsidiaries in the United States and other countries.  *Other names and brands may be claimed as the property of others.</a:t>
            </a:r>
            <a:endParaRPr b="0" lang="en-US" sz="7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6480000" y="307800"/>
            <a:ext cx="2184480" cy="1092240"/>
          </a:xfrm>
          <a:prstGeom prst="rect">
            <a:avLst/>
          </a:prstGeom>
          <a:ln w="0">
            <a:noFill/>
          </a:ln>
        </p:spPr>
      </p:pic>
      <p:sp>
        <p:nvSpPr>
          <p:cNvPr id="44" name="PlaceHolder 1"/>
          <p:cNvSpPr>
            <a:spLocks noGrp="1"/>
          </p:cNvSpPr>
          <p:nvPr>
            <p:ph type="title"/>
          </p:nvPr>
        </p:nvSpPr>
        <p:spPr>
          <a:xfrm>
            <a:off x="0" y="2565000"/>
            <a:ext cx="8763120" cy="66060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860a8"/>
                </a:solidFill>
                <a:latin typeface="Verdana"/>
              </a:rPr>
              <a:t>Click to edit the title text format</a:t>
            </a:r>
            <a:endParaRPr b="0" lang="en-US" sz="4100" spc="-1" strike="noStrike">
              <a:solidFill>
                <a:srgbClr val="0860a8"/>
              </a:solidFill>
              <a:latin typeface="Verdana"/>
            </a:endParaRPr>
          </a:p>
        </p:txBody>
      </p:sp>
      <p:sp>
        <p:nvSpPr>
          <p:cNvPr id="45" name=""/>
          <p:cNvSpPr/>
          <p:nvPr/>
        </p:nvSpPr>
        <p:spPr>
          <a:xfrm>
            <a:off x="0" y="6070680"/>
            <a:ext cx="482760" cy="673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 name=""/>
          <p:cNvSpPr/>
          <p:nvPr/>
        </p:nvSpPr>
        <p:spPr>
          <a:xfrm>
            <a:off x="360360" y="6472080"/>
            <a:ext cx="6451560" cy="3200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860a8"/>
                </a:solidFill>
                <a:latin typeface="Verdana"/>
              </a:rPr>
              <a:t>Programs of the Intel Education Initiative are funded by the Intel Foundation and Intel Corporation.  </a:t>
            </a:r>
            <a:br>
              <a:rPr sz="700"/>
            </a:br>
            <a:r>
              <a:rPr b="0" lang="en-US" sz="700" spc="-1" strike="noStrike">
                <a:solidFill>
                  <a:srgbClr val="0860a8"/>
                </a:solidFill>
                <a:latin typeface="Verdana"/>
              </a:rPr>
              <a:t>Copyright © 2007 Intel Corporation. All rights reserved. Intel and Intel</a:t>
            </a:r>
            <a:r>
              <a:rPr b="0" lang="en-US" sz="700" spc="-1" strike="noStrike" baseline="30000">
                <a:solidFill>
                  <a:srgbClr val="0860a8"/>
                </a:solidFill>
                <a:latin typeface="Symbol"/>
                <a:ea typeface="Symbol"/>
              </a:rPr>
              <a:t></a:t>
            </a:r>
            <a:r>
              <a:rPr b="0" lang="en-US" sz="700" spc="-1" strike="noStrike">
                <a:solidFill>
                  <a:srgbClr val="0860a8"/>
                </a:solidFill>
                <a:latin typeface="Verdana"/>
              </a:rPr>
              <a:t> Education are trademarks or registered trademarks of Intel Corporation or its subsidiaries in the United States and other countries.  *Other names and brands may be claimed as the property of others.</a:t>
            </a:r>
            <a:endParaRPr b="0" lang="en-US" sz="7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83" name=""/>
          <p:cNvSpPr/>
          <p:nvPr/>
        </p:nvSpPr>
        <p:spPr>
          <a:xfrm>
            <a:off x="3240" y="6029280"/>
            <a:ext cx="9140760" cy="828720"/>
          </a:xfrm>
          <a:prstGeom prst="rect">
            <a:avLst/>
          </a:prstGeom>
          <a:solidFill>
            <a:srgbClr val="086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sp>
        <p:nvSpPr>
          <p:cNvPr id="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lick to edit the outline text format</a:t>
            </a:r>
            <a:endParaRPr b="0" lang="en-US" sz="2000" spc="-1" strike="noStrike">
              <a:solidFill>
                <a:srgbClr val="ffffff"/>
              </a:solidFill>
              <a:latin typeface="Verdana"/>
            </a:endParaRPr>
          </a:p>
          <a:p>
            <a:pPr lvl="1" marL="743040" indent="-285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cond Outline Level</a:t>
            </a:r>
            <a:endParaRPr b="0" lang="en-US" sz="2000" spc="-1" strike="noStrike">
              <a:solidFill>
                <a:srgbClr val="ffffff"/>
              </a:solidFill>
              <a:latin typeface="Verdana"/>
            </a:endParaRPr>
          </a:p>
          <a:p>
            <a:pPr lvl="2" marL="1143000" indent="-22860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ird Outline Level</a:t>
            </a:r>
            <a:endParaRPr b="0" lang="en-US" sz="2000" spc="-1" strike="noStrike">
              <a:solidFill>
                <a:srgbClr val="ffffff"/>
              </a:solidFill>
              <a:latin typeface="Verdana"/>
            </a:endParaRPr>
          </a:p>
          <a:p>
            <a:pPr lvl="3" marL="1600200" indent="-22860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2057400" indent="-22860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2057400" indent="-22860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2057400" indent="-22860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
        <p:nvSpPr>
          <p:cNvPr id="86" name="PlaceHolder 3"/>
          <p:cNvSpPr>
            <a:spLocks noGrp="1"/>
          </p:cNvSpPr>
          <p:nvPr>
            <p:ph type="sldNum" idx="2"/>
          </p:nvPr>
        </p:nvSpPr>
        <p:spPr>
          <a:xfrm>
            <a:off x="456840" y="6400800"/>
            <a:ext cx="415800" cy="27144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Verdana"/>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66AB0D-D70E-4AFB-8822-3BCC7FAC1004}" type="slidenum">
              <a:rPr b="1" lang="en-US" sz="1000" spc="-1" strike="noStrike">
                <a:solidFill>
                  <a:srgbClr val="ffffff"/>
                </a:solidFill>
                <a:latin typeface="Verdana"/>
                <a:ea typeface="Arial"/>
              </a:rPr>
              <a:t>&lt;number&gt;</a:t>
            </a:fld>
            <a:endParaRPr b="0" lang="en-US" sz="1000" spc="-1" strike="noStrike">
              <a:solidFill>
                <a:srgbClr val="ffffff"/>
              </a:solidFill>
              <a:latin typeface="Times New Roman"/>
            </a:endParaRPr>
          </a:p>
        </p:txBody>
      </p:sp>
      <p:pic>
        <p:nvPicPr>
          <p:cNvPr id="87" name="" descr=""/>
          <p:cNvPicPr/>
          <p:nvPr/>
        </p:nvPicPr>
        <p:blipFill>
          <a:blip r:embed="rId2"/>
          <a:stretch/>
        </p:blipFill>
        <p:spPr>
          <a:xfrm>
            <a:off x="7547040" y="6114960"/>
            <a:ext cx="1116000" cy="557280"/>
          </a:xfrm>
          <a:prstGeom prst="rect">
            <a:avLst/>
          </a:prstGeom>
          <a:ln w="0">
            <a:noFill/>
          </a:ln>
        </p:spPr>
      </p:pic>
      <p:sp>
        <p:nvSpPr>
          <p:cNvPr id="88" name=""/>
          <p:cNvSpPr/>
          <p:nvPr/>
        </p:nvSpPr>
        <p:spPr>
          <a:xfrm>
            <a:off x="966960" y="6350040"/>
            <a:ext cx="645156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Verdana"/>
                <a:ea typeface="Arial"/>
              </a:rPr>
              <a:t>Copyright © 2008, Intel Corporation. All rights reserved. Intel, the Intel logo, Intel Education Initiative, and Intel Teach Program are trademarks of Intel Corporation in the U.S. and other countries. *Other names and brands may be claimed as the property of others.</a:t>
            </a:r>
            <a:endParaRPr b="0" lang="en-US" sz="700" spc="-1" strike="noStrike">
              <a:solidFill>
                <a:srgbClr val="ffffff"/>
              </a:solidFill>
              <a:latin typeface="Times New Roman"/>
            </a:endParaRPr>
          </a:p>
        </p:txBody>
      </p:sp>
      <p:pic>
        <p:nvPicPr>
          <p:cNvPr id="89" name="" descr=""/>
          <p:cNvPicPr/>
          <p:nvPr/>
        </p:nvPicPr>
        <p:blipFill>
          <a:blip r:embed="rId3"/>
          <a:stretch/>
        </p:blipFill>
        <p:spPr>
          <a:xfrm>
            <a:off x="7547040" y="6178680"/>
            <a:ext cx="1116000" cy="556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60a8"/>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241520"/>
            <a:ext cx="7772400" cy="1050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pic>
        <p:nvPicPr>
          <p:cNvPr id="127" name="" descr=""/>
          <p:cNvPicPr/>
          <p:nvPr/>
        </p:nvPicPr>
        <p:blipFill>
          <a:blip r:embed="rId2"/>
          <a:stretch/>
        </p:blipFill>
        <p:spPr>
          <a:xfrm>
            <a:off x="6478560" y="309600"/>
            <a:ext cx="2179800" cy="1089000"/>
          </a:xfrm>
          <a:prstGeom prst="rect">
            <a:avLst/>
          </a:prstGeom>
          <a:ln w="0">
            <a:noFill/>
          </a:ln>
        </p:spPr>
      </p:pic>
      <p:pic>
        <p:nvPicPr>
          <p:cNvPr id="128" name="" descr=""/>
          <p:cNvPicPr/>
          <p:nvPr/>
        </p:nvPicPr>
        <p:blipFill>
          <a:blip r:embed="rId3"/>
          <a:stretch/>
        </p:blipFill>
        <p:spPr>
          <a:xfrm>
            <a:off x="444600" y="1725480"/>
            <a:ext cx="8253360" cy="2541600"/>
          </a:xfrm>
          <a:prstGeom prst="rect">
            <a:avLst/>
          </a:prstGeom>
          <a:ln w="0">
            <a:noFill/>
          </a:ln>
        </p:spPr>
      </p:pic>
      <p:sp>
        <p:nvSpPr>
          <p:cNvPr id="129" name=""/>
          <p:cNvSpPr/>
          <p:nvPr/>
        </p:nvSpPr>
        <p:spPr>
          <a:xfrm>
            <a:off x="966960" y="6350040"/>
            <a:ext cx="645156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Verdana"/>
                <a:ea typeface="Arial"/>
              </a:rPr>
              <a:t>Copyright © 2008, Intel Corporation. All rights reserved. Intel, the Intel logo, Intel Education Initiative, and Intel Teach Program are trademarks of Intel Corporation in the U.S. and other countries. *Other names and brands may be claimed as the property of others.</a:t>
            </a:r>
            <a:endParaRPr b="0" lang="en-US" sz="700" spc="-1" strike="noStrike">
              <a:solidFill>
                <a:srgbClr val="ffffff"/>
              </a:solidFill>
              <a:latin typeface="Times New Roman"/>
            </a:endParaRPr>
          </a:p>
        </p:txBody>
      </p:sp>
      <p:pic>
        <p:nvPicPr>
          <p:cNvPr id="130" name="" descr=""/>
          <p:cNvPicPr/>
          <p:nvPr/>
        </p:nvPicPr>
        <p:blipFill>
          <a:blip r:embed="rId4"/>
          <a:stretch/>
        </p:blipFill>
        <p:spPr>
          <a:xfrm>
            <a:off x="6480000" y="307800"/>
            <a:ext cx="2184480" cy="1092240"/>
          </a:xfrm>
          <a:prstGeom prst="rect">
            <a:avLst/>
          </a:prstGeom>
          <a:ln w="0">
            <a:noFill/>
          </a:ln>
        </p:spPr>
      </p:pic>
      <p:sp>
        <p:nvSpPr>
          <p:cNvPr id="131" name=""/>
          <p:cNvSpPr/>
          <p:nvPr/>
        </p:nvSpPr>
        <p:spPr>
          <a:xfrm>
            <a:off x="0" y="6070680"/>
            <a:ext cx="482760" cy="673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457200" y="5486400"/>
            <a:ext cx="6451560" cy="3200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860a8"/>
                </a:solidFill>
                <a:latin typeface="Verdana"/>
              </a:rPr>
              <a:t>Programs of the Intel Education Initiative are funded by the Intel Foundation and Intel Corporation.  </a:t>
            </a:r>
            <a:br>
              <a:rPr sz="700"/>
            </a:br>
            <a:r>
              <a:rPr b="0" lang="en-US" sz="700" spc="-1" strike="noStrike">
                <a:solidFill>
                  <a:srgbClr val="0860a8"/>
                </a:solidFill>
                <a:latin typeface="Verdana"/>
              </a:rPr>
              <a:t>Copyright © 2007 Intel Corporation. All rights reserved. Intel and Intel</a:t>
            </a:r>
            <a:r>
              <a:rPr b="0" lang="en-US" sz="700" spc="-1" strike="noStrike" baseline="30000">
                <a:solidFill>
                  <a:srgbClr val="0860a8"/>
                </a:solidFill>
                <a:latin typeface="Symbol"/>
                <a:ea typeface="Symbol"/>
              </a:rPr>
              <a:t></a:t>
            </a:r>
            <a:r>
              <a:rPr b="0" lang="en-US" sz="700" spc="-1" strike="noStrike">
                <a:solidFill>
                  <a:srgbClr val="0860a8"/>
                </a:solidFill>
                <a:latin typeface="Verdana"/>
              </a:rPr>
              <a:t> Education are trademarks or registered trademarks of Intel Corporation or its subsidiaries in the United States and other countries.  *Other names and brands may be claimed as the property of others.</a:t>
            </a:r>
            <a:endParaRPr b="0" lang="en-US" sz="700" spc="-1" strike="noStrike">
              <a:solidFill>
                <a:srgbClr val="ffffff"/>
              </a:solidFill>
              <a:latin typeface="Times New Roman"/>
            </a:endParaRPr>
          </a:p>
        </p:txBody>
      </p:sp>
      <p:sp>
        <p:nvSpPr>
          <p:cNvPr id="13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lick to edit the outline text format</a:t>
            </a:r>
            <a:endParaRPr b="0" lang="en-US" sz="2000" spc="-1" strike="noStrike">
              <a:solidFill>
                <a:srgbClr val="ffffff"/>
              </a:solidFill>
              <a:latin typeface="Verdana"/>
            </a:endParaRPr>
          </a:p>
          <a:p>
            <a:pPr lvl="1" marL="457200" indent="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Second Outline Level</a:t>
            </a:r>
            <a:endParaRPr b="0" lang="en-US" sz="1800" spc="-1" strike="noStrike">
              <a:solidFill>
                <a:srgbClr val="ffffff"/>
              </a:solidFill>
              <a:latin typeface="Verdana"/>
            </a:endParaRPr>
          </a:p>
          <a:p>
            <a:pPr lvl="2" marL="914400" algn="ctr">
              <a:spcBef>
                <a:spcPts val="499"/>
              </a:spcBef>
              <a:buClr>
                <a:srgbClr val="ffff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ird Outline Level</a:t>
            </a:r>
            <a:endParaRPr b="0" lang="en-US" sz="2000" spc="-1" strike="noStrike">
              <a:solidFill>
                <a:srgbClr val="ffffff"/>
              </a:solidFill>
              <a:latin typeface="Verdana"/>
            </a:endParaRPr>
          </a:p>
          <a:p>
            <a:pPr lvl="3" marL="1371600" algn="ctr">
              <a:spcBef>
                <a:spcPts val="451"/>
              </a:spcBef>
              <a:buClr>
                <a:srgbClr val="ffff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Fourth Outline Level</a:t>
            </a:r>
            <a:endParaRPr b="0" lang="en-US" sz="1800" spc="-1" strike="noStrike">
              <a:solidFill>
                <a:srgbClr val="ffffff"/>
              </a:solidFill>
              <a:latin typeface="Verdana"/>
            </a:endParaRPr>
          </a:p>
          <a:p>
            <a:pPr lvl="4" marL="1828800" algn="ctr">
              <a:spcBef>
                <a:spcPts val="400"/>
              </a:spcBef>
              <a:buClr>
                <a:srgbClr val="ffffff"/>
              </a:buClr>
              <a:buFont typeface="Verdana"/>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Fifth Outline Level</a:t>
            </a:r>
            <a:endParaRPr b="0" lang="en-US" sz="1600" spc="-1" strike="noStrike">
              <a:solidFill>
                <a:srgbClr val="ffffff"/>
              </a:solidFill>
              <a:latin typeface="Verdana"/>
            </a:endParaRPr>
          </a:p>
          <a:p>
            <a:pPr lvl="5" marL="1828800">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Sixth Outline Level</a:t>
            </a:r>
            <a:endParaRPr b="0" lang="en-US" sz="1600" spc="-1" strike="noStrike">
              <a:solidFill>
                <a:srgbClr val="ffffff"/>
              </a:solidFill>
              <a:latin typeface="Verdana"/>
            </a:endParaRPr>
          </a:p>
          <a:p>
            <a:pPr lvl="6" marL="1828800">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Seventh Outline Level</a:t>
            </a:r>
            <a:endParaRPr b="0" lang="en-US" sz="16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8.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60a8"/>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4241520"/>
            <a:ext cx="7772400" cy="1050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urriculum-Framing Questions</a:t>
            </a:r>
            <a:endParaRPr b="1"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ontent Questions</a:t>
            </a:r>
            <a:endParaRPr b="1" lang="en-US" sz="3200" spc="-1" strike="noStrike">
              <a:solidFill>
                <a:srgbClr val="ffffff"/>
              </a:solidFill>
              <a:latin typeface="Verdana"/>
            </a:endParaRPr>
          </a:p>
        </p:txBody>
      </p:sp>
      <p:sp>
        <p:nvSpPr>
          <p:cNvPr id="201" name="PlaceHolder 2"/>
          <p:cNvSpPr>
            <a:spLocks noGrp="1"/>
          </p:cNvSpPr>
          <p:nvPr>
            <p:ph/>
          </p:nvPr>
        </p:nvSpPr>
        <p:spPr>
          <a:xfrm>
            <a:off x="457200" y="990360"/>
            <a:ext cx="8237520" cy="4343400"/>
          </a:xfrm>
          <a:prstGeom prst="rect">
            <a:avLst/>
          </a:prstGeom>
          <a:noFill/>
          <a:ln w="0">
            <a:noFill/>
          </a:ln>
        </p:spPr>
        <p:txBody>
          <a:bodyPr lIns="90000" rIns="90000" tIns="46800" bIns="46800" anchor="t">
            <a:normAutofit/>
          </a:bodyPr>
          <a:p>
            <a:pPr marL="343080" indent="-34308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Have a narrow set of correct, fact-based answers</a:t>
            </a:r>
            <a:endParaRPr b="0" lang="en-US" sz="2000" spc="-1" strike="noStrike">
              <a:solidFill>
                <a:srgbClr val="ffffff"/>
              </a:solidFill>
              <a:latin typeface="Verdana"/>
            </a:endParaRPr>
          </a:p>
          <a:p>
            <a:pPr marL="343080" indent="-34308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Often relate to definitions, identifications, and general recall of information (example: questions found on a test)</a:t>
            </a:r>
            <a:endParaRPr b="0" lang="en-US" sz="2000" spc="-1" strike="noStrike">
              <a:solidFill>
                <a:srgbClr val="ffffff"/>
              </a:solidFill>
              <a:latin typeface="Verdana"/>
            </a:endParaRPr>
          </a:p>
          <a:p>
            <a:pPr marL="343080" indent="-34308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Help answer the unit questions</a:t>
            </a:r>
            <a:endParaRPr b="0" lang="en-US" sz="2000" spc="-1" strike="noStrike">
              <a:solidFill>
                <a:srgbClr val="ffffff"/>
              </a:solidFill>
              <a:latin typeface="Verdana"/>
            </a:endParaRPr>
          </a:p>
          <a:p>
            <a:pPr marL="343080" indent="-343080">
              <a:lnSpc>
                <a:spcPct val="90000"/>
              </a:lnSpc>
              <a:spcBef>
                <a:spcPts val="499"/>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Verdana"/>
              </a:rPr>
              <a:t>Examples:</a:t>
            </a:r>
            <a:r>
              <a:rPr b="0" i="1" lang="en-US" sz="2000" spc="-1" strike="noStrike">
                <a:solidFill>
                  <a:srgbClr val="ffffff"/>
                </a:solidFill>
                <a:latin typeface="Verdana"/>
              </a:rPr>
              <a:t> </a:t>
            </a:r>
            <a:endParaRPr b="0" lang="en-US" sz="2000" spc="-1" strike="noStrike">
              <a:solidFill>
                <a:srgbClr val="ffffff"/>
              </a:solidFill>
              <a:latin typeface="Verdana"/>
            </a:endParaRPr>
          </a:p>
          <a:p>
            <a:pPr lvl="1" marL="743040" indent="-285840">
              <a:lnSpc>
                <a:spcPct val="90000"/>
              </a:lnSpc>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Verdana"/>
              </a:rPr>
              <a:t>EQ:</a:t>
            </a:r>
            <a:r>
              <a:rPr b="0" i="1" lang="en-US" sz="1800" spc="-1" strike="noStrike">
                <a:solidFill>
                  <a:srgbClr val="ffffff"/>
                </a:solidFill>
                <a:latin typeface="Verdana"/>
              </a:rPr>
              <a:t> </a:t>
            </a:r>
            <a:endParaRPr b="0" lang="en-US" sz="1800" spc="-1" strike="noStrike">
              <a:solidFill>
                <a:srgbClr val="ffffff"/>
              </a:solidFill>
              <a:latin typeface="Verdana"/>
            </a:endParaRPr>
          </a:p>
          <a:p>
            <a:pPr lvl="2" marL="1143000" indent="-228600">
              <a:lnSpc>
                <a:spcPct val="90000"/>
              </a:lnSpc>
              <a:spcBef>
                <a:spcPts val="4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Verdana"/>
              </a:rPr>
              <a:t>Why do we need others?</a:t>
            </a:r>
            <a:endParaRPr b="0" lang="en-US" sz="2000" spc="-1" strike="noStrike">
              <a:solidFill>
                <a:srgbClr val="ffffff"/>
              </a:solidFill>
              <a:latin typeface="Verdana"/>
            </a:endParaRPr>
          </a:p>
          <a:p>
            <a:pPr lvl="1" marL="743040" indent="-285840">
              <a:lnSpc>
                <a:spcPct val="9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Verdana"/>
              </a:rPr>
              <a:t>UQ:</a:t>
            </a:r>
            <a:endParaRPr b="0" lang="en-US" sz="1600" spc="-1" strike="noStrike">
              <a:solidFill>
                <a:srgbClr val="ffffff"/>
              </a:solidFill>
              <a:latin typeface="Verdana"/>
            </a:endParaRPr>
          </a:p>
          <a:p>
            <a:pPr lvl="2" marL="1143000" indent="-228600">
              <a:lnSpc>
                <a:spcPct val="90000"/>
              </a:lnSpc>
              <a:spcBef>
                <a:spcPts val="4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Verdana"/>
              </a:rPr>
              <a:t>Which of our community helpers is the most important? </a:t>
            </a:r>
            <a:endParaRPr b="0" lang="en-US" sz="2000" spc="-1" strike="noStrike">
              <a:solidFill>
                <a:srgbClr val="ffffff"/>
              </a:solidFill>
              <a:latin typeface="Verdana"/>
            </a:endParaRPr>
          </a:p>
          <a:p>
            <a:pPr lvl="2" marL="1143000" indent="-228600">
              <a:lnSpc>
                <a:spcPct val="90000"/>
              </a:lnSpc>
              <a:spcBef>
                <a:spcPts val="4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Verdana"/>
              </a:rPr>
              <a:t>Which community helper would you most like to be? </a:t>
            </a:r>
            <a:endParaRPr b="0" lang="en-US" sz="2000" spc="-1" strike="noStrike">
              <a:solidFill>
                <a:srgbClr val="ffffff"/>
              </a:solidFill>
              <a:latin typeface="Verdana"/>
            </a:endParaRPr>
          </a:p>
          <a:p>
            <a:pPr lvl="1" marL="743040" indent="-285840">
              <a:lnSpc>
                <a:spcPct val="90000"/>
              </a:lnSpc>
              <a:spcBef>
                <a:spcPts val="499"/>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Verdana"/>
              </a:rPr>
              <a:t>CQ:</a:t>
            </a:r>
            <a:endParaRPr b="0" lang="en-US" sz="2000" spc="-1" strike="noStrike">
              <a:solidFill>
                <a:srgbClr val="ffffff"/>
              </a:solidFill>
              <a:latin typeface="Verdana"/>
            </a:endParaRPr>
          </a:p>
          <a:p>
            <a:pPr lvl="2" marL="1143000" indent="-228600">
              <a:lnSpc>
                <a:spcPct val="90000"/>
              </a:lnSpc>
              <a:spcBef>
                <a:spcPts val="499"/>
              </a:spcBef>
              <a:buClr>
                <a:srgbClr val="ffff99"/>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Verdana"/>
              </a:rPr>
              <a:t>Who are some community helpers?</a:t>
            </a:r>
            <a:endParaRPr b="0" lang="en-US" sz="2000" spc="-1" strike="noStrike">
              <a:solidFill>
                <a:srgbClr val="ffffff"/>
              </a:solidFill>
              <a:latin typeface="Verdana"/>
            </a:endParaRPr>
          </a:p>
          <a:p>
            <a:pPr lvl="2" marL="1143000" indent="-228600">
              <a:lnSpc>
                <a:spcPct val="90000"/>
              </a:lnSpc>
              <a:spcBef>
                <a:spcPts val="601"/>
              </a:spcBef>
              <a:buClr>
                <a:srgbClr val="ffff99"/>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Verdana"/>
              </a:rPr>
              <a:t>What do these community helpers do?</a:t>
            </a:r>
            <a:r>
              <a:rPr b="1" i="1" lang="en-US" sz="2400" spc="-1" strike="noStrike">
                <a:solidFill>
                  <a:srgbClr val="ffff99"/>
                </a:solidFill>
                <a:latin typeface="Verdana"/>
              </a:rPr>
              <a:t> </a:t>
            </a:r>
            <a:endParaRPr b="0" lang="en-US" sz="2400" spc="-1" strike="noStrike">
              <a:solidFill>
                <a:srgbClr val="ffffff"/>
              </a:solidFill>
              <a:latin typeface="Verdana"/>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4" name="PlaceHolder 3"/>
          <p:cNvSpPr>
            <a:spLocks noGrp="1"/>
          </p:cNvSpPr>
          <p:nvPr>
            <p:ph type="sldNum" idx="2"/>
          </p:nvPr>
        </p:nvSpPr>
        <p:spPr/>
        <p:txBody>
          <a:bodyPr/>
          <a:p>
            <a:fld id="{0F848447-C9E7-4B86-B084-8F70A4649E2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What is the Difference Between an Essential Question and a Content Question?</a:t>
            </a:r>
            <a:endParaRPr b="1" lang="en-US" sz="3200" spc="-1" strike="noStrike">
              <a:solidFill>
                <a:srgbClr val="ffffff"/>
              </a:solidFill>
              <a:latin typeface="Verdana"/>
            </a:endParaRPr>
          </a:p>
        </p:txBody>
      </p:sp>
      <p:graphicFrame>
        <p:nvGraphicFramePr>
          <p:cNvPr id="203" name=""/>
          <p:cNvGraphicFramePr/>
          <p:nvPr/>
        </p:nvGraphicFramePr>
        <p:xfrm>
          <a:off x="457200" y="1600200"/>
          <a:ext cx="8229600" cy="4476600"/>
        </p:xfrm>
        <a:graphic>
          <a:graphicData uri="http://schemas.openxmlformats.org/drawingml/2006/table">
            <a:tbl>
              <a:tblPr/>
              <a:tblGrid>
                <a:gridCol w="4037040"/>
                <a:gridCol w="4192560"/>
              </a:tblGrid>
              <a:tr h="703800">
                <a:tc>
                  <a: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Arial"/>
                        </a:rPr>
                        <a:t>Essential Questions</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0099"/>
                    </a:solidFill>
                  </a:tcPr>
                </a:tc>
                <a:tc>
                  <a: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Arial"/>
                        </a:rPr>
                        <a:t>Fact-based, “One” Answer Content Questions</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0099"/>
                    </a:solidFill>
                  </a:tcPr>
                </a:tc>
              </a:tr>
              <a:tr h="703800">
                <a:tc>
                  <a:txBody>
                    <a:bodyPr lIns="90000" rIns="90000" tIns="46800" bIns="46800" anchor="t">
                      <a:noAutofit/>
                    </a:bodyPr>
                    <a:p>
                      <a:pPr marL="343080" indent="-343080">
                        <a:lnSpc>
                          <a:spcPct val="10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Arial"/>
                        </a:rPr>
                        <a:t>How does art reflect culture or change it?</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Arial"/>
                        </a:rPr>
                        <a:t>What is renaissance art? </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1000440">
                <a:tc>
                  <a:txBody>
                    <a:bodyPr lIns="90000" rIns="90000" tIns="46800" bIns="46800" anchor="t">
                      <a:noAutofit/>
                    </a:bodyPr>
                    <a:p>
                      <a:pPr marL="343080" indent="-343080">
                        <a:lnSpc>
                          <a:spcPct val="10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Arial"/>
                        </a:rPr>
                        <a:t>How does an organism succeed in its environment?</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Arial"/>
                        </a:rPr>
                        <a:t>What is the life cycle of a frog?</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703800">
                <a:tc>
                  <a:txBody>
                    <a:bodyPr lIns="90000" rIns="90000" tIns="46800" bIns="46800" anchor="t">
                      <a:noAutofit/>
                    </a:bodyPr>
                    <a:p>
                      <a:pPr marL="343080" indent="-343080">
                        <a:lnSpc>
                          <a:spcPct val="10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Arial"/>
                        </a:rPr>
                        <a:t>How does conflict produce change?</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Arial"/>
                        </a:rPr>
                        <a:t>What is the conflict in the story?</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606960">
                <a:tc>
                  <a:txBody>
                    <a:bodyPr lIns="90000" rIns="90000" tIns="46800" bIns="46800" anchor="t">
                      <a:noAutofit/>
                    </a:bodyPr>
                    <a:p>
                      <a:pPr marL="343080" indent="-343080">
                        <a:lnSpc>
                          <a:spcPct val="10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Arial"/>
                        </a:rPr>
                        <a:t>Why do laws change?</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Arial"/>
                        </a:rPr>
                        <a:t>How are laws made?</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757800">
                <a:tc>
                  <a:txBody>
                    <a:bodyPr lIns="90000" rIns="90000" tIns="46800" bIns="46800" anchor="t">
                      <a:noAutofit/>
                    </a:bodyPr>
                    <a:p>
                      <a:pPr marL="343080" indent="-343080">
                        <a:lnSpc>
                          <a:spcPct val="10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Arial"/>
                        </a:rPr>
                        <a:t>Is history a history of progress?</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Arial"/>
                        </a:rPr>
                        <a:t>Who is an important inventor and what did he/she invent?</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3" name="PlaceHolder 2"/>
          <p:cNvSpPr>
            <a:spLocks noGrp="1"/>
          </p:cNvSpPr>
          <p:nvPr>
            <p:ph type="sldNum" idx="2"/>
          </p:nvPr>
        </p:nvSpPr>
        <p:spPr/>
        <p:txBody>
          <a:bodyPr/>
          <a:p>
            <a:fld id="{D69DBB9D-7A24-4063-8F85-AB32039137E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204" name=""/>
          <p:cNvSpPr/>
          <p:nvPr/>
        </p:nvSpPr>
        <p:spPr>
          <a:xfrm>
            <a:off x="304920" y="304920"/>
            <a:ext cx="8535960" cy="888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Arial"/>
              </a:rPr>
              <a:t>How Do Content, Unit, and Essential Questions Support Learning?</a:t>
            </a:r>
            <a:endParaRPr b="0" lang="en-US" sz="3200" spc="-1" strike="noStrike">
              <a:solidFill>
                <a:srgbClr val="ffffff"/>
              </a:solidFill>
              <a:latin typeface="Times New Roman"/>
            </a:endParaRPr>
          </a:p>
        </p:txBody>
      </p:sp>
      <p:graphicFrame>
        <p:nvGraphicFramePr>
          <p:cNvPr id="205" name=""/>
          <p:cNvGraphicFramePr/>
          <p:nvPr/>
        </p:nvGraphicFramePr>
        <p:xfrm>
          <a:off x="304920" y="1371600"/>
          <a:ext cx="8237520" cy="4648320"/>
        </p:xfrm>
        <a:graphic>
          <a:graphicData uri="http://schemas.openxmlformats.org/drawingml/2006/table">
            <a:tbl>
              <a:tblPr/>
              <a:tblGrid>
                <a:gridCol w="1753920"/>
                <a:gridCol w="6483600"/>
              </a:tblGrid>
              <a:tr h="733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ea typeface="Arial"/>
                        </a:rPr>
                        <a:t>Sample Standard</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0099"/>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Arial"/>
                        </a:rPr>
                        <a:t>Concept 3:  Organisms and Environments</a:t>
                      </a:r>
                      <a:br>
                        <a:rPr sz="1400"/>
                      </a:br>
                      <a:r>
                        <a:rPr b="0" lang="en-US" sz="1400" spc="-1" strike="noStrike">
                          <a:solidFill>
                            <a:srgbClr val="ffffff"/>
                          </a:solidFill>
                          <a:latin typeface="Verdana"/>
                          <a:ea typeface="Arial"/>
                        </a:rPr>
                        <a:t>Understand the relationships among various organisms and their environment.</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5850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ea typeface="Arial"/>
                        </a:rPr>
                        <a:t>Sample objective</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00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Arial"/>
                        </a:rPr>
                        <a:t>Students will be able to identify an ecosystem and explain how the organisms within an ecosystem are connected and interdependent.</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5850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ea typeface="Arial"/>
                        </a:rPr>
                        <a:t>Content Questions</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0099"/>
                    </a:solidFill>
                  </a:tcPr>
                </a:tc>
                <a:tc>
                  <a:txBody>
                    <a:bodyPr lIns="90000" rIns="90000" tIns="46800" bIns="46800" anchor="t">
                      <a:noAutofit/>
                    </a:bodyPr>
                    <a:p>
                      <a:pPr lvl="1" marL="227160" indent="230040">
                        <a:lnSpc>
                          <a:spcPct val="100000"/>
                        </a:lnSpc>
                        <a:spcBef>
                          <a:spcPts val="3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Arial"/>
                        </a:rPr>
                        <a:t>How do I collect information and display it in a graph?</a:t>
                      </a:r>
                      <a:endParaRPr b="0" lang="en-US" sz="1200" spc="-1" strike="noStrike">
                        <a:solidFill>
                          <a:srgbClr val="ffffff"/>
                        </a:solidFill>
                        <a:latin typeface="Times New Roman"/>
                      </a:endParaRPr>
                    </a:p>
                    <a:p>
                      <a:pPr lvl="1" marL="227160" indent="230040">
                        <a:lnSpc>
                          <a:spcPct val="100000"/>
                        </a:lnSpc>
                        <a:spcBef>
                          <a:spcPts val="3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Arial"/>
                        </a:rPr>
                        <a:t>What urban animals are there and what do they need to survive?</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ea typeface="Arial"/>
                        </a:rPr>
                        <a:t>Unit</a:t>
                      </a:r>
                      <a:br>
                        <a:rPr sz="1600"/>
                      </a:br>
                      <a:r>
                        <a:rPr b="1" lang="en-US" sz="1600" spc="-1" strike="noStrike">
                          <a:solidFill>
                            <a:srgbClr val="ffffff"/>
                          </a:solidFill>
                          <a:latin typeface="Verdana"/>
                          <a:ea typeface="Arial"/>
                        </a:rPr>
                        <a:t>Question</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0099"/>
                    </a:solidFill>
                  </a:tcPr>
                </a:tc>
                <a:tc>
                  <a:txBody>
                    <a:bodyPr lIns="90000" rIns="90000" tIns="46800" bIns="46800" anchor="t">
                      <a:no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Arial"/>
                        </a:rPr>
                        <a:t>How can urban wildlife and humans live together successfully?</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5850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ea typeface="Arial"/>
                        </a:rPr>
                        <a:t>Essential Question</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0099"/>
                    </a:solidFill>
                  </a:tcPr>
                </a:tc>
                <a:tc>
                  <a:txBody>
                    <a:bodyPr lIns="90000" rIns="90000" tIns="46800" bIns="46800" anchor="t">
                      <a:no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Arial"/>
                        </a:rPr>
                        <a:t>How can we all get along? </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1579320">
                <a:tc>
                  <a:txBody>
                    <a:bodyPr lIns="90000" rIns="90000" tIns="46800" bIns="46800" anchor="t">
                      <a:no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ea typeface="Arial"/>
                        </a:rPr>
                        <a:t>Project</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0099"/>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Arial"/>
                        </a:rPr>
                        <a:t>Using actual wildlife injury data from a local wildlife rescue center, students learn what animal species have been injured, the causes of injury, and the effects of reduced urban wildlife. Students provide recommendations to reduce human caused injury to wildlife and present a summary of their findings and recommendations to the local Audubon Society, the Humane Society, neighborhood associations, and other interested groups. At the end of each public presentation, students gather public reaction to the data, and publish the findings and ideas in an informational brochure for the public.</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2" name="PlaceHolder 1"/>
          <p:cNvSpPr>
            <a:spLocks noGrp="1"/>
          </p:cNvSpPr>
          <p:nvPr>
            <p:ph type="sldNum" idx="2"/>
          </p:nvPr>
        </p:nvSpPr>
        <p:spPr/>
        <p:txBody>
          <a:bodyPr/>
          <a:p>
            <a:fld id="{2B158960-DFA5-4FA0-B1F3-1C2EFCE4CD9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c2e86"/>
        </a:solidFill>
      </p:bgPr>
    </p:bg>
    <p:spTree>
      <p:nvGrpSpPr>
        <p:cNvPr id="1" name=""/>
        <p:cNvGrpSpPr/>
        <p:nvPr/>
      </p:nvGrpSpPr>
      <p:grpSpPr>
        <a:xfrm>
          <a:off x="0" y="0"/>
          <a:ext cx="0" cy="0"/>
          <a:chOff x="0" y="0"/>
          <a:chExt cx="0" cy="0"/>
        </a:xfrm>
      </p:grpSpPr>
      <p:pic>
        <p:nvPicPr>
          <p:cNvPr id="206" name="" descr=""/>
          <p:cNvPicPr/>
          <p:nvPr/>
        </p:nvPicPr>
        <p:blipFill>
          <a:blip r:embed="rId1"/>
          <a:stretch/>
        </p:blipFill>
        <p:spPr>
          <a:xfrm>
            <a:off x="2265480" y="2084400"/>
            <a:ext cx="4500360" cy="2247840"/>
          </a:xfrm>
          <a:prstGeom prst="rect">
            <a:avLst/>
          </a:prstGeom>
          <a:ln w="0">
            <a:noFill/>
          </a:ln>
        </p:spPr>
      </p:pic>
      <p:sp>
        <p:nvSpPr>
          <p:cNvPr id="207" name=""/>
          <p:cNvSpPr/>
          <p:nvPr/>
        </p:nvSpPr>
        <p:spPr>
          <a:xfrm>
            <a:off x="484200" y="6415200"/>
            <a:ext cx="6451560" cy="3200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860a8"/>
                </a:solidFill>
                <a:latin typeface="Verdana"/>
              </a:rPr>
              <a:t>Programs of the Intel Education Initiative are funded by the Intel Foundation and Intel Corporation.  </a:t>
            </a:r>
            <a:br>
              <a:rPr sz="700"/>
            </a:br>
            <a:r>
              <a:rPr b="0" lang="en-US" sz="700" spc="-1" strike="noStrike">
                <a:solidFill>
                  <a:srgbClr val="0860a8"/>
                </a:solidFill>
                <a:latin typeface="Verdana"/>
              </a:rPr>
              <a:t>Copyright © 2007 Intel Corporation. All rights reserved. Intel and Intel</a:t>
            </a:r>
            <a:r>
              <a:rPr b="0" lang="en-US" sz="700" spc="-1" strike="noStrike" baseline="30000">
                <a:solidFill>
                  <a:srgbClr val="0860a8"/>
                </a:solidFill>
                <a:latin typeface="Symbol"/>
                <a:ea typeface="Symbol"/>
              </a:rPr>
              <a:t></a:t>
            </a:r>
            <a:r>
              <a:rPr b="0" lang="en-US" sz="700" spc="-1" strike="noStrike">
                <a:solidFill>
                  <a:srgbClr val="0860a8"/>
                </a:solidFill>
                <a:latin typeface="Verdana"/>
              </a:rPr>
              <a:t> Education are trademarks or registered trademarks of Intel Corporation or its subsidiaries in the United States and other countries.  *Other names and brands may be claimed as the property of others.</a:t>
            </a:r>
            <a:endParaRPr b="0" lang="en-US" sz="700" spc="-1" strike="noStrike">
              <a:solidFill>
                <a:srgbClr val="ffffff"/>
              </a:solidFill>
              <a:latin typeface="Times New Roman"/>
            </a:endParaRPr>
          </a:p>
        </p:txBody>
      </p:sp>
      <p:sp>
        <p:nvSpPr>
          <p:cNvPr id="2" name="PlaceHolder 1"/>
          <p:cNvSpPr>
            <a:spLocks noGrp="1"/>
          </p:cNvSpPr>
          <p:nvPr>
            <p:ph type="sldNum" idx="2"/>
          </p:nvPr>
        </p:nvSpPr>
        <p:spPr/>
        <p:txBody>
          <a:bodyPr/>
          <a:p>
            <a:fld id="{87799999-FC93-4859-A0E7-5BE69A780F5A}" type="slidenum">
              <a:t>13</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Asking Questions is Contagious</a:t>
            </a:r>
            <a:br>
              <a:rPr sz="3200"/>
            </a:br>
            <a:endParaRPr b="1" lang="en-US" sz="3200" spc="-1" strike="noStrike">
              <a:solidFill>
                <a:srgbClr val="ffffff"/>
              </a:solidFill>
              <a:latin typeface="Verdana"/>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2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It promotes authentic learning, which encourages students to ask more questions</a:t>
            </a:r>
            <a:endParaRPr b="0" lang="en-US" sz="2000" spc="-1" strike="noStrike">
              <a:solidFill>
                <a:srgbClr val="ffffff"/>
              </a:solidFill>
              <a:latin typeface="Verdana"/>
            </a:endParaRPr>
          </a:p>
          <a:p>
            <a:pPr marL="343080" indent="-343080">
              <a:spcBef>
                <a:spcPts val="12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tudents are more likely to become self-directed learners because they are interested in the answers</a:t>
            </a:r>
            <a:endParaRPr b="0" lang="en-US" sz="2000" spc="-1" strike="noStrike">
              <a:solidFill>
                <a:srgbClr val="ffffff"/>
              </a:solidFill>
              <a:latin typeface="Verdana"/>
            </a:endParaRPr>
          </a:p>
          <a:p>
            <a:pPr marL="343080" indent="-343080">
              <a:spcBef>
                <a:spcPts val="12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tudents see the connections between the subject being taught and their world—it can change their whole outlook on what education is about </a:t>
            </a:r>
            <a:endParaRPr b="0" lang="en-US" sz="2000" spc="-1" strike="noStrike">
              <a:solidFill>
                <a:srgbClr val="ffffff"/>
              </a:solidFill>
              <a:latin typeface="Verdana"/>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 name="PlaceHolder 3"/>
          <p:cNvSpPr>
            <a:spLocks noGrp="1"/>
          </p:cNvSpPr>
          <p:nvPr>
            <p:ph type="sldNum" idx="2"/>
          </p:nvPr>
        </p:nvSpPr>
        <p:spPr/>
        <p:txBody>
          <a:bodyPr/>
          <a:p>
            <a:fld id="{ABF89A75-D77C-4181-B768-C5EE910FC7E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880" y="6854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urriculum-Framing Questions include Essential, Unit, and Content Questions</a:t>
            </a:r>
            <a:br>
              <a:rPr sz="3200"/>
            </a:br>
            <a:endParaRPr b="1" lang="en-US" sz="3200" spc="-1" strike="noStrike">
              <a:solidFill>
                <a:srgbClr val="ffffff"/>
              </a:solidFill>
              <a:latin typeface="Verdana"/>
            </a:endParaRPr>
          </a:p>
        </p:txBody>
      </p:sp>
      <p:sp>
        <p:nvSpPr>
          <p:cNvPr id="174" name="PlaceHolder 2"/>
          <p:cNvSpPr>
            <a:spLocks noGrp="1"/>
          </p:cNvSpPr>
          <p:nvPr>
            <p:ph/>
          </p:nvPr>
        </p:nvSpPr>
        <p:spPr>
          <a:xfrm>
            <a:off x="380880" y="2286000"/>
            <a:ext cx="8237520" cy="3733920"/>
          </a:xfrm>
          <a:prstGeom prst="rect">
            <a:avLst/>
          </a:prstGeom>
          <a:noFill/>
          <a:ln w="0">
            <a:noFill/>
          </a:ln>
        </p:spPr>
        <p:txBody>
          <a:bodyPr lIns="90000" rIns="90000" tIns="46800" bIns="46800" anchor="t">
            <a:normAutofit/>
          </a:bodyPr>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o target higher-order thinking skills</a:t>
            </a:r>
            <a:endParaRPr b="0" lang="en-US" sz="2000" spc="-1" strike="noStrike">
              <a:solidFill>
                <a:srgbClr val="ffffff"/>
              </a:solidFill>
              <a:latin typeface="Verdana"/>
            </a:endParaRPr>
          </a:p>
          <a:p>
            <a:pPr lvl="1" marL="743040" indent="-28584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To require comparison, synthesis, interpretation, evaluation, etc.</a:t>
            </a:r>
            <a:endParaRPr b="0" lang="en-US" sz="1800" spc="-1" strike="noStrike">
              <a:solidFill>
                <a:srgbClr val="ffffff"/>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o ensure student projects are compelling and engaging</a:t>
            </a:r>
            <a:endParaRPr b="0" lang="en-US" sz="2000" spc="-1" strike="noStrike">
              <a:solidFill>
                <a:srgbClr val="ffffff"/>
              </a:solidFill>
              <a:latin typeface="Verdana"/>
            </a:endParaRPr>
          </a:p>
          <a:p>
            <a:pPr lvl="1" marL="743040" indent="-28584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To require more than a simple restatement of facts</a:t>
            </a:r>
            <a:endParaRPr b="0" lang="en-US" sz="1800" spc="-1" strike="noStrike">
              <a:solidFill>
                <a:srgbClr val="ffffff"/>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o focus on important topics</a:t>
            </a:r>
            <a:endParaRPr b="0" lang="en-US" sz="2000" spc="-1" strike="noStrike">
              <a:solidFill>
                <a:srgbClr val="ffffff"/>
              </a:solidFill>
              <a:latin typeface="Verdana"/>
            </a:endParaRPr>
          </a:p>
          <a:p>
            <a:pPr lvl="1" marL="743040" indent="-28584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To connect learning to other disciplines and other topics of study</a:t>
            </a:r>
            <a:endParaRPr b="0" lang="en-US" sz="1800" spc="-1" strike="noStrike">
              <a:solidFill>
                <a:srgbClr val="ffffff"/>
              </a:solidFill>
              <a:latin typeface="Verdana"/>
            </a:endParaRPr>
          </a:p>
          <a:p>
            <a:pPr lvl="1" marL="743040" indent="-28584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To ask questions that have been asked throughout human history </a:t>
            </a:r>
            <a:endParaRPr b="0" lang="en-US" sz="1800" spc="-1" strike="noStrike">
              <a:solidFill>
                <a:srgbClr val="ffffff"/>
              </a:solidFill>
              <a:latin typeface="Verdana"/>
            </a:endParaRPr>
          </a:p>
          <a:p>
            <a:pPr lvl="1" marL="743040" indent="-28584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To address compelling questions that students ask </a:t>
            </a:r>
            <a:endParaRPr b="0" lang="en-US" sz="1800" spc="-1" strike="noStrike">
              <a:solidFill>
                <a:srgbClr val="ffffff"/>
              </a:solidFill>
              <a:latin typeface="Verdana"/>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75" name=""/>
          <p:cNvSpPr/>
          <p:nvPr/>
        </p:nvSpPr>
        <p:spPr>
          <a:xfrm>
            <a:off x="380880" y="1752480"/>
            <a:ext cx="807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Why Use Curriculum Framing Questions?</a:t>
            </a:r>
            <a:endParaRPr b="0" lang="en-US" sz="2400" spc="-1" strike="noStrike">
              <a:solidFill>
                <a:srgbClr val="ffffff"/>
              </a:solidFill>
              <a:latin typeface="Times New Roman"/>
            </a:endParaRPr>
          </a:p>
        </p:txBody>
      </p:sp>
      <p:sp>
        <p:nvSpPr>
          <p:cNvPr id="4" name="PlaceHolder 3"/>
          <p:cNvSpPr>
            <a:spLocks noGrp="1"/>
          </p:cNvSpPr>
          <p:nvPr>
            <p:ph type="sldNum" idx="2"/>
          </p:nvPr>
        </p:nvSpPr>
        <p:spPr/>
        <p:txBody>
          <a:bodyPr/>
          <a:p>
            <a:fld id="{D74A130F-EA69-434A-AAB9-9FD94113F05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334800"/>
            <a:ext cx="8229600" cy="579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Essential Questions</a:t>
            </a:r>
            <a:endParaRPr b="1" lang="en-US" sz="3200" spc="-1" strike="noStrike">
              <a:solidFill>
                <a:srgbClr val="ffffff"/>
              </a:solidFill>
              <a:latin typeface="Verdana"/>
            </a:endParaRPr>
          </a:p>
        </p:txBody>
      </p:sp>
      <p:sp>
        <p:nvSpPr>
          <p:cNvPr id="177" name="PlaceHolder 2"/>
          <p:cNvSpPr>
            <a:spLocks noGrp="1"/>
          </p:cNvSpPr>
          <p:nvPr>
            <p:ph/>
          </p:nvPr>
        </p:nvSpPr>
        <p:spPr>
          <a:xfrm>
            <a:off x="457200" y="1066680"/>
            <a:ext cx="8237520" cy="4572000"/>
          </a:xfrm>
          <a:prstGeom prst="rect">
            <a:avLst/>
          </a:prstGeom>
          <a:noFill/>
          <a:ln w="0">
            <a:noFill/>
          </a:ln>
        </p:spPr>
        <p:txBody>
          <a:bodyPr lIns="90000" rIns="90000" tIns="46800" bIns="46800" anchor="t">
            <a:normAutofit/>
          </a:bodyPr>
          <a:p>
            <a:pPr marL="225360" indent="-22536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Are broad, open-ended questions: </a:t>
            </a:r>
            <a:endParaRPr b="0" lang="en-US" sz="2000" spc="-1" strike="noStrike">
              <a:solidFill>
                <a:srgbClr val="ffffff"/>
              </a:solidFill>
              <a:latin typeface="Verdana"/>
            </a:endParaRPr>
          </a:p>
          <a:p>
            <a:pPr lvl="1" marL="743040" indent="-285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Address big ideas and enduring concepts</a:t>
            </a:r>
            <a:endParaRPr b="0" lang="en-US" sz="2000" spc="-1" strike="noStrike">
              <a:solidFill>
                <a:srgbClr val="ffffff"/>
              </a:solidFill>
              <a:latin typeface="Verdana"/>
            </a:endParaRPr>
          </a:p>
          <a:p>
            <a:pPr lvl="1" marL="743040" indent="-285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Are engaging and meaningful</a:t>
            </a:r>
            <a:endParaRPr b="0" lang="en-US" sz="2000" spc="-1" strike="noStrike">
              <a:solidFill>
                <a:srgbClr val="ffffff"/>
              </a:solidFill>
              <a:latin typeface="Verdana"/>
            </a:endParaRPr>
          </a:p>
          <a:p>
            <a:pPr lvl="1" marL="743040" indent="-285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park curiosity</a:t>
            </a:r>
            <a:endParaRPr b="0" lang="en-US" sz="2000" spc="-1" strike="noStrike">
              <a:solidFill>
                <a:srgbClr val="ffffff"/>
              </a:solidFill>
              <a:latin typeface="Verdana"/>
            </a:endParaRPr>
          </a:p>
          <a:p>
            <a:pPr lvl="1" marL="743040" indent="-285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Pose a reasonable challenge</a:t>
            </a:r>
            <a:endParaRPr b="0" lang="en-US" sz="2000" spc="-1" strike="noStrike">
              <a:solidFill>
                <a:srgbClr val="ffffff"/>
              </a:solidFill>
              <a:latin typeface="Verdana"/>
            </a:endParaRPr>
          </a:p>
          <a:p>
            <a:pPr lvl="1" marL="743040" indent="-285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Require higher-order thinking skills</a:t>
            </a:r>
            <a:endParaRPr b="0" lang="en-US" sz="2000" spc="-1" strike="noStrike">
              <a:solidFill>
                <a:srgbClr val="ffffff"/>
              </a:solidFill>
              <a:latin typeface="Verdana"/>
            </a:endParaRPr>
          </a:p>
          <a:p>
            <a:pPr lvl="1" marL="743040" indent="-285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Have answers that cannot be looked up in a book</a:t>
            </a:r>
            <a:endParaRPr b="0" lang="en-US" sz="2000" spc="-1" strike="noStrike">
              <a:solidFill>
                <a:srgbClr val="ffffff"/>
              </a:solidFill>
              <a:latin typeface="Verdana"/>
            </a:endParaRPr>
          </a:p>
          <a:p>
            <a:pPr lvl="1" marL="743040" indent="-285840">
              <a:spcBef>
                <a:spcPts val="499"/>
              </a:spcBef>
              <a:spcAft>
                <a:spcPts val="10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Often cross disciplines and help students see how subjects are related</a:t>
            </a:r>
            <a:endParaRPr b="0" lang="en-US" sz="2000" spc="-1" strike="noStrike">
              <a:solidFill>
                <a:srgbClr val="ffffff"/>
              </a:solidFill>
              <a:latin typeface="Verdana"/>
            </a:endParaRPr>
          </a:p>
          <a:p>
            <a:pPr marL="225360" indent="-225360">
              <a:spcBef>
                <a:spcPts val="499"/>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Verdana"/>
              </a:rPr>
              <a:t>Example: </a:t>
            </a:r>
            <a:endParaRPr b="0" lang="en-US" sz="2000" spc="-1" strike="noStrike">
              <a:solidFill>
                <a:srgbClr val="ffffff"/>
              </a:solidFill>
              <a:latin typeface="Verdana"/>
            </a:endParaRPr>
          </a:p>
          <a:p>
            <a:pPr lvl="1" marL="743040" indent="-285840">
              <a:spcBef>
                <a:spcPts val="499"/>
              </a:spcBef>
              <a:buClr>
                <a:srgbClr val="ffff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Verdana"/>
              </a:rPr>
              <a:t>EQ: </a:t>
            </a:r>
            <a:endParaRPr b="0" lang="en-US" sz="2000" spc="-1" strike="noStrike">
              <a:solidFill>
                <a:srgbClr val="ffffff"/>
              </a:solidFill>
              <a:latin typeface="Verdana"/>
            </a:endParaRPr>
          </a:p>
          <a:p>
            <a:pPr lvl="2" marL="1143000" indent="-228600">
              <a:spcBef>
                <a:spcPts val="499"/>
              </a:spcBef>
              <a:buClr>
                <a:srgbClr val="ffff99"/>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Verdana"/>
              </a:rPr>
              <a:t>Why do we need others</a:t>
            </a:r>
            <a:r>
              <a:rPr b="1" i="1" lang="en-US" sz="2000" spc="-1" strike="noStrike">
                <a:solidFill>
                  <a:srgbClr val="ffff99"/>
                </a:solidFill>
                <a:latin typeface="Verdana"/>
              </a:rPr>
              <a:t>?</a:t>
            </a:r>
            <a:endParaRPr b="0" lang="en-US" sz="2000" spc="-1" strike="noStrike">
              <a:solidFill>
                <a:srgbClr val="ffffff"/>
              </a:solidFill>
              <a:latin typeface="Verdana"/>
            </a:endParaRPr>
          </a:p>
        </p:txBody>
      </p:sp>
      <p:sp>
        <p:nvSpPr>
          <p:cNvPr id="4" name="PlaceHolder 3"/>
          <p:cNvSpPr>
            <a:spLocks noGrp="1"/>
          </p:cNvSpPr>
          <p:nvPr>
            <p:ph type="sldNum" idx="2"/>
          </p:nvPr>
        </p:nvSpPr>
        <p:spPr/>
        <p:txBody>
          <a:bodyPr/>
          <a:p>
            <a:fld id="{EF0D990E-10BC-45F4-B933-024023D18F3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How Do Essential Questions Help Teachers?</a:t>
            </a:r>
            <a:endParaRPr b="1" lang="en-US" sz="3200" spc="-1" strike="noStrike">
              <a:solidFill>
                <a:srgbClr val="ffffff"/>
              </a:solidFill>
              <a:latin typeface="Verdana"/>
            </a:endParaRPr>
          </a:p>
        </p:txBody>
      </p:sp>
      <p:sp>
        <p:nvSpPr>
          <p:cNvPr id="179" name="PlaceHolder 2"/>
          <p:cNvSpPr>
            <a:spLocks noGrp="1"/>
          </p:cNvSpPr>
          <p:nvPr>
            <p:ph/>
          </p:nvPr>
        </p:nvSpPr>
        <p:spPr>
          <a:xfrm>
            <a:off x="457200" y="1599840"/>
            <a:ext cx="8229600" cy="2971800"/>
          </a:xfrm>
          <a:prstGeom prst="rect">
            <a:avLst/>
          </a:prstGeom>
          <a:noFill/>
          <a:ln w="0">
            <a:noFill/>
          </a:ln>
        </p:spPr>
        <p:txBody>
          <a:bodyPr lIns="90000" rIns="90000" tIns="46800" bIns="46800" anchor="t">
            <a:normAutofit fontScale="87000"/>
          </a:bodyPr>
          <a:p>
            <a:pPr marL="298440" indent="-2984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ey help teachers focus on important topics in their year-long curriculum</a:t>
            </a:r>
            <a:endParaRPr b="0" lang="en-US" sz="2000" spc="-1" strike="noStrike">
              <a:solidFill>
                <a:srgbClr val="ffffff"/>
              </a:solidFill>
              <a:latin typeface="Verdana"/>
            </a:endParaRPr>
          </a:p>
          <a:p>
            <a:pPr marL="298440" indent="-2984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ey raise important questions across content areas (Math, Science, Literature, History, etc.).</a:t>
            </a:r>
            <a:endParaRPr b="0" lang="en-US" sz="2000" spc="-1" strike="noStrike">
              <a:solidFill>
                <a:srgbClr val="ffffff"/>
              </a:solidFill>
              <a:latin typeface="Verdana"/>
            </a:endParaRPr>
          </a:p>
          <a:p>
            <a:pPr marL="298440" indent="-2984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ey center around major issues, problems, concerns, interests, or themes that also occur in other units.</a:t>
            </a:r>
            <a:endParaRPr b="0" lang="en-US" sz="2000" spc="-1" strike="noStrike">
              <a:solidFill>
                <a:srgbClr val="ffffff"/>
              </a:solidFill>
              <a:latin typeface="Verdana"/>
            </a:endParaRPr>
          </a:p>
          <a:p>
            <a:pPr marL="298440" indent="-2984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ey help teachers promote authentic inquiry</a:t>
            </a:r>
            <a:endParaRPr b="0" lang="en-US" sz="2000" spc="-1" strike="noStrike">
              <a:solidFill>
                <a:srgbClr val="ffffff"/>
              </a:solidFill>
              <a:latin typeface="Verdana"/>
            </a:endParaRPr>
          </a:p>
          <a:p>
            <a:pPr lvl="1" marL="646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lvl="1" marL="64620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ffffff"/>
              </a:solidFill>
              <a:latin typeface="Verdana"/>
            </a:endParaRPr>
          </a:p>
          <a:p>
            <a:pPr marL="2984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 name="PlaceHolder 3"/>
          <p:cNvSpPr>
            <a:spLocks noGrp="1"/>
          </p:cNvSpPr>
          <p:nvPr>
            <p:ph type="sldNum" idx="2"/>
          </p:nvPr>
        </p:nvSpPr>
        <p:spPr/>
        <p:txBody>
          <a:bodyPr/>
          <a:p>
            <a:fld id="{53E56A96-AACD-493A-A47B-74DA58815DC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How Do Essential Questions Help Students? </a:t>
            </a:r>
            <a:r>
              <a:rPr b="0" lang="en-US" sz="1600" spc="-1" strike="noStrike">
                <a:solidFill>
                  <a:srgbClr val="ffffff"/>
                </a:solidFill>
                <a:latin typeface="Verdana"/>
              </a:rPr>
              <a:t>(cont.)</a:t>
            </a:r>
            <a:endParaRPr b="1" lang="en-US" sz="1600" spc="-1" strike="noStrike">
              <a:solidFill>
                <a:srgbClr val="ffffff"/>
              </a:solidFill>
              <a:latin typeface="Verdana"/>
            </a:endParaRPr>
          </a:p>
        </p:txBody>
      </p:sp>
      <p:sp>
        <p:nvSpPr>
          <p:cNvPr id="181" name="PlaceHolder 2"/>
          <p:cNvSpPr>
            <a:spLocks noGrp="1"/>
          </p:cNvSpPr>
          <p:nvPr>
            <p:ph/>
          </p:nvPr>
        </p:nvSpPr>
        <p:spPr>
          <a:xfrm>
            <a:off x="455760" y="1371600"/>
            <a:ext cx="8237520" cy="4572000"/>
          </a:xfrm>
          <a:prstGeom prst="rect">
            <a:avLst/>
          </a:prstGeom>
          <a:noFill/>
          <a:ln w="0">
            <a:noFill/>
          </a:ln>
        </p:spPr>
        <p:txBody>
          <a:bodyPr lIns="90000" rIns="90000" tIns="46800" bIns="46800" anchor="t">
            <a:normAutofit/>
          </a:bodyPr>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Essential Questions bring meaning and focus to the study of events and topics throughout a project or course, which otherwise may seem arbitrary or unrelated.</a:t>
            </a:r>
            <a:endParaRPr b="0" lang="en-US" sz="2000" spc="-1" strike="noStrike">
              <a:solidFill>
                <a:srgbClr val="ffffff"/>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ey engage students’ imagination and connect the subject with their own experiences and ideas.</a:t>
            </a:r>
            <a:endParaRPr b="0" lang="en-US" sz="2000" spc="-1" strike="noStrike">
              <a:solidFill>
                <a:srgbClr val="ffffff"/>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ere is no one, obvious “right” answer, so students are challenged to explore many possibilities.</a:t>
            </a:r>
            <a:endParaRPr b="0" lang="en-US" sz="2000" spc="-1" strike="noStrike">
              <a:solidFill>
                <a:srgbClr val="ffffff"/>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ey encourage in-depth discussion and research, and set the stage for further questioning.</a:t>
            </a:r>
            <a:endParaRPr b="0" lang="en-US" sz="2000" spc="-1" strike="noStrike">
              <a:solidFill>
                <a:srgbClr val="ffffff"/>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ey help students compare, contrast, and make analogies. </a:t>
            </a:r>
            <a:endParaRPr b="0" lang="en-US" sz="2000" spc="-1" strike="noStrike">
              <a:solidFill>
                <a:srgbClr val="ffffff"/>
              </a:solidFill>
              <a:latin typeface="Verdana"/>
            </a:endParaRPr>
          </a:p>
          <a:p>
            <a:pPr lvl="1" marL="74304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 name="PlaceHolder 3"/>
          <p:cNvSpPr>
            <a:spLocks noGrp="1"/>
          </p:cNvSpPr>
          <p:nvPr>
            <p:ph type="sldNum" idx="2"/>
          </p:nvPr>
        </p:nvSpPr>
        <p:spPr/>
        <p:txBody>
          <a:bodyPr/>
          <a:p>
            <a:fld id="{5A184C2F-345E-4D6C-90AC-0F598F67099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51920"/>
            <a:ext cx="8229600" cy="808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Unit Questions</a:t>
            </a:r>
            <a:endParaRPr b="1" lang="en-US" sz="3200" spc="-1" strike="noStrike">
              <a:solidFill>
                <a:srgbClr val="ffffff"/>
              </a:solidFill>
              <a:latin typeface="Verdana"/>
            </a:endParaRPr>
          </a:p>
        </p:txBody>
      </p:sp>
      <p:sp>
        <p:nvSpPr>
          <p:cNvPr id="183" name="PlaceHolder 2"/>
          <p:cNvSpPr>
            <a:spLocks noGrp="1"/>
          </p:cNvSpPr>
          <p:nvPr>
            <p:ph/>
          </p:nvPr>
        </p:nvSpPr>
        <p:spPr>
          <a:xfrm>
            <a:off x="457200" y="990360"/>
            <a:ext cx="8237520" cy="4343400"/>
          </a:xfrm>
          <a:prstGeom prst="rect">
            <a:avLst/>
          </a:prstGeom>
          <a:noFill/>
          <a:ln w="0">
            <a:noFill/>
          </a:ln>
        </p:spPr>
        <p:txBody>
          <a:bodyPr lIns="90000" rIns="90000" tIns="46800" bIns="46800" anchor="t">
            <a:normAutofit fontScale="97000"/>
          </a:bodyPr>
          <a:p>
            <a:pPr marL="332640" indent="-33264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Are open-ended questions that tie directly to a project or unit</a:t>
            </a:r>
            <a:endParaRPr b="0" lang="en-US" sz="2000" spc="-1" strike="noStrike">
              <a:solidFill>
                <a:srgbClr val="ffffff"/>
              </a:solidFill>
              <a:latin typeface="Verdana"/>
            </a:endParaRPr>
          </a:p>
          <a:p>
            <a:pPr marL="332640" indent="-3326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Pose a reasonable challenge</a:t>
            </a:r>
            <a:endParaRPr b="0" lang="en-US" sz="2000" spc="-1" strike="noStrike">
              <a:solidFill>
                <a:srgbClr val="ffffff"/>
              </a:solidFill>
              <a:latin typeface="Verdana"/>
            </a:endParaRPr>
          </a:p>
          <a:p>
            <a:pPr marL="332640" indent="-3326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Require higher-order thinking skills</a:t>
            </a:r>
            <a:endParaRPr b="0" lang="en-US" sz="2000" spc="-1" strike="noStrike">
              <a:solidFill>
                <a:srgbClr val="ffffff"/>
              </a:solidFill>
              <a:latin typeface="Verdana"/>
            </a:endParaRPr>
          </a:p>
          <a:p>
            <a:pPr marL="332640" indent="-33264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Help students construct their own answers and their own meaning from the information they have gathered</a:t>
            </a:r>
            <a:endParaRPr b="0" lang="en-US" sz="2000" spc="-1" strike="noStrike">
              <a:solidFill>
                <a:srgbClr val="ffffff"/>
              </a:solidFill>
              <a:latin typeface="Verdana"/>
            </a:endParaRPr>
          </a:p>
          <a:p>
            <a:pPr marL="332640" indent="-3326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Help answer the Essential Question</a:t>
            </a:r>
            <a:endParaRPr b="0" lang="en-US" sz="2000" spc="-1" strike="noStrike">
              <a:solidFill>
                <a:srgbClr val="ffffff"/>
              </a:solidFill>
              <a:latin typeface="Verdana"/>
            </a:endParaRPr>
          </a:p>
          <a:p>
            <a:pPr marL="332640" indent="-332640">
              <a:spcBef>
                <a:spcPts val="499"/>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Verdana"/>
              </a:rPr>
              <a:t>Examples:</a:t>
            </a:r>
            <a:r>
              <a:rPr b="1" i="1" lang="en-US" sz="2000" spc="-1" strike="noStrike">
                <a:solidFill>
                  <a:srgbClr val="ffffff"/>
                </a:solidFill>
                <a:latin typeface="Verdana"/>
              </a:rPr>
              <a:t>  </a:t>
            </a:r>
            <a:endParaRPr b="0" lang="en-US" sz="2000" spc="-1" strike="noStrike">
              <a:solidFill>
                <a:srgbClr val="ffffff"/>
              </a:solidFill>
              <a:latin typeface="Verdana"/>
            </a:endParaRPr>
          </a:p>
          <a:p>
            <a:pPr lvl="1" marL="720720" indent="-27720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Verdana"/>
              </a:rPr>
              <a:t>EQ: </a:t>
            </a:r>
            <a:endParaRPr b="0" lang="en-US" sz="1800" spc="-1" strike="noStrike">
              <a:solidFill>
                <a:srgbClr val="ffffff"/>
              </a:solidFill>
              <a:latin typeface="Verdana"/>
            </a:endParaRPr>
          </a:p>
          <a:p>
            <a:pPr lvl="2" marL="1108440" indent="-221400">
              <a:spcBef>
                <a:spcPts val="4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Verdana"/>
              </a:rPr>
              <a:t>Why do we need others?</a:t>
            </a:r>
            <a:endParaRPr b="0" lang="en-US" sz="2000" spc="-1" strike="noStrike">
              <a:solidFill>
                <a:srgbClr val="ffffff"/>
              </a:solidFill>
              <a:latin typeface="Verdana"/>
            </a:endParaRPr>
          </a:p>
          <a:p>
            <a:pPr lvl="1" marL="720720" indent="-277200">
              <a:spcBef>
                <a:spcPts val="451"/>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Verdana"/>
              </a:rPr>
              <a:t>UQ:</a:t>
            </a:r>
            <a:endParaRPr b="0" lang="en-US" sz="1800" spc="-1" strike="noStrike">
              <a:solidFill>
                <a:srgbClr val="ffffff"/>
              </a:solidFill>
              <a:latin typeface="Verdana"/>
            </a:endParaRPr>
          </a:p>
          <a:p>
            <a:pPr lvl="2" marL="1108440" indent="-221400">
              <a:spcBef>
                <a:spcPts val="499"/>
              </a:spcBef>
              <a:buClr>
                <a:srgbClr val="ffff99"/>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Verdana"/>
              </a:rPr>
              <a:t>Which of our community helpers is the most important? </a:t>
            </a:r>
            <a:endParaRPr b="0" lang="en-US" sz="2000" spc="-1" strike="noStrike">
              <a:solidFill>
                <a:srgbClr val="ffffff"/>
              </a:solidFill>
              <a:latin typeface="Verdana"/>
            </a:endParaRPr>
          </a:p>
          <a:p>
            <a:pPr lvl="2" marL="1108440" indent="-221400">
              <a:spcBef>
                <a:spcPts val="601"/>
              </a:spcBef>
              <a:buClr>
                <a:srgbClr val="ffff99"/>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Verdana"/>
              </a:rPr>
              <a:t>Which community helper would you most like to be?</a:t>
            </a:r>
            <a:r>
              <a:rPr b="1" i="1" lang="en-US" sz="2400" spc="-1" strike="noStrike">
                <a:solidFill>
                  <a:srgbClr val="ffff99"/>
                </a:solidFill>
                <a:latin typeface="Verdana"/>
              </a:rPr>
              <a:t> </a:t>
            </a:r>
            <a:endParaRPr b="0" lang="en-US" sz="2400" spc="-1" strike="noStrike">
              <a:solidFill>
                <a:srgbClr val="ffffff"/>
              </a:solidFill>
              <a:latin typeface="Verdana"/>
            </a:endParaRPr>
          </a:p>
          <a:p>
            <a:pPr lvl="2" marL="110844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lvl="1" marL="7207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326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 name="PlaceHolder 3"/>
          <p:cNvSpPr>
            <a:spLocks noGrp="1"/>
          </p:cNvSpPr>
          <p:nvPr>
            <p:ph type="sldNum" idx="2"/>
          </p:nvPr>
        </p:nvSpPr>
        <p:spPr/>
        <p:txBody>
          <a:bodyPr/>
          <a:p>
            <a:fld id="{1558AB23-2435-47BD-9C0F-B322A4FEA40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How Do Unit Questions Support </a:t>
            </a:r>
            <a:br>
              <a:rPr sz="3200"/>
            </a:br>
            <a:r>
              <a:rPr b="1" lang="en-US" sz="3200" spc="-1" strike="noStrike">
                <a:solidFill>
                  <a:srgbClr val="ffffff"/>
                </a:solidFill>
                <a:latin typeface="Verdana"/>
              </a:rPr>
              <a:t>Essential Questions?</a:t>
            </a:r>
            <a:endParaRPr b="1" lang="en-US" sz="3200" spc="-1" strike="noStrike">
              <a:solidFill>
                <a:srgbClr val="ffffff"/>
              </a:solidFill>
              <a:latin typeface="Verdana"/>
            </a:endParaRPr>
          </a:p>
        </p:txBody>
      </p:sp>
      <p:graphicFrame>
        <p:nvGraphicFramePr>
          <p:cNvPr id="185" name=""/>
          <p:cNvGraphicFramePr/>
          <p:nvPr/>
        </p:nvGraphicFramePr>
        <p:xfrm>
          <a:off x="457200" y="1600200"/>
          <a:ext cx="8229600" cy="4368960"/>
        </p:xfrm>
        <a:graphic>
          <a:graphicData uri="http://schemas.openxmlformats.org/drawingml/2006/table">
            <a:tbl>
              <a:tblPr/>
              <a:tblGrid>
                <a:gridCol w="3884760"/>
                <a:gridCol w="4344840"/>
              </a:tblGrid>
              <a:tr h="398880">
                <a:tc>
                  <a: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Arial"/>
                        </a:rPr>
                        <a:t>Essential Question</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0099"/>
                    </a:solidFill>
                  </a:tcPr>
                </a:tc>
                <a:tc>
                  <a: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Arial"/>
                        </a:rPr>
                        <a:t>Unit Questions</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0099"/>
                    </a:solidFill>
                  </a:tcPr>
                </a:tc>
              </a:tr>
              <a:tr h="871560">
                <a:tc>
                  <a:txBody>
                    <a:bodyPr lIns="90000" rIns="90000" tIns="46800" bIns="46800" anchor="t">
                      <a:noAutofit/>
                    </a:bodyPr>
                    <a:p>
                      <a:pPr marL="228600" indent="-228600">
                        <a:lnSpc>
                          <a:spcPct val="100000"/>
                        </a:lnSpc>
                        <a:spcBef>
                          <a:spcPts val="425"/>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Verdana"/>
                          <a:ea typeface="Arial"/>
                        </a:rPr>
                        <a:t>How can math help me understand the world around me?</a:t>
                      </a:r>
                      <a:endParaRPr b="0" lang="en-US" sz="17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lnSpc>
                          <a:spcPct val="100000"/>
                        </a:lnSpc>
                        <a:spcBef>
                          <a:spcPts val="374"/>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Verdana"/>
                          <a:ea typeface="Arial"/>
                        </a:rPr>
                        <a:t>What are fractals good for?</a:t>
                      </a:r>
                      <a:endParaRPr b="0" lang="en-US" sz="15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778680">
                <a:tc>
                  <a:txBody>
                    <a:bodyPr lIns="90000" rIns="90000" tIns="46800" bIns="46800" anchor="t">
                      <a:noAutofit/>
                    </a:bodyPr>
                    <a:p>
                      <a:pPr marL="228600" indent="-228600">
                        <a:lnSpc>
                          <a:spcPct val="100000"/>
                        </a:lnSpc>
                        <a:spcBef>
                          <a:spcPts val="425"/>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Verdana"/>
                          <a:ea typeface="Arial"/>
                        </a:rPr>
                        <a:t>Why have stories always been important throughout history? </a:t>
                      </a:r>
                      <a:endParaRPr b="0" lang="en-US" sz="17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lnSpc>
                          <a:spcPct val="100000"/>
                        </a:lnSpc>
                        <a:spcBef>
                          <a:spcPts val="374"/>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Verdana"/>
                          <a:ea typeface="Arial"/>
                        </a:rPr>
                        <a:t>Why do we still read Shakespeare? </a:t>
                      </a:r>
                      <a:br>
                        <a:rPr sz="1500"/>
                      </a:br>
                      <a:r>
                        <a:rPr b="0" lang="en-US" sz="1500" spc="-1" strike="noStrike">
                          <a:solidFill>
                            <a:srgbClr val="ffffff"/>
                          </a:solidFill>
                          <a:latin typeface="Verdana"/>
                          <a:ea typeface="Arial"/>
                        </a:rPr>
                        <a:t>How is Shakespeare’s work relevant to my life?</a:t>
                      </a:r>
                      <a:endParaRPr b="0" lang="en-US" sz="15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1054440">
                <a:tc>
                  <a:txBody>
                    <a:bodyPr lIns="90000" rIns="90000" tIns="46800" bIns="46800" anchor="t">
                      <a:noAutofit/>
                    </a:bodyPr>
                    <a:p>
                      <a:pPr marL="228600" indent="-228600">
                        <a:lnSpc>
                          <a:spcPct val="100000"/>
                        </a:lnSpc>
                        <a:spcBef>
                          <a:spcPts val="425"/>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Verdana"/>
                          <a:ea typeface="Arial"/>
                        </a:rPr>
                        <a:t>How does art reflect or change society?</a:t>
                      </a:r>
                      <a:endParaRPr b="0" lang="en-US" sz="17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lnSpc>
                          <a:spcPct val="100000"/>
                        </a:lnSpc>
                        <a:spcBef>
                          <a:spcPts val="374"/>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Verdana"/>
                          <a:ea typeface="Arial"/>
                        </a:rPr>
                        <a:t>How does impressionist art reflect life in the late 1800’s?</a:t>
                      </a:r>
                      <a:endParaRPr b="0" lang="en-US" sz="1500" spc="-1" strike="noStrike">
                        <a:solidFill>
                          <a:srgbClr val="ffffff"/>
                        </a:solidFill>
                        <a:latin typeface="Times New Roman"/>
                      </a:endParaRPr>
                    </a:p>
                    <a:p>
                      <a:pPr marL="343080" indent="-343080">
                        <a:lnSpc>
                          <a:spcPct val="100000"/>
                        </a:lnSpc>
                        <a:spcBef>
                          <a:spcPts val="374"/>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Verdana"/>
                          <a:ea typeface="Arial"/>
                        </a:rPr>
                        <a:t>How does your own art reflect your life and culture? </a:t>
                      </a:r>
                      <a:endParaRPr b="0" lang="en-US" sz="15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1282680">
                <a:tc>
                  <a:txBody>
                    <a:bodyPr lIns="90000" rIns="90000" tIns="46800" bIns="46800" anchor="t">
                      <a:noAutofit/>
                    </a:bodyPr>
                    <a:p>
                      <a:pPr marL="228600" indent="-228600">
                        <a:lnSpc>
                          <a:spcPct val="100000"/>
                        </a:lnSpc>
                        <a:spcBef>
                          <a:spcPts val="425"/>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Verdana"/>
                          <a:ea typeface="Arial"/>
                        </a:rPr>
                        <a:t>What does it take to change the world? </a:t>
                      </a:r>
                      <a:endParaRPr b="0" lang="en-US" sz="17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lnSpc>
                          <a:spcPct val="100000"/>
                        </a:lnSpc>
                        <a:spcBef>
                          <a:spcPts val="374"/>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Verdana"/>
                          <a:ea typeface="Arial"/>
                        </a:rPr>
                        <a:t>How did the policies or actions of Abraham Lincoln affect America in the 1860’s?</a:t>
                      </a:r>
                      <a:endParaRPr b="0" lang="en-US" sz="1500" spc="-1" strike="noStrike">
                        <a:solidFill>
                          <a:srgbClr val="ffffff"/>
                        </a:solidFill>
                        <a:latin typeface="Times New Roman"/>
                      </a:endParaRPr>
                    </a:p>
                    <a:p>
                      <a:pPr marL="343080" indent="-343080">
                        <a:lnSpc>
                          <a:spcPct val="100000"/>
                        </a:lnSpc>
                        <a:spcBef>
                          <a:spcPts val="374"/>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Verdana"/>
                          <a:ea typeface="Arial"/>
                        </a:rPr>
                        <a:t>How do the policies and actions of Abraham Lincoln affect your life today?</a:t>
                      </a:r>
                      <a:endParaRPr b="0" lang="en-US" sz="15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3" name="PlaceHolder 2"/>
          <p:cNvSpPr>
            <a:spLocks noGrp="1"/>
          </p:cNvSpPr>
          <p:nvPr>
            <p:ph type="sldNum" idx="2"/>
          </p:nvPr>
        </p:nvSpPr>
        <p:spPr/>
        <p:txBody>
          <a:bodyPr/>
          <a:p>
            <a:fld id="{22140969-4386-439D-8D3D-559C70EEF8F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c2e86"/>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Teams of teachers from different disciplines can use their own Unit Questions to support one Essential Question</a:t>
            </a:r>
            <a:endParaRPr b="1" lang="en-US" sz="2800" spc="-1" strike="noStrike">
              <a:solidFill>
                <a:srgbClr val="ffffff"/>
              </a:solidFill>
              <a:latin typeface="Verdana"/>
            </a:endParaRPr>
          </a:p>
        </p:txBody>
      </p:sp>
      <p:grpSp>
        <p:nvGrpSpPr>
          <p:cNvPr id="187" name=""/>
          <p:cNvGrpSpPr/>
          <p:nvPr/>
        </p:nvGrpSpPr>
        <p:grpSpPr>
          <a:xfrm>
            <a:off x="990720" y="2133720"/>
            <a:ext cx="7086600" cy="3614760"/>
            <a:chOff x="990720" y="2133720"/>
            <a:chExt cx="7086600" cy="3614760"/>
          </a:xfrm>
        </p:grpSpPr>
        <p:sp>
          <p:nvSpPr>
            <p:cNvPr id="188" name=""/>
            <p:cNvSpPr/>
            <p:nvPr/>
          </p:nvSpPr>
          <p:spPr>
            <a:xfrm>
              <a:off x="990720" y="2644920"/>
              <a:ext cx="7086600" cy="3103560"/>
            </a:xfrm>
            <a:custGeom>
              <a:avLst/>
              <a:gdLst/>
              <a:ahLst/>
              <a:rect l="l" t="t" r="r" b="b"/>
              <a:pathLst>
                <a:path w="3739" h="1595">
                  <a:moveTo>
                    <a:pt x="22" y="787"/>
                  </a:moveTo>
                  <a:lnTo>
                    <a:pt x="14" y="742"/>
                  </a:lnTo>
                  <a:lnTo>
                    <a:pt x="8" y="698"/>
                  </a:lnTo>
                  <a:lnTo>
                    <a:pt x="3" y="654"/>
                  </a:lnTo>
                  <a:lnTo>
                    <a:pt x="0" y="608"/>
                  </a:lnTo>
                  <a:lnTo>
                    <a:pt x="3" y="561"/>
                  </a:lnTo>
                  <a:lnTo>
                    <a:pt x="9" y="512"/>
                  </a:lnTo>
                  <a:lnTo>
                    <a:pt x="21" y="460"/>
                  </a:lnTo>
                  <a:lnTo>
                    <a:pt x="40" y="405"/>
                  </a:lnTo>
                  <a:lnTo>
                    <a:pt x="56" y="371"/>
                  </a:lnTo>
                  <a:lnTo>
                    <a:pt x="74" y="338"/>
                  </a:lnTo>
                  <a:lnTo>
                    <a:pt x="99" y="309"/>
                  </a:lnTo>
                  <a:lnTo>
                    <a:pt x="125" y="280"/>
                  </a:lnTo>
                  <a:lnTo>
                    <a:pt x="154" y="254"/>
                  </a:lnTo>
                  <a:lnTo>
                    <a:pt x="188" y="230"/>
                  </a:lnTo>
                  <a:lnTo>
                    <a:pt x="224" y="205"/>
                  </a:lnTo>
                  <a:lnTo>
                    <a:pt x="263" y="184"/>
                  </a:lnTo>
                  <a:lnTo>
                    <a:pt x="305" y="165"/>
                  </a:lnTo>
                  <a:lnTo>
                    <a:pt x="351" y="145"/>
                  </a:lnTo>
                  <a:lnTo>
                    <a:pt x="400" y="129"/>
                  </a:lnTo>
                  <a:lnTo>
                    <a:pt x="450" y="113"/>
                  </a:lnTo>
                  <a:lnTo>
                    <a:pt x="504" y="98"/>
                  </a:lnTo>
                  <a:lnTo>
                    <a:pt x="559" y="85"/>
                  </a:lnTo>
                  <a:lnTo>
                    <a:pt x="618" y="73"/>
                  </a:lnTo>
                  <a:lnTo>
                    <a:pt x="678" y="62"/>
                  </a:lnTo>
                  <a:lnTo>
                    <a:pt x="740" y="52"/>
                  </a:lnTo>
                  <a:lnTo>
                    <a:pt x="805" y="44"/>
                  </a:lnTo>
                  <a:lnTo>
                    <a:pt x="871" y="36"/>
                  </a:lnTo>
                  <a:lnTo>
                    <a:pt x="938" y="30"/>
                  </a:lnTo>
                  <a:lnTo>
                    <a:pt x="1010" y="25"/>
                  </a:lnTo>
                  <a:lnTo>
                    <a:pt x="1081" y="18"/>
                  </a:lnTo>
                  <a:lnTo>
                    <a:pt x="1153" y="15"/>
                  </a:lnTo>
                  <a:lnTo>
                    <a:pt x="1228" y="12"/>
                  </a:lnTo>
                  <a:lnTo>
                    <a:pt x="1304" y="8"/>
                  </a:lnTo>
                  <a:lnTo>
                    <a:pt x="1381" y="5"/>
                  </a:lnTo>
                  <a:lnTo>
                    <a:pt x="1459" y="4"/>
                  </a:lnTo>
                  <a:lnTo>
                    <a:pt x="1538" y="2"/>
                  </a:lnTo>
                  <a:lnTo>
                    <a:pt x="1618" y="2"/>
                  </a:lnTo>
                  <a:lnTo>
                    <a:pt x="1699" y="0"/>
                  </a:lnTo>
                  <a:lnTo>
                    <a:pt x="1781" y="0"/>
                  </a:lnTo>
                  <a:lnTo>
                    <a:pt x="1862" y="0"/>
                  </a:lnTo>
                  <a:lnTo>
                    <a:pt x="1940" y="0"/>
                  </a:lnTo>
                  <a:lnTo>
                    <a:pt x="2017" y="0"/>
                  </a:lnTo>
                  <a:lnTo>
                    <a:pt x="2095" y="2"/>
                  </a:lnTo>
                  <a:lnTo>
                    <a:pt x="2171" y="4"/>
                  </a:lnTo>
                  <a:lnTo>
                    <a:pt x="2246" y="5"/>
                  </a:lnTo>
                  <a:lnTo>
                    <a:pt x="2321" y="7"/>
                  </a:lnTo>
                  <a:lnTo>
                    <a:pt x="2396" y="10"/>
                  </a:lnTo>
                  <a:lnTo>
                    <a:pt x="2469" y="13"/>
                  </a:lnTo>
                  <a:lnTo>
                    <a:pt x="2542" y="18"/>
                  </a:lnTo>
                  <a:lnTo>
                    <a:pt x="2612" y="23"/>
                  </a:lnTo>
                  <a:lnTo>
                    <a:pt x="2682" y="28"/>
                  </a:lnTo>
                  <a:lnTo>
                    <a:pt x="2750" y="34"/>
                  </a:lnTo>
                  <a:lnTo>
                    <a:pt x="2819" y="43"/>
                  </a:lnTo>
                  <a:lnTo>
                    <a:pt x="2884" y="51"/>
                  </a:lnTo>
                  <a:lnTo>
                    <a:pt x="2947" y="59"/>
                  </a:lnTo>
                  <a:lnTo>
                    <a:pt x="3011" y="69"/>
                  </a:lnTo>
                  <a:lnTo>
                    <a:pt x="3071" y="80"/>
                  </a:lnTo>
                  <a:lnTo>
                    <a:pt x="3128" y="93"/>
                  </a:lnTo>
                  <a:lnTo>
                    <a:pt x="3185" y="106"/>
                  </a:lnTo>
                  <a:lnTo>
                    <a:pt x="3238" y="121"/>
                  </a:lnTo>
                  <a:lnTo>
                    <a:pt x="3290" y="137"/>
                  </a:lnTo>
                  <a:lnTo>
                    <a:pt x="3339" y="153"/>
                  </a:lnTo>
                  <a:lnTo>
                    <a:pt x="3386" y="173"/>
                  </a:lnTo>
                  <a:lnTo>
                    <a:pt x="3430" y="192"/>
                  </a:lnTo>
                  <a:lnTo>
                    <a:pt x="3473" y="213"/>
                  </a:lnTo>
                  <a:lnTo>
                    <a:pt x="3512" y="236"/>
                  </a:lnTo>
                  <a:lnTo>
                    <a:pt x="3548" y="260"/>
                  </a:lnTo>
                  <a:lnTo>
                    <a:pt x="3580" y="285"/>
                  </a:lnTo>
                  <a:lnTo>
                    <a:pt x="3609" y="312"/>
                  </a:lnTo>
                  <a:lnTo>
                    <a:pt x="3637" y="342"/>
                  </a:lnTo>
                  <a:lnTo>
                    <a:pt x="3660" y="373"/>
                  </a:lnTo>
                  <a:lnTo>
                    <a:pt x="3679" y="405"/>
                  </a:lnTo>
                  <a:lnTo>
                    <a:pt x="3696" y="441"/>
                  </a:lnTo>
                  <a:lnTo>
                    <a:pt x="3710" y="490"/>
                  </a:lnTo>
                  <a:lnTo>
                    <a:pt x="3725" y="547"/>
                  </a:lnTo>
                  <a:lnTo>
                    <a:pt x="3735" y="610"/>
                  </a:lnTo>
                  <a:lnTo>
                    <a:pt x="3739" y="677"/>
                  </a:lnTo>
                  <a:lnTo>
                    <a:pt x="3738" y="743"/>
                  </a:lnTo>
                  <a:lnTo>
                    <a:pt x="3730" y="808"/>
                  </a:lnTo>
                  <a:lnTo>
                    <a:pt x="3712" y="868"/>
                  </a:lnTo>
                  <a:lnTo>
                    <a:pt x="3694" y="911"/>
                  </a:lnTo>
                  <a:lnTo>
                    <a:pt x="3673" y="951"/>
                  </a:lnTo>
                  <a:lnTo>
                    <a:pt x="3650" y="990"/>
                  </a:lnTo>
                  <a:lnTo>
                    <a:pt x="3624" y="1028"/>
                  </a:lnTo>
                  <a:lnTo>
                    <a:pt x="3595" y="1065"/>
                  </a:lnTo>
                  <a:lnTo>
                    <a:pt x="3564" y="1102"/>
                  </a:lnTo>
                  <a:lnTo>
                    <a:pt x="3528" y="1137"/>
                  </a:lnTo>
                  <a:lnTo>
                    <a:pt x="3492" y="1171"/>
                  </a:lnTo>
                  <a:lnTo>
                    <a:pt x="3452" y="1203"/>
                  </a:lnTo>
                  <a:lnTo>
                    <a:pt x="3409" y="1236"/>
                  </a:lnTo>
                  <a:lnTo>
                    <a:pt x="3365" y="1267"/>
                  </a:lnTo>
                  <a:lnTo>
                    <a:pt x="3318" y="1296"/>
                  </a:lnTo>
                  <a:lnTo>
                    <a:pt x="3268" y="1324"/>
                  </a:lnTo>
                  <a:lnTo>
                    <a:pt x="3216" y="1350"/>
                  </a:lnTo>
                  <a:lnTo>
                    <a:pt x="3160" y="1376"/>
                  </a:lnTo>
                  <a:lnTo>
                    <a:pt x="3102" y="1400"/>
                  </a:lnTo>
                  <a:lnTo>
                    <a:pt x="3043" y="1423"/>
                  </a:lnTo>
                  <a:lnTo>
                    <a:pt x="2980" y="1444"/>
                  </a:lnTo>
                  <a:lnTo>
                    <a:pt x="2915" y="1465"/>
                  </a:lnTo>
                  <a:lnTo>
                    <a:pt x="2848" y="1483"/>
                  </a:lnTo>
                  <a:lnTo>
                    <a:pt x="2778" y="1501"/>
                  </a:lnTo>
                  <a:lnTo>
                    <a:pt x="2706" y="1517"/>
                  </a:lnTo>
                  <a:lnTo>
                    <a:pt x="2632" y="1532"/>
                  </a:lnTo>
                  <a:lnTo>
                    <a:pt x="2555" y="1545"/>
                  </a:lnTo>
                  <a:lnTo>
                    <a:pt x="2477" y="1556"/>
                  </a:lnTo>
                  <a:lnTo>
                    <a:pt x="2396" y="1566"/>
                  </a:lnTo>
                  <a:lnTo>
                    <a:pt x="2311" y="1575"/>
                  </a:lnTo>
                  <a:lnTo>
                    <a:pt x="2227" y="1582"/>
                  </a:lnTo>
                  <a:lnTo>
                    <a:pt x="2139" y="1588"/>
                  </a:lnTo>
                  <a:lnTo>
                    <a:pt x="2049" y="1592"/>
                  </a:lnTo>
                  <a:lnTo>
                    <a:pt x="1957" y="1595"/>
                  </a:lnTo>
                  <a:lnTo>
                    <a:pt x="1862" y="1595"/>
                  </a:lnTo>
                  <a:lnTo>
                    <a:pt x="1763" y="1593"/>
                  </a:lnTo>
                  <a:lnTo>
                    <a:pt x="1665" y="1592"/>
                  </a:lnTo>
                  <a:lnTo>
                    <a:pt x="1569" y="1587"/>
                  </a:lnTo>
                  <a:lnTo>
                    <a:pt x="1478" y="1580"/>
                  </a:lnTo>
                  <a:lnTo>
                    <a:pt x="1387" y="1572"/>
                  </a:lnTo>
                  <a:lnTo>
                    <a:pt x="1301" y="1562"/>
                  </a:lnTo>
                  <a:lnTo>
                    <a:pt x="1216" y="1551"/>
                  </a:lnTo>
                  <a:lnTo>
                    <a:pt x="1133" y="1538"/>
                  </a:lnTo>
                  <a:lnTo>
                    <a:pt x="1054" y="1523"/>
                  </a:lnTo>
                  <a:lnTo>
                    <a:pt x="977" y="1507"/>
                  </a:lnTo>
                  <a:lnTo>
                    <a:pt x="902" y="1489"/>
                  </a:lnTo>
                  <a:lnTo>
                    <a:pt x="831" y="1470"/>
                  </a:lnTo>
                  <a:lnTo>
                    <a:pt x="762" y="1449"/>
                  </a:lnTo>
                  <a:lnTo>
                    <a:pt x="696" y="1426"/>
                  </a:lnTo>
                  <a:lnTo>
                    <a:pt x="634" y="1402"/>
                  </a:lnTo>
                  <a:lnTo>
                    <a:pt x="574" y="1376"/>
                  </a:lnTo>
                  <a:lnTo>
                    <a:pt x="515" y="1350"/>
                  </a:lnTo>
                  <a:lnTo>
                    <a:pt x="462" y="1320"/>
                  </a:lnTo>
                  <a:lnTo>
                    <a:pt x="409" y="1291"/>
                  </a:lnTo>
                  <a:lnTo>
                    <a:pt x="361" y="1260"/>
                  </a:lnTo>
                  <a:lnTo>
                    <a:pt x="315" y="1228"/>
                  </a:lnTo>
                  <a:lnTo>
                    <a:pt x="273" y="1193"/>
                  </a:lnTo>
                  <a:lnTo>
                    <a:pt x="234" y="1158"/>
                  </a:lnTo>
                  <a:lnTo>
                    <a:pt x="198" y="1122"/>
                  </a:lnTo>
                  <a:lnTo>
                    <a:pt x="164" y="1085"/>
                  </a:lnTo>
                  <a:lnTo>
                    <a:pt x="135" y="1046"/>
                  </a:lnTo>
                  <a:lnTo>
                    <a:pt x="107" y="1005"/>
                  </a:lnTo>
                  <a:lnTo>
                    <a:pt x="84" y="964"/>
                  </a:lnTo>
                  <a:lnTo>
                    <a:pt x="63" y="922"/>
                  </a:lnTo>
                  <a:lnTo>
                    <a:pt x="47" y="878"/>
                  </a:lnTo>
                  <a:lnTo>
                    <a:pt x="32" y="833"/>
                  </a:lnTo>
                  <a:lnTo>
                    <a:pt x="22" y="78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9" name=""/>
            <p:cNvSpPr/>
            <p:nvPr/>
          </p:nvSpPr>
          <p:spPr>
            <a:xfrm>
              <a:off x="1023840" y="2679840"/>
              <a:ext cx="7020000" cy="3038400"/>
            </a:xfrm>
            <a:custGeom>
              <a:avLst/>
              <a:gdLst/>
              <a:ahLst/>
              <a:rect l="l" t="t" r="r" b="b"/>
              <a:pathLst>
                <a:path w="3705" h="1562">
                  <a:moveTo>
                    <a:pt x="1845" y="1562"/>
                  </a:moveTo>
                  <a:lnTo>
                    <a:pt x="1933" y="1562"/>
                  </a:lnTo>
                  <a:lnTo>
                    <a:pt x="2021" y="1558"/>
                  </a:lnTo>
                  <a:lnTo>
                    <a:pt x="2105" y="1555"/>
                  </a:lnTo>
                  <a:lnTo>
                    <a:pt x="2190" y="1550"/>
                  </a:lnTo>
                  <a:lnTo>
                    <a:pt x="2271" y="1544"/>
                  </a:lnTo>
                  <a:lnTo>
                    <a:pt x="2353" y="1536"/>
                  </a:lnTo>
                  <a:lnTo>
                    <a:pt x="2431" y="1526"/>
                  </a:lnTo>
                  <a:lnTo>
                    <a:pt x="2507" y="1515"/>
                  </a:lnTo>
                  <a:lnTo>
                    <a:pt x="2582" y="1503"/>
                  </a:lnTo>
                  <a:lnTo>
                    <a:pt x="2655" y="1489"/>
                  </a:lnTo>
                  <a:lnTo>
                    <a:pt x="2727" y="1474"/>
                  </a:lnTo>
                  <a:lnTo>
                    <a:pt x="2795" y="1458"/>
                  </a:lnTo>
                  <a:lnTo>
                    <a:pt x="2864" y="1440"/>
                  </a:lnTo>
                  <a:lnTo>
                    <a:pt x="2927" y="1420"/>
                  </a:lnTo>
                  <a:lnTo>
                    <a:pt x="2990" y="1399"/>
                  </a:lnTo>
                  <a:lnTo>
                    <a:pt x="3051" y="1378"/>
                  </a:lnTo>
                  <a:lnTo>
                    <a:pt x="3109" y="1354"/>
                  </a:lnTo>
                  <a:lnTo>
                    <a:pt x="3164" y="1329"/>
                  </a:lnTo>
                  <a:lnTo>
                    <a:pt x="3218" y="1303"/>
                  </a:lnTo>
                  <a:lnTo>
                    <a:pt x="3270" y="1276"/>
                  </a:lnTo>
                  <a:lnTo>
                    <a:pt x="3319" y="1248"/>
                  </a:lnTo>
                  <a:lnTo>
                    <a:pt x="3365" y="1217"/>
                  </a:lnTo>
                  <a:lnTo>
                    <a:pt x="3408" y="1186"/>
                  </a:lnTo>
                  <a:lnTo>
                    <a:pt x="3449" y="1154"/>
                  </a:lnTo>
                  <a:lnTo>
                    <a:pt x="3488" y="1120"/>
                  </a:lnTo>
                  <a:lnTo>
                    <a:pt x="3524" y="1084"/>
                  </a:lnTo>
                  <a:lnTo>
                    <a:pt x="3557" y="1046"/>
                  </a:lnTo>
                  <a:lnTo>
                    <a:pt x="3587" y="1009"/>
                  </a:lnTo>
                  <a:lnTo>
                    <a:pt x="3613" y="970"/>
                  </a:lnTo>
                  <a:lnTo>
                    <a:pt x="3638" y="929"/>
                  </a:lnTo>
                  <a:lnTo>
                    <a:pt x="3661" y="887"/>
                  </a:lnTo>
                  <a:lnTo>
                    <a:pt x="3679" y="845"/>
                  </a:lnTo>
                  <a:lnTo>
                    <a:pt x="3696" y="786"/>
                  </a:lnTo>
                  <a:lnTo>
                    <a:pt x="3705" y="723"/>
                  </a:lnTo>
                  <a:lnTo>
                    <a:pt x="3705" y="656"/>
                  </a:lnTo>
                  <a:lnTo>
                    <a:pt x="3700" y="591"/>
                  </a:lnTo>
                  <a:lnTo>
                    <a:pt x="3690" y="530"/>
                  </a:lnTo>
                  <a:lnTo>
                    <a:pt x="3677" y="474"/>
                  </a:lnTo>
                  <a:lnTo>
                    <a:pt x="3662" y="429"/>
                  </a:lnTo>
                  <a:lnTo>
                    <a:pt x="3648" y="396"/>
                  </a:lnTo>
                  <a:lnTo>
                    <a:pt x="3628" y="365"/>
                  </a:lnTo>
                  <a:lnTo>
                    <a:pt x="3605" y="334"/>
                  </a:lnTo>
                  <a:lnTo>
                    <a:pt x="3579" y="307"/>
                  </a:lnTo>
                  <a:lnTo>
                    <a:pt x="3550" y="279"/>
                  </a:lnTo>
                  <a:lnTo>
                    <a:pt x="3519" y="255"/>
                  </a:lnTo>
                  <a:lnTo>
                    <a:pt x="3483" y="230"/>
                  </a:lnTo>
                  <a:lnTo>
                    <a:pt x="3446" y="209"/>
                  </a:lnTo>
                  <a:lnTo>
                    <a:pt x="3405" y="188"/>
                  </a:lnTo>
                  <a:lnTo>
                    <a:pt x="3361" y="169"/>
                  </a:lnTo>
                  <a:lnTo>
                    <a:pt x="3314" y="151"/>
                  </a:lnTo>
                  <a:lnTo>
                    <a:pt x="3267" y="135"/>
                  </a:lnTo>
                  <a:lnTo>
                    <a:pt x="3215" y="118"/>
                  </a:lnTo>
                  <a:lnTo>
                    <a:pt x="3161" y="104"/>
                  </a:lnTo>
                  <a:lnTo>
                    <a:pt x="3106" y="91"/>
                  </a:lnTo>
                  <a:lnTo>
                    <a:pt x="3049" y="79"/>
                  </a:lnTo>
                  <a:lnTo>
                    <a:pt x="2989" y="68"/>
                  </a:lnTo>
                  <a:lnTo>
                    <a:pt x="2927" y="58"/>
                  </a:lnTo>
                  <a:lnTo>
                    <a:pt x="2865" y="48"/>
                  </a:lnTo>
                  <a:lnTo>
                    <a:pt x="2800" y="40"/>
                  </a:lnTo>
                  <a:lnTo>
                    <a:pt x="2733" y="34"/>
                  </a:lnTo>
                  <a:lnTo>
                    <a:pt x="2665" y="27"/>
                  </a:lnTo>
                  <a:lnTo>
                    <a:pt x="2595" y="22"/>
                  </a:lnTo>
                  <a:lnTo>
                    <a:pt x="2525" y="17"/>
                  </a:lnTo>
                  <a:lnTo>
                    <a:pt x="2452" y="13"/>
                  </a:lnTo>
                  <a:lnTo>
                    <a:pt x="2379" y="9"/>
                  </a:lnTo>
                  <a:lnTo>
                    <a:pt x="2306" y="6"/>
                  </a:lnTo>
                  <a:lnTo>
                    <a:pt x="2231" y="4"/>
                  </a:lnTo>
                  <a:lnTo>
                    <a:pt x="2154" y="3"/>
                  </a:lnTo>
                  <a:lnTo>
                    <a:pt x="2078" y="1"/>
                  </a:lnTo>
                  <a:lnTo>
                    <a:pt x="2001" y="0"/>
                  </a:lnTo>
                  <a:lnTo>
                    <a:pt x="1923" y="0"/>
                  </a:lnTo>
                  <a:lnTo>
                    <a:pt x="1845" y="0"/>
                  </a:lnTo>
                  <a:lnTo>
                    <a:pt x="1765" y="0"/>
                  </a:lnTo>
                  <a:lnTo>
                    <a:pt x="1686" y="0"/>
                  </a:lnTo>
                  <a:lnTo>
                    <a:pt x="1608" y="1"/>
                  </a:lnTo>
                  <a:lnTo>
                    <a:pt x="1530" y="1"/>
                  </a:lnTo>
                  <a:lnTo>
                    <a:pt x="1451" y="3"/>
                  </a:lnTo>
                  <a:lnTo>
                    <a:pt x="1375" y="4"/>
                  </a:lnTo>
                  <a:lnTo>
                    <a:pt x="1300" y="8"/>
                  </a:lnTo>
                  <a:lnTo>
                    <a:pt x="1225" y="9"/>
                  </a:lnTo>
                  <a:lnTo>
                    <a:pt x="1151" y="13"/>
                  </a:lnTo>
                  <a:lnTo>
                    <a:pt x="1079" y="17"/>
                  </a:lnTo>
                  <a:lnTo>
                    <a:pt x="1007" y="22"/>
                  </a:lnTo>
                  <a:lnTo>
                    <a:pt x="939" y="29"/>
                  </a:lnTo>
                  <a:lnTo>
                    <a:pt x="871" y="35"/>
                  </a:lnTo>
                  <a:lnTo>
                    <a:pt x="804" y="42"/>
                  </a:lnTo>
                  <a:lnTo>
                    <a:pt x="741" y="50"/>
                  </a:lnTo>
                  <a:lnTo>
                    <a:pt x="677" y="60"/>
                  </a:lnTo>
                  <a:lnTo>
                    <a:pt x="617" y="71"/>
                  </a:lnTo>
                  <a:lnTo>
                    <a:pt x="558" y="82"/>
                  </a:lnTo>
                  <a:lnTo>
                    <a:pt x="503" y="96"/>
                  </a:lnTo>
                  <a:lnTo>
                    <a:pt x="449" y="109"/>
                  </a:lnTo>
                  <a:lnTo>
                    <a:pt x="399" y="125"/>
                  </a:lnTo>
                  <a:lnTo>
                    <a:pt x="350" y="141"/>
                  </a:lnTo>
                  <a:lnTo>
                    <a:pt x="305" y="159"/>
                  </a:lnTo>
                  <a:lnTo>
                    <a:pt x="262" y="178"/>
                  </a:lnTo>
                  <a:lnTo>
                    <a:pt x="223" y="200"/>
                  </a:lnTo>
                  <a:lnTo>
                    <a:pt x="186" y="222"/>
                  </a:lnTo>
                  <a:lnTo>
                    <a:pt x="153" y="247"/>
                  </a:lnTo>
                  <a:lnTo>
                    <a:pt x="124" y="273"/>
                  </a:lnTo>
                  <a:lnTo>
                    <a:pt x="96" y="300"/>
                  </a:lnTo>
                  <a:lnTo>
                    <a:pt x="74" y="330"/>
                  </a:lnTo>
                  <a:lnTo>
                    <a:pt x="54" y="362"/>
                  </a:lnTo>
                  <a:lnTo>
                    <a:pt x="39" y="395"/>
                  </a:lnTo>
                  <a:lnTo>
                    <a:pt x="22" y="448"/>
                  </a:lnTo>
                  <a:lnTo>
                    <a:pt x="9" y="497"/>
                  </a:lnTo>
                  <a:lnTo>
                    <a:pt x="2" y="544"/>
                  </a:lnTo>
                  <a:lnTo>
                    <a:pt x="0" y="590"/>
                  </a:lnTo>
                  <a:lnTo>
                    <a:pt x="2" y="634"/>
                  </a:lnTo>
                  <a:lnTo>
                    <a:pt x="7" y="677"/>
                  </a:lnTo>
                  <a:lnTo>
                    <a:pt x="13" y="721"/>
                  </a:lnTo>
                  <a:lnTo>
                    <a:pt x="22" y="767"/>
                  </a:lnTo>
                  <a:lnTo>
                    <a:pt x="33" y="816"/>
                  </a:lnTo>
                  <a:lnTo>
                    <a:pt x="48" y="864"/>
                  </a:lnTo>
                  <a:lnTo>
                    <a:pt x="67" y="910"/>
                  </a:lnTo>
                  <a:lnTo>
                    <a:pt x="90" y="955"/>
                  </a:lnTo>
                  <a:lnTo>
                    <a:pt x="116" y="998"/>
                  </a:lnTo>
                  <a:lnTo>
                    <a:pt x="145" y="1040"/>
                  </a:lnTo>
                  <a:lnTo>
                    <a:pt x="179" y="1079"/>
                  </a:lnTo>
                  <a:lnTo>
                    <a:pt x="215" y="1118"/>
                  </a:lnTo>
                  <a:lnTo>
                    <a:pt x="254" y="1154"/>
                  </a:lnTo>
                  <a:lnTo>
                    <a:pt x="296" y="1189"/>
                  </a:lnTo>
                  <a:lnTo>
                    <a:pt x="344" y="1222"/>
                  </a:lnTo>
                  <a:lnTo>
                    <a:pt x="391" y="1255"/>
                  </a:lnTo>
                  <a:lnTo>
                    <a:pt x="443" y="1284"/>
                  </a:lnTo>
                  <a:lnTo>
                    <a:pt x="497" y="1313"/>
                  </a:lnTo>
                  <a:lnTo>
                    <a:pt x="554" y="1341"/>
                  </a:lnTo>
                  <a:lnTo>
                    <a:pt x="614" y="1365"/>
                  </a:lnTo>
                  <a:lnTo>
                    <a:pt x="676" y="1389"/>
                  </a:lnTo>
                  <a:lnTo>
                    <a:pt x="741" y="1412"/>
                  </a:lnTo>
                  <a:lnTo>
                    <a:pt x="807" y="1432"/>
                  </a:lnTo>
                  <a:lnTo>
                    <a:pt x="876" y="1451"/>
                  </a:lnTo>
                  <a:lnTo>
                    <a:pt x="947" y="1469"/>
                  </a:lnTo>
                  <a:lnTo>
                    <a:pt x="1020" y="1485"/>
                  </a:lnTo>
                  <a:lnTo>
                    <a:pt x="1095" y="1500"/>
                  </a:lnTo>
                  <a:lnTo>
                    <a:pt x="1172" y="1513"/>
                  </a:lnTo>
                  <a:lnTo>
                    <a:pt x="1251" y="1524"/>
                  </a:lnTo>
                  <a:lnTo>
                    <a:pt x="1331" y="1534"/>
                  </a:lnTo>
                  <a:lnTo>
                    <a:pt x="1414" y="1542"/>
                  </a:lnTo>
                  <a:lnTo>
                    <a:pt x="1497" y="1550"/>
                  </a:lnTo>
                  <a:lnTo>
                    <a:pt x="1582" y="1555"/>
                  </a:lnTo>
                  <a:lnTo>
                    <a:pt x="1669" y="1558"/>
                  </a:lnTo>
                  <a:lnTo>
                    <a:pt x="1756" y="1562"/>
                  </a:lnTo>
                  <a:lnTo>
                    <a:pt x="1845" y="156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0" name=""/>
            <p:cNvSpPr/>
            <p:nvPr/>
          </p:nvSpPr>
          <p:spPr>
            <a:xfrm>
              <a:off x="1031760" y="2133720"/>
              <a:ext cx="6970680" cy="3044880"/>
            </a:xfrm>
            <a:custGeom>
              <a:avLst/>
              <a:gdLst/>
              <a:ahLst/>
              <a:rect l="l" t="t" r="r" b="b"/>
              <a:pathLst>
                <a:path w="3678" h="1565">
                  <a:moveTo>
                    <a:pt x="0" y="784"/>
                  </a:moveTo>
                  <a:lnTo>
                    <a:pt x="2" y="745"/>
                  </a:lnTo>
                  <a:lnTo>
                    <a:pt x="8" y="707"/>
                  </a:lnTo>
                  <a:lnTo>
                    <a:pt x="20" y="670"/>
                  </a:lnTo>
                  <a:lnTo>
                    <a:pt x="36" y="632"/>
                  </a:lnTo>
                  <a:lnTo>
                    <a:pt x="56" y="595"/>
                  </a:lnTo>
                  <a:lnTo>
                    <a:pt x="80" y="558"/>
                  </a:lnTo>
                  <a:lnTo>
                    <a:pt x="109" y="522"/>
                  </a:lnTo>
                  <a:lnTo>
                    <a:pt x="143" y="486"/>
                  </a:lnTo>
                  <a:lnTo>
                    <a:pt x="171" y="458"/>
                  </a:lnTo>
                  <a:lnTo>
                    <a:pt x="202" y="432"/>
                  </a:lnTo>
                  <a:lnTo>
                    <a:pt x="235" y="406"/>
                  </a:lnTo>
                  <a:lnTo>
                    <a:pt x="270" y="382"/>
                  </a:lnTo>
                  <a:lnTo>
                    <a:pt x="306" y="358"/>
                  </a:lnTo>
                  <a:lnTo>
                    <a:pt x="345" y="333"/>
                  </a:lnTo>
                  <a:lnTo>
                    <a:pt x="386" y="310"/>
                  </a:lnTo>
                  <a:lnTo>
                    <a:pt x="428" y="288"/>
                  </a:lnTo>
                  <a:lnTo>
                    <a:pt x="474" y="265"/>
                  </a:lnTo>
                  <a:lnTo>
                    <a:pt x="519" y="244"/>
                  </a:lnTo>
                  <a:lnTo>
                    <a:pt x="568" y="224"/>
                  </a:lnTo>
                  <a:lnTo>
                    <a:pt x="617" y="205"/>
                  </a:lnTo>
                  <a:lnTo>
                    <a:pt x="667" y="185"/>
                  </a:lnTo>
                  <a:lnTo>
                    <a:pt x="719" y="167"/>
                  </a:lnTo>
                  <a:lnTo>
                    <a:pt x="773" y="150"/>
                  </a:lnTo>
                  <a:lnTo>
                    <a:pt x="828" y="133"/>
                  </a:lnTo>
                  <a:lnTo>
                    <a:pt x="885" y="119"/>
                  </a:lnTo>
                  <a:lnTo>
                    <a:pt x="942" y="104"/>
                  </a:lnTo>
                  <a:lnTo>
                    <a:pt x="1002" y="89"/>
                  </a:lnTo>
                  <a:lnTo>
                    <a:pt x="1061" y="76"/>
                  </a:lnTo>
                  <a:lnTo>
                    <a:pt x="1123" y="65"/>
                  </a:lnTo>
                  <a:lnTo>
                    <a:pt x="1185" y="54"/>
                  </a:lnTo>
                  <a:lnTo>
                    <a:pt x="1246" y="44"/>
                  </a:lnTo>
                  <a:lnTo>
                    <a:pt x="1310" y="36"/>
                  </a:lnTo>
                  <a:lnTo>
                    <a:pt x="1375" y="28"/>
                  </a:lnTo>
                  <a:lnTo>
                    <a:pt x="1440" y="20"/>
                  </a:lnTo>
                  <a:lnTo>
                    <a:pt x="1505" y="15"/>
                  </a:lnTo>
                  <a:lnTo>
                    <a:pt x="1572" y="10"/>
                  </a:lnTo>
                  <a:lnTo>
                    <a:pt x="1638" y="5"/>
                  </a:lnTo>
                  <a:lnTo>
                    <a:pt x="1705" y="2"/>
                  </a:lnTo>
                  <a:lnTo>
                    <a:pt x="1772" y="0"/>
                  </a:lnTo>
                  <a:lnTo>
                    <a:pt x="1840" y="0"/>
                  </a:lnTo>
                  <a:lnTo>
                    <a:pt x="1908" y="0"/>
                  </a:lnTo>
                  <a:lnTo>
                    <a:pt x="1975" y="2"/>
                  </a:lnTo>
                  <a:lnTo>
                    <a:pt x="2042" y="5"/>
                  </a:lnTo>
                  <a:lnTo>
                    <a:pt x="2109" y="10"/>
                  </a:lnTo>
                  <a:lnTo>
                    <a:pt x="2175" y="15"/>
                  </a:lnTo>
                  <a:lnTo>
                    <a:pt x="2240" y="20"/>
                  </a:lnTo>
                  <a:lnTo>
                    <a:pt x="2305" y="28"/>
                  </a:lnTo>
                  <a:lnTo>
                    <a:pt x="2369" y="36"/>
                  </a:lnTo>
                  <a:lnTo>
                    <a:pt x="2432" y="44"/>
                  </a:lnTo>
                  <a:lnTo>
                    <a:pt x="2496" y="54"/>
                  </a:lnTo>
                  <a:lnTo>
                    <a:pt x="2558" y="65"/>
                  </a:lnTo>
                  <a:lnTo>
                    <a:pt x="2618" y="76"/>
                  </a:lnTo>
                  <a:lnTo>
                    <a:pt x="2678" y="89"/>
                  </a:lnTo>
                  <a:lnTo>
                    <a:pt x="2737" y="104"/>
                  </a:lnTo>
                  <a:lnTo>
                    <a:pt x="2793" y="119"/>
                  </a:lnTo>
                  <a:lnTo>
                    <a:pt x="2850" y="133"/>
                  </a:lnTo>
                  <a:lnTo>
                    <a:pt x="2906" y="150"/>
                  </a:lnTo>
                  <a:lnTo>
                    <a:pt x="2959" y="167"/>
                  </a:lnTo>
                  <a:lnTo>
                    <a:pt x="3011" y="185"/>
                  </a:lnTo>
                  <a:lnTo>
                    <a:pt x="3062" y="205"/>
                  </a:lnTo>
                  <a:lnTo>
                    <a:pt x="3112" y="224"/>
                  </a:lnTo>
                  <a:lnTo>
                    <a:pt x="3159" y="244"/>
                  </a:lnTo>
                  <a:lnTo>
                    <a:pt x="3205" y="265"/>
                  </a:lnTo>
                  <a:lnTo>
                    <a:pt x="3251" y="288"/>
                  </a:lnTo>
                  <a:lnTo>
                    <a:pt x="3293" y="310"/>
                  </a:lnTo>
                  <a:lnTo>
                    <a:pt x="3334" y="333"/>
                  </a:lnTo>
                  <a:lnTo>
                    <a:pt x="3373" y="358"/>
                  </a:lnTo>
                  <a:lnTo>
                    <a:pt x="3408" y="382"/>
                  </a:lnTo>
                  <a:lnTo>
                    <a:pt x="3444" y="406"/>
                  </a:lnTo>
                  <a:lnTo>
                    <a:pt x="3477" y="432"/>
                  </a:lnTo>
                  <a:lnTo>
                    <a:pt x="3508" y="458"/>
                  </a:lnTo>
                  <a:lnTo>
                    <a:pt x="3535" y="486"/>
                  </a:lnTo>
                  <a:lnTo>
                    <a:pt x="3568" y="522"/>
                  </a:lnTo>
                  <a:lnTo>
                    <a:pt x="3597" y="558"/>
                  </a:lnTo>
                  <a:lnTo>
                    <a:pt x="3621" y="595"/>
                  </a:lnTo>
                  <a:lnTo>
                    <a:pt x="3643" y="632"/>
                  </a:lnTo>
                  <a:lnTo>
                    <a:pt x="3657" y="670"/>
                  </a:lnTo>
                  <a:lnTo>
                    <a:pt x="3669" y="707"/>
                  </a:lnTo>
                  <a:lnTo>
                    <a:pt x="3677" y="745"/>
                  </a:lnTo>
                  <a:lnTo>
                    <a:pt x="3678" y="784"/>
                  </a:lnTo>
                  <a:lnTo>
                    <a:pt x="3675" y="823"/>
                  </a:lnTo>
                  <a:lnTo>
                    <a:pt x="3669" y="862"/>
                  </a:lnTo>
                  <a:lnTo>
                    <a:pt x="3657" y="901"/>
                  </a:lnTo>
                  <a:lnTo>
                    <a:pt x="3641" y="938"/>
                  </a:lnTo>
                  <a:lnTo>
                    <a:pt x="3620" y="975"/>
                  </a:lnTo>
                  <a:lnTo>
                    <a:pt x="3594" y="1013"/>
                  </a:lnTo>
                  <a:lnTo>
                    <a:pt x="3565" y="1048"/>
                  </a:lnTo>
                  <a:lnTo>
                    <a:pt x="3532" y="1084"/>
                  </a:lnTo>
                  <a:lnTo>
                    <a:pt x="3495" y="1118"/>
                  </a:lnTo>
                  <a:lnTo>
                    <a:pt x="3452" y="1153"/>
                  </a:lnTo>
                  <a:lnTo>
                    <a:pt x="3408" y="1185"/>
                  </a:lnTo>
                  <a:lnTo>
                    <a:pt x="3360" y="1216"/>
                  </a:lnTo>
                  <a:lnTo>
                    <a:pt x="3308" y="1247"/>
                  </a:lnTo>
                  <a:lnTo>
                    <a:pt x="3252" y="1278"/>
                  </a:lnTo>
                  <a:lnTo>
                    <a:pt x="3194" y="1305"/>
                  </a:lnTo>
                  <a:lnTo>
                    <a:pt x="3133" y="1333"/>
                  </a:lnTo>
                  <a:lnTo>
                    <a:pt x="3068" y="1359"/>
                  </a:lnTo>
                  <a:lnTo>
                    <a:pt x="3002" y="1383"/>
                  </a:lnTo>
                  <a:lnTo>
                    <a:pt x="2932" y="1408"/>
                  </a:lnTo>
                  <a:lnTo>
                    <a:pt x="2859" y="1429"/>
                  </a:lnTo>
                  <a:lnTo>
                    <a:pt x="2785" y="1450"/>
                  </a:lnTo>
                  <a:lnTo>
                    <a:pt x="2707" y="1469"/>
                  </a:lnTo>
                  <a:lnTo>
                    <a:pt x="2629" y="1487"/>
                  </a:lnTo>
                  <a:lnTo>
                    <a:pt x="2548" y="1502"/>
                  </a:lnTo>
                  <a:lnTo>
                    <a:pt x="2465" y="1517"/>
                  </a:lnTo>
                  <a:lnTo>
                    <a:pt x="2380" y="1530"/>
                  </a:lnTo>
                  <a:lnTo>
                    <a:pt x="2292" y="1541"/>
                  </a:lnTo>
                  <a:lnTo>
                    <a:pt x="2205" y="1549"/>
                  </a:lnTo>
                  <a:lnTo>
                    <a:pt x="2115" y="1556"/>
                  </a:lnTo>
                  <a:lnTo>
                    <a:pt x="2026" y="1561"/>
                  </a:lnTo>
                  <a:lnTo>
                    <a:pt x="1933" y="1564"/>
                  </a:lnTo>
                  <a:lnTo>
                    <a:pt x="1840" y="1565"/>
                  </a:lnTo>
                  <a:lnTo>
                    <a:pt x="1772" y="1565"/>
                  </a:lnTo>
                  <a:lnTo>
                    <a:pt x="1705" y="1564"/>
                  </a:lnTo>
                  <a:lnTo>
                    <a:pt x="1638" y="1561"/>
                  </a:lnTo>
                  <a:lnTo>
                    <a:pt x="1572" y="1556"/>
                  </a:lnTo>
                  <a:lnTo>
                    <a:pt x="1505" y="1551"/>
                  </a:lnTo>
                  <a:lnTo>
                    <a:pt x="1440" y="1546"/>
                  </a:lnTo>
                  <a:lnTo>
                    <a:pt x="1375" y="1538"/>
                  </a:lnTo>
                  <a:lnTo>
                    <a:pt x="1310" y="1530"/>
                  </a:lnTo>
                  <a:lnTo>
                    <a:pt x="1246" y="1522"/>
                  </a:lnTo>
                  <a:lnTo>
                    <a:pt x="1185" y="1512"/>
                  </a:lnTo>
                  <a:lnTo>
                    <a:pt x="1123" y="1500"/>
                  </a:lnTo>
                  <a:lnTo>
                    <a:pt x="1061" y="1489"/>
                  </a:lnTo>
                  <a:lnTo>
                    <a:pt x="1002" y="1476"/>
                  </a:lnTo>
                  <a:lnTo>
                    <a:pt x="942" y="1461"/>
                  </a:lnTo>
                  <a:lnTo>
                    <a:pt x="885" y="1447"/>
                  </a:lnTo>
                  <a:lnTo>
                    <a:pt x="828" y="1432"/>
                  </a:lnTo>
                  <a:lnTo>
                    <a:pt x="773" y="1416"/>
                  </a:lnTo>
                  <a:lnTo>
                    <a:pt x="719" y="1398"/>
                  </a:lnTo>
                  <a:lnTo>
                    <a:pt x="667" y="1380"/>
                  </a:lnTo>
                  <a:lnTo>
                    <a:pt x="617" y="1362"/>
                  </a:lnTo>
                  <a:lnTo>
                    <a:pt x="568" y="1341"/>
                  </a:lnTo>
                  <a:lnTo>
                    <a:pt x="519" y="1322"/>
                  </a:lnTo>
                  <a:lnTo>
                    <a:pt x="474" y="1300"/>
                  </a:lnTo>
                  <a:lnTo>
                    <a:pt x="428" y="1279"/>
                  </a:lnTo>
                  <a:lnTo>
                    <a:pt x="386" y="1257"/>
                  </a:lnTo>
                  <a:lnTo>
                    <a:pt x="345" y="1234"/>
                  </a:lnTo>
                  <a:lnTo>
                    <a:pt x="306" y="1209"/>
                  </a:lnTo>
                  <a:lnTo>
                    <a:pt x="270" y="1185"/>
                  </a:lnTo>
                  <a:lnTo>
                    <a:pt x="235" y="1159"/>
                  </a:lnTo>
                  <a:lnTo>
                    <a:pt x="202" y="1135"/>
                  </a:lnTo>
                  <a:lnTo>
                    <a:pt x="171" y="1109"/>
                  </a:lnTo>
                  <a:lnTo>
                    <a:pt x="143" y="1081"/>
                  </a:lnTo>
                  <a:lnTo>
                    <a:pt x="109" y="1045"/>
                  </a:lnTo>
                  <a:lnTo>
                    <a:pt x="80" y="1009"/>
                  </a:lnTo>
                  <a:lnTo>
                    <a:pt x="56" y="972"/>
                  </a:lnTo>
                  <a:lnTo>
                    <a:pt x="36" y="935"/>
                  </a:lnTo>
                  <a:lnTo>
                    <a:pt x="20" y="897"/>
                  </a:lnTo>
                  <a:lnTo>
                    <a:pt x="8" y="860"/>
                  </a:lnTo>
                  <a:lnTo>
                    <a:pt x="2" y="823"/>
                  </a:lnTo>
                  <a:lnTo>
                    <a:pt x="0" y="78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1" name=""/>
            <p:cNvSpPr/>
            <p:nvPr/>
          </p:nvSpPr>
          <p:spPr>
            <a:xfrm>
              <a:off x="1065240" y="2168640"/>
              <a:ext cx="6907320" cy="2977920"/>
            </a:xfrm>
            <a:custGeom>
              <a:avLst/>
              <a:gdLst/>
              <a:ahLst/>
              <a:rect l="l" t="t" r="r" b="b"/>
              <a:pathLst>
                <a:path w="3645" h="1531">
                  <a:moveTo>
                    <a:pt x="1823" y="1531"/>
                  </a:moveTo>
                  <a:lnTo>
                    <a:pt x="1913" y="1530"/>
                  </a:lnTo>
                  <a:lnTo>
                    <a:pt x="2000" y="1528"/>
                  </a:lnTo>
                  <a:lnTo>
                    <a:pt x="2088" y="1523"/>
                  </a:lnTo>
                  <a:lnTo>
                    <a:pt x="2175" y="1515"/>
                  </a:lnTo>
                  <a:lnTo>
                    <a:pt x="2261" y="1507"/>
                  </a:lnTo>
                  <a:lnTo>
                    <a:pt x="2345" y="1497"/>
                  </a:lnTo>
                  <a:lnTo>
                    <a:pt x="2428" y="1484"/>
                  </a:lnTo>
                  <a:lnTo>
                    <a:pt x="2510" y="1471"/>
                  </a:lnTo>
                  <a:lnTo>
                    <a:pt x="2589" y="1456"/>
                  </a:lnTo>
                  <a:lnTo>
                    <a:pt x="2667" y="1438"/>
                  </a:lnTo>
                  <a:lnTo>
                    <a:pt x="2744" y="1421"/>
                  </a:lnTo>
                  <a:lnTo>
                    <a:pt x="2817" y="1401"/>
                  </a:lnTo>
                  <a:lnTo>
                    <a:pt x="2890" y="1378"/>
                  </a:lnTo>
                  <a:lnTo>
                    <a:pt x="2959" y="1356"/>
                  </a:lnTo>
                  <a:lnTo>
                    <a:pt x="3027" y="1333"/>
                  </a:lnTo>
                  <a:lnTo>
                    <a:pt x="3090" y="1307"/>
                  </a:lnTo>
                  <a:lnTo>
                    <a:pt x="3152" y="1281"/>
                  </a:lnTo>
                  <a:lnTo>
                    <a:pt x="3211" y="1253"/>
                  </a:lnTo>
                  <a:lnTo>
                    <a:pt x="3268" y="1224"/>
                  </a:lnTo>
                  <a:lnTo>
                    <a:pt x="3320" y="1193"/>
                  </a:lnTo>
                  <a:lnTo>
                    <a:pt x="3369" y="1162"/>
                  </a:lnTo>
                  <a:lnTo>
                    <a:pt x="3414" y="1130"/>
                  </a:lnTo>
                  <a:lnTo>
                    <a:pt x="3456" y="1097"/>
                  </a:lnTo>
                  <a:lnTo>
                    <a:pt x="3494" y="1063"/>
                  </a:lnTo>
                  <a:lnTo>
                    <a:pt x="3528" y="1029"/>
                  </a:lnTo>
                  <a:lnTo>
                    <a:pt x="3559" y="993"/>
                  </a:lnTo>
                  <a:lnTo>
                    <a:pt x="3585" y="957"/>
                  </a:lnTo>
                  <a:lnTo>
                    <a:pt x="3606" y="920"/>
                  </a:lnTo>
                  <a:lnTo>
                    <a:pt x="3622" y="883"/>
                  </a:lnTo>
                  <a:lnTo>
                    <a:pt x="3635" y="844"/>
                  </a:lnTo>
                  <a:lnTo>
                    <a:pt x="3642" y="805"/>
                  </a:lnTo>
                  <a:lnTo>
                    <a:pt x="3645" y="766"/>
                  </a:lnTo>
                  <a:lnTo>
                    <a:pt x="3642" y="727"/>
                  </a:lnTo>
                  <a:lnTo>
                    <a:pt x="3635" y="687"/>
                  </a:lnTo>
                  <a:lnTo>
                    <a:pt x="3622" y="648"/>
                  </a:lnTo>
                  <a:lnTo>
                    <a:pt x="3606" y="611"/>
                  </a:lnTo>
                  <a:lnTo>
                    <a:pt x="3585" y="574"/>
                  </a:lnTo>
                  <a:lnTo>
                    <a:pt x="3559" y="538"/>
                  </a:lnTo>
                  <a:lnTo>
                    <a:pt x="3528" y="502"/>
                  </a:lnTo>
                  <a:lnTo>
                    <a:pt x="3494" y="468"/>
                  </a:lnTo>
                  <a:lnTo>
                    <a:pt x="3456" y="434"/>
                  </a:lnTo>
                  <a:lnTo>
                    <a:pt x="3414" y="401"/>
                  </a:lnTo>
                  <a:lnTo>
                    <a:pt x="3369" y="369"/>
                  </a:lnTo>
                  <a:lnTo>
                    <a:pt x="3320" y="338"/>
                  </a:lnTo>
                  <a:lnTo>
                    <a:pt x="3268" y="307"/>
                  </a:lnTo>
                  <a:lnTo>
                    <a:pt x="3211" y="278"/>
                  </a:lnTo>
                  <a:lnTo>
                    <a:pt x="3152" y="250"/>
                  </a:lnTo>
                  <a:lnTo>
                    <a:pt x="3090" y="224"/>
                  </a:lnTo>
                  <a:lnTo>
                    <a:pt x="3027" y="198"/>
                  </a:lnTo>
                  <a:lnTo>
                    <a:pt x="2959" y="175"/>
                  </a:lnTo>
                  <a:lnTo>
                    <a:pt x="2890" y="153"/>
                  </a:lnTo>
                  <a:lnTo>
                    <a:pt x="2817" y="130"/>
                  </a:lnTo>
                  <a:lnTo>
                    <a:pt x="2744" y="110"/>
                  </a:lnTo>
                  <a:lnTo>
                    <a:pt x="2667" y="93"/>
                  </a:lnTo>
                  <a:lnTo>
                    <a:pt x="2589" y="75"/>
                  </a:lnTo>
                  <a:lnTo>
                    <a:pt x="2510" y="60"/>
                  </a:lnTo>
                  <a:lnTo>
                    <a:pt x="2428" y="47"/>
                  </a:lnTo>
                  <a:lnTo>
                    <a:pt x="2345" y="34"/>
                  </a:lnTo>
                  <a:lnTo>
                    <a:pt x="2261" y="24"/>
                  </a:lnTo>
                  <a:lnTo>
                    <a:pt x="2175" y="16"/>
                  </a:lnTo>
                  <a:lnTo>
                    <a:pt x="2088" y="8"/>
                  </a:lnTo>
                  <a:lnTo>
                    <a:pt x="2000" y="3"/>
                  </a:lnTo>
                  <a:lnTo>
                    <a:pt x="1913" y="2"/>
                  </a:lnTo>
                  <a:lnTo>
                    <a:pt x="1823" y="0"/>
                  </a:lnTo>
                  <a:lnTo>
                    <a:pt x="1734" y="2"/>
                  </a:lnTo>
                  <a:lnTo>
                    <a:pt x="1646" y="3"/>
                  </a:lnTo>
                  <a:lnTo>
                    <a:pt x="1558" y="8"/>
                  </a:lnTo>
                  <a:lnTo>
                    <a:pt x="1472" y="16"/>
                  </a:lnTo>
                  <a:lnTo>
                    <a:pt x="1386" y="24"/>
                  </a:lnTo>
                  <a:lnTo>
                    <a:pt x="1301" y="34"/>
                  </a:lnTo>
                  <a:lnTo>
                    <a:pt x="1218" y="47"/>
                  </a:lnTo>
                  <a:lnTo>
                    <a:pt x="1137" y="60"/>
                  </a:lnTo>
                  <a:lnTo>
                    <a:pt x="1055" y="75"/>
                  </a:lnTo>
                  <a:lnTo>
                    <a:pt x="977" y="93"/>
                  </a:lnTo>
                  <a:lnTo>
                    <a:pt x="901" y="110"/>
                  </a:lnTo>
                  <a:lnTo>
                    <a:pt x="828" y="130"/>
                  </a:lnTo>
                  <a:lnTo>
                    <a:pt x="756" y="153"/>
                  </a:lnTo>
                  <a:lnTo>
                    <a:pt x="686" y="175"/>
                  </a:lnTo>
                  <a:lnTo>
                    <a:pt x="618" y="198"/>
                  </a:lnTo>
                  <a:lnTo>
                    <a:pt x="554" y="224"/>
                  </a:lnTo>
                  <a:lnTo>
                    <a:pt x="492" y="250"/>
                  </a:lnTo>
                  <a:lnTo>
                    <a:pt x="434" y="278"/>
                  </a:lnTo>
                  <a:lnTo>
                    <a:pt x="377" y="307"/>
                  </a:lnTo>
                  <a:lnTo>
                    <a:pt x="325" y="338"/>
                  </a:lnTo>
                  <a:lnTo>
                    <a:pt x="276" y="369"/>
                  </a:lnTo>
                  <a:lnTo>
                    <a:pt x="231" y="401"/>
                  </a:lnTo>
                  <a:lnTo>
                    <a:pt x="188" y="434"/>
                  </a:lnTo>
                  <a:lnTo>
                    <a:pt x="151" y="468"/>
                  </a:lnTo>
                  <a:lnTo>
                    <a:pt x="117" y="502"/>
                  </a:lnTo>
                  <a:lnTo>
                    <a:pt x="86" y="538"/>
                  </a:lnTo>
                  <a:lnTo>
                    <a:pt x="60" y="574"/>
                  </a:lnTo>
                  <a:lnTo>
                    <a:pt x="39" y="611"/>
                  </a:lnTo>
                  <a:lnTo>
                    <a:pt x="22" y="648"/>
                  </a:lnTo>
                  <a:lnTo>
                    <a:pt x="9" y="687"/>
                  </a:lnTo>
                  <a:lnTo>
                    <a:pt x="3" y="727"/>
                  </a:lnTo>
                  <a:lnTo>
                    <a:pt x="0" y="766"/>
                  </a:lnTo>
                  <a:lnTo>
                    <a:pt x="3" y="805"/>
                  </a:lnTo>
                  <a:lnTo>
                    <a:pt x="9" y="844"/>
                  </a:lnTo>
                  <a:lnTo>
                    <a:pt x="22" y="883"/>
                  </a:lnTo>
                  <a:lnTo>
                    <a:pt x="39" y="920"/>
                  </a:lnTo>
                  <a:lnTo>
                    <a:pt x="60" y="957"/>
                  </a:lnTo>
                  <a:lnTo>
                    <a:pt x="86" y="993"/>
                  </a:lnTo>
                  <a:lnTo>
                    <a:pt x="117" y="1029"/>
                  </a:lnTo>
                  <a:lnTo>
                    <a:pt x="151" y="1063"/>
                  </a:lnTo>
                  <a:lnTo>
                    <a:pt x="188" y="1097"/>
                  </a:lnTo>
                  <a:lnTo>
                    <a:pt x="231" y="1130"/>
                  </a:lnTo>
                  <a:lnTo>
                    <a:pt x="276" y="1162"/>
                  </a:lnTo>
                  <a:lnTo>
                    <a:pt x="325" y="1193"/>
                  </a:lnTo>
                  <a:lnTo>
                    <a:pt x="377" y="1224"/>
                  </a:lnTo>
                  <a:lnTo>
                    <a:pt x="434" y="1253"/>
                  </a:lnTo>
                  <a:lnTo>
                    <a:pt x="492" y="1281"/>
                  </a:lnTo>
                  <a:lnTo>
                    <a:pt x="554" y="1307"/>
                  </a:lnTo>
                  <a:lnTo>
                    <a:pt x="618" y="1333"/>
                  </a:lnTo>
                  <a:lnTo>
                    <a:pt x="686" y="1356"/>
                  </a:lnTo>
                  <a:lnTo>
                    <a:pt x="756" y="1378"/>
                  </a:lnTo>
                  <a:lnTo>
                    <a:pt x="828" y="1401"/>
                  </a:lnTo>
                  <a:lnTo>
                    <a:pt x="901" y="1421"/>
                  </a:lnTo>
                  <a:lnTo>
                    <a:pt x="977" y="1438"/>
                  </a:lnTo>
                  <a:lnTo>
                    <a:pt x="1055" y="1456"/>
                  </a:lnTo>
                  <a:lnTo>
                    <a:pt x="1137" y="1471"/>
                  </a:lnTo>
                  <a:lnTo>
                    <a:pt x="1218" y="1484"/>
                  </a:lnTo>
                  <a:lnTo>
                    <a:pt x="1301" y="1497"/>
                  </a:lnTo>
                  <a:lnTo>
                    <a:pt x="1386" y="1507"/>
                  </a:lnTo>
                  <a:lnTo>
                    <a:pt x="1472" y="1515"/>
                  </a:lnTo>
                  <a:lnTo>
                    <a:pt x="1558" y="1523"/>
                  </a:lnTo>
                  <a:lnTo>
                    <a:pt x="1646" y="1528"/>
                  </a:lnTo>
                  <a:lnTo>
                    <a:pt x="1734" y="1530"/>
                  </a:lnTo>
                  <a:lnTo>
                    <a:pt x="1823" y="1531"/>
                  </a:lnTo>
                  <a:close/>
                </a:path>
              </a:pathLst>
            </a:cu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2" name=""/>
            <p:cNvSpPr/>
            <p:nvPr/>
          </p:nvSpPr>
          <p:spPr>
            <a:xfrm>
              <a:off x="2084400" y="2133720"/>
              <a:ext cx="4821120" cy="1555560"/>
            </a:xfrm>
            <a:custGeom>
              <a:avLst/>
              <a:gdLst/>
              <a:ahLst/>
              <a:rect l="l" t="t" r="r" b="b"/>
              <a:pathLst>
                <a:path w="2544" h="800">
                  <a:moveTo>
                    <a:pt x="50" y="210"/>
                  </a:moveTo>
                  <a:lnTo>
                    <a:pt x="83" y="197"/>
                  </a:lnTo>
                  <a:lnTo>
                    <a:pt x="117" y="185"/>
                  </a:lnTo>
                  <a:lnTo>
                    <a:pt x="150" y="174"/>
                  </a:lnTo>
                  <a:lnTo>
                    <a:pt x="184" y="163"/>
                  </a:lnTo>
                  <a:lnTo>
                    <a:pt x="220" y="151"/>
                  </a:lnTo>
                  <a:lnTo>
                    <a:pt x="254" y="140"/>
                  </a:lnTo>
                  <a:lnTo>
                    <a:pt x="290" y="130"/>
                  </a:lnTo>
                  <a:lnTo>
                    <a:pt x="327" y="120"/>
                  </a:lnTo>
                  <a:lnTo>
                    <a:pt x="363" y="111"/>
                  </a:lnTo>
                  <a:lnTo>
                    <a:pt x="400" y="101"/>
                  </a:lnTo>
                  <a:lnTo>
                    <a:pt x="438" y="93"/>
                  </a:lnTo>
                  <a:lnTo>
                    <a:pt x="475" y="85"/>
                  </a:lnTo>
                  <a:lnTo>
                    <a:pt x="512" y="76"/>
                  </a:lnTo>
                  <a:lnTo>
                    <a:pt x="551" y="68"/>
                  </a:lnTo>
                  <a:lnTo>
                    <a:pt x="591" y="62"/>
                  </a:lnTo>
                  <a:lnTo>
                    <a:pt x="630" y="54"/>
                  </a:lnTo>
                  <a:lnTo>
                    <a:pt x="669" y="47"/>
                  </a:lnTo>
                  <a:lnTo>
                    <a:pt x="708" y="42"/>
                  </a:lnTo>
                  <a:lnTo>
                    <a:pt x="748" y="36"/>
                  </a:lnTo>
                  <a:lnTo>
                    <a:pt x="789" y="31"/>
                  </a:lnTo>
                  <a:lnTo>
                    <a:pt x="830" y="26"/>
                  </a:lnTo>
                  <a:lnTo>
                    <a:pt x="870" y="21"/>
                  </a:lnTo>
                  <a:lnTo>
                    <a:pt x="911" y="18"/>
                  </a:lnTo>
                  <a:lnTo>
                    <a:pt x="952" y="13"/>
                  </a:lnTo>
                  <a:lnTo>
                    <a:pt x="992" y="11"/>
                  </a:lnTo>
                  <a:lnTo>
                    <a:pt x="1035" y="8"/>
                  </a:lnTo>
                  <a:lnTo>
                    <a:pt x="1075" y="5"/>
                  </a:lnTo>
                  <a:lnTo>
                    <a:pt x="1118" y="3"/>
                  </a:lnTo>
                  <a:lnTo>
                    <a:pt x="1160" y="2"/>
                  </a:lnTo>
                  <a:lnTo>
                    <a:pt x="1201" y="2"/>
                  </a:lnTo>
                  <a:lnTo>
                    <a:pt x="1243" y="0"/>
                  </a:lnTo>
                  <a:lnTo>
                    <a:pt x="1285" y="0"/>
                  </a:lnTo>
                  <a:lnTo>
                    <a:pt x="1326" y="0"/>
                  </a:lnTo>
                  <a:lnTo>
                    <a:pt x="1367" y="2"/>
                  </a:lnTo>
                  <a:lnTo>
                    <a:pt x="1409" y="2"/>
                  </a:lnTo>
                  <a:lnTo>
                    <a:pt x="1449" y="3"/>
                  </a:lnTo>
                  <a:lnTo>
                    <a:pt x="1490" y="5"/>
                  </a:lnTo>
                  <a:lnTo>
                    <a:pt x="1531" y="8"/>
                  </a:lnTo>
                  <a:lnTo>
                    <a:pt x="1570" y="10"/>
                  </a:lnTo>
                  <a:lnTo>
                    <a:pt x="1611" y="13"/>
                  </a:lnTo>
                  <a:lnTo>
                    <a:pt x="1651" y="16"/>
                  </a:lnTo>
                  <a:lnTo>
                    <a:pt x="1690" y="21"/>
                  </a:lnTo>
                  <a:lnTo>
                    <a:pt x="1731" y="24"/>
                  </a:lnTo>
                  <a:lnTo>
                    <a:pt x="1770" y="29"/>
                  </a:lnTo>
                  <a:lnTo>
                    <a:pt x="1811" y="34"/>
                  </a:lnTo>
                  <a:lnTo>
                    <a:pt x="1850" y="41"/>
                  </a:lnTo>
                  <a:lnTo>
                    <a:pt x="1887" y="46"/>
                  </a:lnTo>
                  <a:lnTo>
                    <a:pt x="1926" y="52"/>
                  </a:lnTo>
                  <a:lnTo>
                    <a:pt x="1965" y="59"/>
                  </a:lnTo>
                  <a:lnTo>
                    <a:pt x="2003" y="65"/>
                  </a:lnTo>
                  <a:lnTo>
                    <a:pt x="2040" y="73"/>
                  </a:lnTo>
                  <a:lnTo>
                    <a:pt x="2077" y="81"/>
                  </a:lnTo>
                  <a:lnTo>
                    <a:pt x="2115" y="89"/>
                  </a:lnTo>
                  <a:lnTo>
                    <a:pt x="2152" y="98"/>
                  </a:lnTo>
                  <a:lnTo>
                    <a:pt x="2188" y="106"/>
                  </a:lnTo>
                  <a:lnTo>
                    <a:pt x="2224" y="115"/>
                  </a:lnTo>
                  <a:lnTo>
                    <a:pt x="2260" y="125"/>
                  </a:lnTo>
                  <a:lnTo>
                    <a:pt x="2295" y="135"/>
                  </a:lnTo>
                  <a:lnTo>
                    <a:pt x="2330" y="145"/>
                  </a:lnTo>
                  <a:lnTo>
                    <a:pt x="2364" y="156"/>
                  </a:lnTo>
                  <a:lnTo>
                    <a:pt x="2398" y="166"/>
                  </a:lnTo>
                  <a:lnTo>
                    <a:pt x="2432" y="177"/>
                  </a:lnTo>
                  <a:lnTo>
                    <a:pt x="2465" y="190"/>
                  </a:lnTo>
                  <a:lnTo>
                    <a:pt x="2497" y="202"/>
                  </a:lnTo>
                  <a:lnTo>
                    <a:pt x="2502" y="203"/>
                  </a:lnTo>
                  <a:lnTo>
                    <a:pt x="2505" y="206"/>
                  </a:lnTo>
                  <a:lnTo>
                    <a:pt x="2510" y="208"/>
                  </a:lnTo>
                  <a:lnTo>
                    <a:pt x="2512" y="208"/>
                  </a:lnTo>
                  <a:lnTo>
                    <a:pt x="2544" y="224"/>
                  </a:lnTo>
                  <a:lnTo>
                    <a:pt x="2510" y="239"/>
                  </a:lnTo>
                  <a:lnTo>
                    <a:pt x="1280" y="797"/>
                  </a:lnTo>
                  <a:lnTo>
                    <a:pt x="1272" y="800"/>
                  </a:lnTo>
                  <a:lnTo>
                    <a:pt x="1266" y="797"/>
                  </a:lnTo>
                  <a:lnTo>
                    <a:pt x="34" y="249"/>
                  </a:lnTo>
                  <a:lnTo>
                    <a:pt x="0" y="234"/>
                  </a:lnTo>
                  <a:lnTo>
                    <a:pt x="34" y="218"/>
                  </a:lnTo>
                  <a:lnTo>
                    <a:pt x="36" y="216"/>
                  </a:lnTo>
                  <a:lnTo>
                    <a:pt x="41" y="215"/>
                  </a:lnTo>
                  <a:lnTo>
                    <a:pt x="46" y="213"/>
                  </a:lnTo>
                  <a:lnTo>
                    <a:pt x="50" y="2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3" name=""/>
            <p:cNvSpPr/>
            <p:nvPr/>
          </p:nvSpPr>
          <p:spPr>
            <a:xfrm>
              <a:off x="2162160" y="2168640"/>
              <a:ext cx="4667400" cy="1485720"/>
            </a:xfrm>
            <a:custGeom>
              <a:avLst/>
              <a:gdLst/>
              <a:ahLst/>
              <a:rect l="l" t="t" r="r" b="b"/>
              <a:pathLst>
                <a:path w="2463" h="764">
                  <a:moveTo>
                    <a:pt x="0" y="214"/>
                  </a:moveTo>
                  <a:lnTo>
                    <a:pt x="1231" y="764"/>
                  </a:lnTo>
                  <a:lnTo>
                    <a:pt x="2463" y="205"/>
                  </a:lnTo>
                  <a:lnTo>
                    <a:pt x="2461" y="205"/>
                  </a:lnTo>
                  <a:lnTo>
                    <a:pt x="2458" y="203"/>
                  </a:lnTo>
                  <a:lnTo>
                    <a:pt x="2454" y="201"/>
                  </a:lnTo>
                  <a:lnTo>
                    <a:pt x="2450" y="200"/>
                  </a:lnTo>
                  <a:lnTo>
                    <a:pt x="2419" y="188"/>
                  </a:lnTo>
                  <a:lnTo>
                    <a:pt x="2386" y="177"/>
                  </a:lnTo>
                  <a:lnTo>
                    <a:pt x="2355" y="166"/>
                  </a:lnTo>
                  <a:lnTo>
                    <a:pt x="2321" y="156"/>
                  </a:lnTo>
                  <a:lnTo>
                    <a:pt x="2289" y="146"/>
                  </a:lnTo>
                  <a:lnTo>
                    <a:pt x="2254" y="135"/>
                  </a:lnTo>
                  <a:lnTo>
                    <a:pt x="2220" y="125"/>
                  </a:lnTo>
                  <a:lnTo>
                    <a:pt x="2186" y="117"/>
                  </a:lnTo>
                  <a:lnTo>
                    <a:pt x="2150" y="107"/>
                  </a:lnTo>
                  <a:lnTo>
                    <a:pt x="2114" y="99"/>
                  </a:lnTo>
                  <a:lnTo>
                    <a:pt x="2079" y="91"/>
                  </a:lnTo>
                  <a:lnTo>
                    <a:pt x="2041" y="83"/>
                  </a:lnTo>
                  <a:lnTo>
                    <a:pt x="2004" y="75"/>
                  </a:lnTo>
                  <a:lnTo>
                    <a:pt x="1966" y="67"/>
                  </a:lnTo>
                  <a:lnTo>
                    <a:pt x="1929" y="60"/>
                  </a:lnTo>
                  <a:lnTo>
                    <a:pt x="1892" y="54"/>
                  </a:lnTo>
                  <a:lnTo>
                    <a:pt x="1853" y="47"/>
                  </a:lnTo>
                  <a:lnTo>
                    <a:pt x="1814" y="41"/>
                  </a:lnTo>
                  <a:lnTo>
                    <a:pt x="1774" y="36"/>
                  </a:lnTo>
                  <a:lnTo>
                    <a:pt x="1735" y="31"/>
                  </a:lnTo>
                  <a:lnTo>
                    <a:pt x="1695" y="26"/>
                  </a:lnTo>
                  <a:lnTo>
                    <a:pt x="1656" y="21"/>
                  </a:lnTo>
                  <a:lnTo>
                    <a:pt x="1615" y="18"/>
                  </a:lnTo>
                  <a:lnTo>
                    <a:pt x="1574" y="15"/>
                  </a:lnTo>
                  <a:lnTo>
                    <a:pt x="1534" y="11"/>
                  </a:lnTo>
                  <a:lnTo>
                    <a:pt x="1493" y="8"/>
                  </a:lnTo>
                  <a:lnTo>
                    <a:pt x="1452" y="5"/>
                  </a:lnTo>
                  <a:lnTo>
                    <a:pt x="1410" y="3"/>
                  </a:lnTo>
                  <a:lnTo>
                    <a:pt x="1369" y="2"/>
                  </a:lnTo>
                  <a:lnTo>
                    <a:pt x="1327" y="2"/>
                  </a:lnTo>
                  <a:lnTo>
                    <a:pt x="1286" y="0"/>
                  </a:lnTo>
                  <a:lnTo>
                    <a:pt x="1244" y="0"/>
                  </a:lnTo>
                  <a:lnTo>
                    <a:pt x="1202" y="0"/>
                  </a:lnTo>
                  <a:lnTo>
                    <a:pt x="1158" y="2"/>
                  </a:lnTo>
                  <a:lnTo>
                    <a:pt x="1116" y="2"/>
                  </a:lnTo>
                  <a:lnTo>
                    <a:pt x="1073" y="3"/>
                  </a:lnTo>
                  <a:lnTo>
                    <a:pt x="1031" y="6"/>
                  </a:lnTo>
                  <a:lnTo>
                    <a:pt x="989" y="8"/>
                  </a:lnTo>
                  <a:lnTo>
                    <a:pt x="948" y="11"/>
                  </a:lnTo>
                  <a:lnTo>
                    <a:pt x="906" y="15"/>
                  </a:lnTo>
                  <a:lnTo>
                    <a:pt x="865" y="18"/>
                  </a:lnTo>
                  <a:lnTo>
                    <a:pt x="823" y="23"/>
                  </a:lnTo>
                  <a:lnTo>
                    <a:pt x="782" y="28"/>
                  </a:lnTo>
                  <a:lnTo>
                    <a:pt x="742" y="32"/>
                  </a:lnTo>
                  <a:lnTo>
                    <a:pt x="702" y="37"/>
                  </a:lnTo>
                  <a:lnTo>
                    <a:pt x="662" y="44"/>
                  </a:lnTo>
                  <a:lnTo>
                    <a:pt x="623" y="49"/>
                  </a:lnTo>
                  <a:lnTo>
                    <a:pt x="584" y="55"/>
                  </a:lnTo>
                  <a:lnTo>
                    <a:pt x="545" y="63"/>
                  </a:lnTo>
                  <a:lnTo>
                    <a:pt x="506" y="70"/>
                  </a:lnTo>
                  <a:lnTo>
                    <a:pt x="468" y="78"/>
                  </a:lnTo>
                  <a:lnTo>
                    <a:pt x="429" y="86"/>
                  </a:lnTo>
                  <a:lnTo>
                    <a:pt x="393" y="94"/>
                  </a:lnTo>
                  <a:lnTo>
                    <a:pt x="356" y="102"/>
                  </a:lnTo>
                  <a:lnTo>
                    <a:pt x="320" y="112"/>
                  </a:lnTo>
                  <a:lnTo>
                    <a:pt x="284" y="122"/>
                  </a:lnTo>
                  <a:lnTo>
                    <a:pt x="249" y="132"/>
                  </a:lnTo>
                  <a:lnTo>
                    <a:pt x="213" y="141"/>
                  </a:lnTo>
                  <a:lnTo>
                    <a:pt x="179" y="151"/>
                  </a:lnTo>
                  <a:lnTo>
                    <a:pt x="144" y="162"/>
                  </a:lnTo>
                  <a:lnTo>
                    <a:pt x="112" y="174"/>
                  </a:lnTo>
                  <a:lnTo>
                    <a:pt x="79" y="185"/>
                  </a:lnTo>
                  <a:lnTo>
                    <a:pt x="47" y="197"/>
                  </a:lnTo>
                  <a:lnTo>
                    <a:pt x="16" y="208"/>
                  </a:lnTo>
                  <a:lnTo>
                    <a:pt x="11" y="210"/>
                  </a:lnTo>
                  <a:lnTo>
                    <a:pt x="6" y="211"/>
                  </a:lnTo>
                  <a:lnTo>
                    <a:pt x="1" y="214"/>
                  </a:lnTo>
                  <a:lnTo>
                    <a:pt x="0" y="214"/>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4" name=""/>
            <p:cNvSpPr/>
            <p:nvPr/>
          </p:nvSpPr>
          <p:spPr>
            <a:xfrm>
              <a:off x="1031760" y="2548080"/>
              <a:ext cx="4910400" cy="2630520"/>
            </a:xfrm>
            <a:custGeom>
              <a:avLst/>
              <a:gdLst/>
              <a:ahLst/>
              <a:rect l="l" t="t" r="r" b="b"/>
              <a:pathLst>
                <a:path w="2590" h="1352">
                  <a:moveTo>
                    <a:pt x="0" y="571"/>
                  </a:moveTo>
                  <a:lnTo>
                    <a:pt x="2" y="530"/>
                  </a:lnTo>
                  <a:lnTo>
                    <a:pt x="10" y="491"/>
                  </a:lnTo>
                  <a:lnTo>
                    <a:pt x="21" y="452"/>
                  </a:lnTo>
                  <a:lnTo>
                    <a:pt x="39" y="413"/>
                  </a:lnTo>
                  <a:lnTo>
                    <a:pt x="60" y="374"/>
                  </a:lnTo>
                  <a:lnTo>
                    <a:pt x="87" y="336"/>
                  </a:lnTo>
                  <a:lnTo>
                    <a:pt x="117" y="299"/>
                  </a:lnTo>
                  <a:lnTo>
                    <a:pt x="152" y="263"/>
                  </a:lnTo>
                  <a:lnTo>
                    <a:pt x="191" y="228"/>
                  </a:lnTo>
                  <a:lnTo>
                    <a:pt x="235" y="192"/>
                  </a:lnTo>
                  <a:lnTo>
                    <a:pt x="283" y="159"/>
                  </a:lnTo>
                  <a:lnTo>
                    <a:pt x="335" y="125"/>
                  </a:lnTo>
                  <a:lnTo>
                    <a:pt x="392" y="93"/>
                  </a:lnTo>
                  <a:lnTo>
                    <a:pt x="454" y="62"/>
                  </a:lnTo>
                  <a:lnTo>
                    <a:pt x="519" y="32"/>
                  </a:lnTo>
                  <a:lnTo>
                    <a:pt x="588" y="3"/>
                  </a:lnTo>
                  <a:lnTo>
                    <a:pt x="588" y="3"/>
                  </a:lnTo>
                  <a:lnTo>
                    <a:pt x="589" y="3"/>
                  </a:lnTo>
                  <a:lnTo>
                    <a:pt x="591" y="3"/>
                  </a:lnTo>
                  <a:lnTo>
                    <a:pt x="591" y="3"/>
                  </a:lnTo>
                  <a:lnTo>
                    <a:pt x="597" y="0"/>
                  </a:lnTo>
                  <a:lnTo>
                    <a:pt x="599" y="0"/>
                  </a:lnTo>
                  <a:lnTo>
                    <a:pt x="601" y="2"/>
                  </a:lnTo>
                  <a:lnTo>
                    <a:pt x="602" y="3"/>
                  </a:lnTo>
                  <a:lnTo>
                    <a:pt x="604" y="3"/>
                  </a:lnTo>
                  <a:lnTo>
                    <a:pt x="1845" y="561"/>
                  </a:lnTo>
                  <a:lnTo>
                    <a:pt x="1848" y="562"/>
                  </a:lnTo>
                  <a:lnTo>
                    <a:pt x="1850" y="564"/>
                  </a:lnTo>
                  <a:lnTo>
                    <a:pt x="2567" y="1258"/>
                  </a:lnTo>
                  <a:lnTo>
                    <a:pt x="2590" y="1281"/>
                  </a:lnTo>
                  <a:lnTo>
                    <a:pt x="2585" y="1281"/>
                  </a:lnTo>
                  <a:lnTo>
                    <a:pt x="2574" y="1283"/>
                  </a:lnTo>
                  <a:lnTo>
                    <a:pt x="2562" y="1286"/>
                  </a:lnTo>
                  <a:lnTo>
                    <a:pt x="2558" y="1286"/>
                  </a:lnTo>
                  <a:lnTo>
                    <a:pt x="2554" y="1287"/>
                  </a:lnTo>
                  <a:lnTo>
                    <a:pt x="2510" y="1296"/>
                  </a:lnTo>
                  <a:lnTo>
                    <a:pt x="2466" y="1302"/>
                  </a:lnTo>
                  <a:lnTo>
                    <a:pt x="2424" y="1310"/>
                  </a:lnTo>
                  <a:lnTo>
                    <a:pt x="2379" y="1317"/>
                  </a:lnTo>
                  <a:lnTo>
                    <a:pt x="2335" y="1322"/>
                  </a:lnTo>
                  <a:lnTo>
                    <a:pt x="2291" y="1328"/>
                  </a:lnTo>
                  <a:lnTo>
                    <a:pt x="2247" y="1331"/>
                  </a:lnTo>
                  <a:lnTo>
                    <a:pt x="2201" y="1336"/>
                  </a:lnTo>
                  <a:lnTo>
                    <a:pt x="2157" y="1339"/>
                  </a:lnTo>
                  <a:lnTo>
                    <a:pt x="2112" y="1343"/>
                  </a:lnTo>
                  <a:lnTo>
                    <a:pt x="2066" y="1346"/>
                  </a:lnTo>
                  <a:lnTo>
                    <a:pt x="2021" y="1349"/>
                  </a:lnTo>
                  <a:lnTo>
                    <a:pt x="1977" y="1351"/>
                  </a:lnTo>
                  <a:lnTo>
                    <a:pt x="1931" y="1351"/>
                  </a:lnTo>
                  <a:lnTo>
                    <a:pt x="1886" y="1352"/>
                  </a:lnTo>
                  <a:lnTo>
                    <a:pt x="1840" y="1352"/>
                  </a:lnTo>
                  <a:lnTo>
                    <a:pt x="1772" y="1352"/>
                  </a:lnTo>
                  <a:lnTo>
                    <a:pt x="1705" y="1351"/>
                  </a:lnTo>
                  <a:lnTo>
                    <a:pt x="1638" y="1348"/>
                  </a:lnTo>
                  <a:lnTo>
                    <a:pt x="1572" y="1343"/>
                  </a:lnTo>
                  <a:lnTo>
                    <a:pt x="1505" y="1338"/>
                  </a:lnTo>
                  <a:lnTo>
                    <a:pt x="1440" y="1333"/>
                  </a:lnTo>
                  <a:lnTo>
                    <a:pt x="1375" y="1325"/>
                  </a:lnTo>
                  <a:lnTo>
                    <a:pt x="1310" y="1317"/>
                  </a:lnTo>
                  <a:lnTo>
                    <a:pt x="1246" y="1309"/>
                  </a:lnTo>
                  <a:lnTo>
                    <a:pt x="1185" y="1299"/>
                  </a:lnTo>
                  <a:lnTo>
                    <a:pt x="1123" y="1287"/>
                  </a:lnTo>
                  <a:lnTo>
                    <a:pt x="1061" y="1276"/>
                  </a:lnTo>
                  <a:lnTo>
                    <a:pt x="1002" y="1263"/>
                  </a:lnTo>
                  <a:lnTo>
                    <a:pt x="942" y="1248"/>
                  </a:lnTo>
                  <a:lnTo>
                    <a:pt x="885" y="1234"/>
                  </a:lnTo>
                  <a:lnTo>
                    <a:pt x="828" y="1219"/>
                  </a:lnTo>
                  <a:lnTo>
                    <a:pt x="773" y="1203"/>
                  </a:lnTo>
                  <a:lnTo>
                    <a:pt x="719" y="1185"/>
                  </a:lnTo>
                  <a:lnTo>
                    <a:pt x="667" y="1167"/>
                  </a:lnTo>
                  <a:lnTo>
                    <a:pt x="617" y="1149"/>
                  </a:lnTo>
                  <a:lnTo>
                    <a:pt x="568" y="1128"/>
                  </a:lnTo>
                  <a:lnTo>
                    <a:pt x="519" y="1109"/>
                  </a:lnTo>
                  <a:lnTo>
                    <a:pt x="474" y="1087"/>
                  </a:lnTo>
                  <a:lnTo>
                    <a:pt x="428" y="1066"/>
                  </a:lnTo>
                  <a:lnTo>
                    <a:pt x="386" y="1044"/>
                  </a:lnTo>
                  <a:lnTo>
                    <a:pt x="345" y="1021"/>
                  </a:lnTo>
                  <a:lnTo>
                    <a:pt x="306" y="996"/>
                  </a:lnTo>
                  <a:lnTo>
                    <a:pt x="270" y="972"/>
                  </a:lnTo>
                  <a:lnTo>
                    <a:pt x="235" y="946"/>
                  </a:lnTo>
                  <a:lnTo>
                    <a:pt x="202" y="922"/>
                  </a:lnTo>
                  <a:lnTo>
                    <a:pt x="171" y="896"/>
                  </a:lnTo>
                  <a:lnTo>
                    <a:pt x="143" y="868"/>
                  </a:lnTo>
                  <a:lnTo>
                    <a:pt x="109" y="832"/>
                  </a:lnTo>
                  <a:lnTo>
                    <a:pt x="80" y="796"/>
                  </a:lnTo>
                  <a:lnTo>
                    <a:pt x="56" y="759"/>
                  </a:lnTo>
                  <a:lnTo>
                    <a:pt x="36" y="722"/>
                  </a:lnTo>
                  <a:lnTo>
                    <a:pt x="20" y="684"/>
                  </a:lnTo>
                  <a:lnTo>
                    <a:pt x="8" y="647"/>
                  </a:lnTo>
                  <a:lnTo>
                    <a:pt x="2" y="610"/>
                  </a:lnTo>
                  <a:lnTo>
                    <a:pt x="0" y="57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5" name=""/>
            <p:cNvSpPr/>
            <p:nvPr/>
          </p:nvSpPr>
          <p:spPr>
            <a:xfrm>
              <a:off x="1065240" y="2581200"/>
              <a:ext cx="4807080" cy="2565360"/>
            </a:xfrm>
            <a:custGeom>
              <a:avLst/>
              <a:gdLst/>
              <a:ahLst/>
              <a:rect l="l" t="t" r="r" b="b"/>
              <a:pathLst>
                <a:path w="2537" h="1318">
                  <a:moveTo>
                    <a:pt x="1823" y="1318"/>
                  </a:moveTo>
                  <a:lnTo>
                    <a:pt x="1869" y="1318"/>
                  </a:lnTo>
                  <a:lnTo>
                    <a:pt x="1916" y="1317"/>
                  </a:lnTo>
                  <a:lnTo>
                    <a:pt x="1961" y="1315"/>
                  </a:lnTo>
                  <a:lnTo>
                    <a:pt x="2007" y="1313"/>
                  </a:lnTo>
                  <a:lnTo>
                    <a:pt x="2053" y="1312"/>
                  </a:lnTo>
                  <a:lnTo>
                    <a:pt x="2098" y="1308"/>
                  </a:lnTo>
                  <a:lnTo>
                    <a:pt x="2142" y="1305"/>
                  </a:lnTo>
                  <a:lnTo>
                    <a:pt x="2188" y="1300"/>
                  </a:lnTo>
                  <a:lnTo>
                    <a:pt x="2231" y="1297"/>
                  </a:lnTo>
                  <a:lnTo>
                    <a:pt x="2275" y="1292"/>
                  </a:lnTo>
                  <a:lnTo>
                    <a:pt x="2319" y="1286"/>
                  </a:lnTo>
                  <a:lnTo>
                    <a:pt x="2363" y="1281"/>
                  </a:lnTo>
                  <a:lnTo>
                    <a:pt x="2407" y="1274"/>
                  </a:lnTo>
                  <a:lnTo>
                    <a:pt x="2449" y="1268"/>
                  </a:lnTo>
                  <a:lnTo>
                    <a:pt x="2492" y="1261"/>
                  </a:lnTo>
                  <a:lnTo>
                    <a:pt x="2534" y="1253"/>
                  </a:lnTo>
                  <a:lnTo>
                    <a:pt x="2536" y="1253"/>
                  </a:lnTo>
                  <a:lnTo>
                    <a:pt x="2536" y="1251"/>
                  </a:lnTo>
                  <a:lnTo>
                    <a:pt x="2537" y="1251"/>
                  </a:lnTo>
                  <a:lnTo>
                    <a:pt x="2537" y="1251"/>
                  </a:lnTo>
                  <a:lnTo>
                    <a:pt x="1822" y="559"/>
                  </a:lnTo>
                  <a:lnTo>
                    <a:pt x="580" y="0"/>
                  </a:lnTo>
                  <a:lnTo>
                    <a:pt x="580" y="0"/>
                  </a:lnTo>
                  <a:lnTo>
                    <a:pt x="579" y="0"/>
                  </a:lnTo>
                  <a:lnTo>
                    <a:pt x="579" y="1"/>
                  </a:lnTo>
                  <a:lnTo>
                    <a:pt x="577" y="1"/>
                  </a:lnTo>
                  <a:lnTo>
                    <a:pt x="514" y="29"/>
                  </a:lnTo>
                  <a:lnTo>
                    <a:pt x="452" y="57"/>
                  </a:lnTo>
                  <a:lnTo>
                    <a:pt x="393" y="86"/>
                  </a:lnTo>
                  <a:lnTo>
                    <a:pt x="340" y="117"/>
                  </a:lnTo>
                  <a:lnTo>
                    <a:pt x="288" y="148"/>
                  </a:lnTo>
                  <a:lnTo>
                    <a:pt x="240" y="180"/>
                  </a:lnTo>
                  <a:lnTo>
                    <a:pt x="196" y="214"/>
                  </a:lnTo>
                  <a:lnTo>
                    <a:pt x="157" y="249"/>
                  </a:lnTo>
                  <a:lnTo>
                    <a:pt x="122" y="284"/>
                  </a:lnTo>
                  <a:lnTo>
                    <a:pt x="91" y="320"/>
                  </a:lnTo>
                  <a:lnTo>
                    <a:pt x="63" y="357"/>
                  </a:lnTo>
                  <a:lnTo>
                    <a:pt x="40" y="395"/>
                  </a:lnTo>
                  <a:lnTo>
                    <a:pt x="22" y="434"/>
                  </a:lnTo>
                  <a:lnTo>
                    <a:pt x="9" y="473"/>
                  </a:lnTo>
                  <a:lnTo>
                    <a:pt x="3" y="512"/>
                  </a:lnTo>
                  <a:lnTo>
                    <a:pt x="0" y="553"/>
                  </a:lnTo>
                  <a:lnTo>
                    <a:pt x="3" y="592"/>
                  </a:lnTo>
                  <a:lnTo>
                    <a:pt x="9" y="631"/>
                  </a:lnTo>
                  <a:lnTo>
                    <a:pt x="22" y="670"/>
                  </a:lnTo>
                  <a:lnTo>
                    <a:pt x="39" y="707"/>
                  </a:lnTo>
                  <a:lnTo>
                    <a:pt x="60" y="744"/>
                  </a:lnTo>
                  <a:lnTo>
                    <a:pt x="86" y="780"/>
                  </a:lnTo>
                  <a:lnTo>
                    <a:pt x="117" y="816"/>
                  </a:lnTo>
                  <a:lnTo>
                    <a:pt x="151" y="850"/>
                  </a:lnTo>
                  <a:lnTo>
                    <a:pt x="188" y="884"/>
                  </a:lnTo>
                  <a:lnTo>
                    <a:pt x="231" y="917"/>
                  </a:lnTo>
                  <a:lnTo>
                    <a:pt x="276" y="949"/>
                  </a:lnTo>
                  <a:lnTo>
                    <a:pt x="325" y="980"/>
                  </a:lnTo>
                  <a:lnTo>
                    <a:pt x="377" y="1011"/>
                  </a:lnTo>
                  <a:lnTo>
                    <a:pt x="434" y="1040"/>
                  </a:lnTo>
                  <a:lnTo>
                    <a:pt x="492" y="1068"/>
                  </a:lnTo>
                  <a:lnTo>
                    <a:pt x="554" y="1094"/>
                  </a:lnTo>
                  <a:lnTo>
                    <a:pt x="618" y="1120"/>
                  </a:lnTo>
                  <a:lnTo>
                    <a:pt x="686" y="1143"/>
                  </a:lnTo>
                  <a:lnTo>
                    <a:pt x="756" y="1165"/>
                  </a:lnTo>
                  <a:lnTo>
                    <a:pt x="828" y="1188"/>
                  </a:lnTo>
                  <a:lnTo>
                    <a:pt x="901" y="1208"/>
                  </a:lnTo>
                  <a:lnTo>
                    <a:pt x="977" y="1225"/>
                  </a:lnTo>
                  <a:lnTo>
                    <a:pt x="1055" y="1243"/>
                  </a:lnTo>
                  <a:lnTo>
                    <a:pt x="1137" y="1258"/>
                  </a:lnTo>
                  <a:lnTo>
                    <a:pt x="1218" y="1271"/>
                  </a:lnTo>
                  <a:lnTo>
                    <a:pt x="1301" y="1284"/>
                  </a:lnTo>
                  <a:lnTo>
                    <a:pt x="1386" y="1294"/>
                  </a:lnTo>
                  <a:lnTo>
                    <a:pt x="1472" y="1302"/>
                  </a:lnTo>
                  <a:lnTo>
                    <a:pt x="1558" y="1310"/>
                  </a:lnTo>
                  <a:lnTo>
                    <a:pt x="1646" y="1315"/>
                  </a:lnTo>
                  <a:lnTo>
                    <a:pt x="1734" y="1317"/>
                  </a:lnTo>
                  <a:lnTo>
                    <a:pt x="1823" y="1318"/>
                  </a:lnTo>
                  <a:close/>
                </a:path>
              </a:pathLst>
            </a:custGeom>
            <a:solidFill>
              <a:srgbClr val="bbe0e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6" name=""/>
            <p:cNvSpPr txBox="1"/>
            <p:nvPr/>
          </p:nvSpPr>
          <p:spPr>
            <a:xfrm rot="21466200">
              <a:off x="2739600" y="4832280"/>
              <a:ext cx="3846600" cy="622440"/>
            </a:xfrm>
            <a:prstGeom prst="rect">
              <a:avLst/>
            </a:prstGeom>
          </p:spPr>
          <p:txBody>
            <a:bodyPr wrap="none" fromWordArt="1" lIns="90000" rIns="90000" tIns="46800" bIns="46800" anchor="ctr" anchorCtr="1">
              <a:prstTxWarp prst="textArchDown">
                <a:avLst>
                  <a:gd name="adj" fmla="val 2009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0">
                    <a:noFill/>
                  </a:ln>
                  <a:solidFill>
                    <a:srgbClr val="000000"/>
                  </a:solidFill>
                  <a:latin typeface="Arial"/>
                </a:rPr>
                <a:t>EQ: How does conflict produce change?</a:t>
              </a:r>
              <a:endParaRPr b="1" lang="en-US" sz="2800" spc="1" strike="noStrike">
                <a:ln w="0">
                  <a:noFill/>
                </a:ln>
                <a:solidFill>
                  <a:srgbClr val="000000"/>
                </a:solidFill>
                <a:latin typeface="Arial"/>
                <a:ea typeface="Arial"/>
              </a:endParaRPr>
            </a:p>
          </p:txBody>
        </p:sp>
        <p:sp>
          <p:nvSpPr>
            <p:cNvPr id="197" name=""/>
            <p:cNvSpPr/>
            <p:nvPr/>
          </p:nvSpPr>
          <p:spPr>
            <a:xfrm>
              <a:off x="3390840" y="2273400"/>
              <a:ext cx="2367000" cy="98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Social Studies Unit Question:</a:t>
              </a:r>
              <a:endParaRPr b="0" lang="en-US" sz="1400" spc="-1" strike="noStrike">
                <a:solidFill>
                  <a:srgbClr val="ffffff"/>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How does war change the economy?</a:t>
              </a:r>
              <a:endParaRPr b="0" lang="en-US" sz="1200" spc="-1" strike="noStrike">
                <a:solidFill>
                  <a:srgbClr val="ffffff"/>
                </a:solidFill>
                <a:latin typeface="Times New Roman"/>
              </a:endParaRPr>
            </a:p>
          </p:txBody>
        </p:sp>
        <p:sp>
          <p:nvSpPr>
            <p:cNvPr id="198" name=""/>
            <p:cNvSpPr/>
            <p:nvPr/>
          </p:nvSpPr>
          <p:spPr>
            <a:xfrm>
              <a:off x="5114880" y="3492360"/>
              <a:ext cx="2565360" cy="767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Science Unit Question:</a:t>
              </a:r>
              <a:endParaRPr b="0" lang="en-US" sz="1400" spc="-1" strike="noStrike">
                <a:solidFill>
                  <a:srgbClr val="ffffff"/>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How do animals adapt to a changing environment?</a:t>
              </a:r>
              <a:r>
                <a:rPr b="1" lang="en-US" sz="1200" spc="-1" strike="noStrike">
                  <a:solidFill>
                    <a:srgbClr val="ffffff"/>
                  </a:solidFill>
                  <a:latin typeface="Arial"/>
                </a:rPr>
                <a:t> </a:t>
              </a:r>
              <a:endParaRPr b="0" lang="en-US" sz="1200" spc="-1" strike="noStrike">
                <a:solidFill>
                  <a:srgbClr val="ffffff"/>
                </a:solidFill>
                <a:latin typeface="Times New Roman"/>
              </a:endParaRPr>
            </a:p>
          </p:txBody>
        </p:sp>
        <p:sp>
          <p:nvSpPr>
            <p:cNvPr id="199" name=""/>
            <p:cNvSpPr/>
            <p:nvPr/>
          </p:nvSpPr>
          <p:spPr>
            <a:xfrm>
              <a:off x="1343160" y="2889360"/>
              <a:ext cx="4020840" cy="2266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Language Arts                                                   Unit Questions:</a:t>
              </a:r>
              <a:endParaRPr b="0" lang="en-US" sz="14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In literature</a:t>
              </a:r>
              <a:r>
                <a:rPr b="1" i="1" lang="en-US" sz="1200" spc="-1" strike="noStrike">
                  <a:solidFill>
                    <a:srgbClr val="ffffff"/>
                  </a:solidFill>
                  <a:latin typeface="Verdana"/>
                </a:rPr>
                <a:t>,</a:t>
              </a:r>
              <a:r>
                <a:rPr b="1" lang="en-US" sz="1200" spc="-1" strike="noStrike">
                  <a:solidFill>
                    <a:srgbClr val="ffffff"/>
                  </a:solidFill>
                  <a:latin typeface="Verdana"/>
                </a:rPr>
                <a:t> how do the </a:t>
              </a:r>
              <a:br>
                <a:rPr sz="1200"/>
              </a:br>
              <a:r>
                <a:rPr b="1" lang="en-US" sz="1200" spc="-1" strike="noStrike">
                  <a:solidFill>
                    <a:srgbClr val="ffffff"/>
                  </a:solidFill>
                  <a:latin typeface="Verdana"/>
                </a:rPr>
                <a:t>characters in </a:t>
              </a:r>
              <a:r>
                <a:rPr b="1" lang="en-US" sz="1200" spc="-1" strike="noStrike" u="sng">
                  <a:solidFill>
                    <a:srgbClr val="ffffff"/>
                  </a:solidFill>
                  <a:uFillTx/>
                  <a:latin typeface="Verdana"/>
                </a:rPr>
                <a:t>[</a:t>
              </a:r>
              <a:r>
                <a:rPr b="1" lang="en-US" sz="1200" spc="-1" strike="noStrike">
                  <a:solidFill>
                    <a:srgbClr val="ffffff"/>
                  </a:solidFill>
                  <a:latin typeface="Verdana"/>
                </a:rPr>
                <a:t>book title] respond </a:t>
              </a:r>
              <a:br>
                <a:rPr sz="1200"/>
              </a:br>
              <a:r>
                <a:rPr b="1" lang="en-US" sz="1200" spc="-1" strike="noStrike">
                  <a:solidFill>
                    <a:srgbClr val="ffffff"/>
                  </a:solidFill>
                  <a:latin typeface="Verdana"/>
                </a:rPr>
                <a:t>to conflict?</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    </a:t>
              </a:r>
              <a:r>
                <a:rPr b="1" lang="en-US" sz="1200" spc="-1" strike="noStrike">
                  <a:solidFill>
                    <a:srgbClr val="ffffff"/>
                  </a:solidFill>
                  <a:latin typeface="Verdana"/>
                </a:rPr>
                <a:t>Why do humans often react to conflic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          </a:t>
              </a:r>
              <a:r>
                <a:rPr b="1" lang="en-US" sz="1200" spc="-1" strike="noStrike">
                  <a:solidFill>
                    <a:srgbClr val="ffffff"/>
                  </a:solidFill>
                  <a:latin typeface="Verdana"/>
                </a:rPr>
                <a:t>with violence?</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                  </a:t>
              </a:r>
              <a:r>
                <a:rPr b="1" lang="en-US" sz="1200" spc="-1" strike="noStrike">
                  <a:solidFill>
                    <a:srgbClr val="ffffff"/>
                  </a:solidFill>
                  <a:latin typeface="Verdana"/>
                </a:rPr>
                <a:t>How does [book title] help us to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                         </a:t>
              </a:r>
              <a:r>
                <a:rPr b="1" lang="en-US" sz="1200" spc="-1" strike="noStrike">
                  <a:solidFill>
                    <a:srgbClr val="ffffff"/>
                  </a:solidFill>
                  <a:latin typeface="Verdana"/>
                </a:rPr>
                <a:t>understand our complex </a:t>
              </a:r>
              <a:r>
                <a:rPr b="1" lang="en-US" sz="1200" spc="-1" strike="noStrike">
                  <a:solidFill>
                    <a:srgbClr val="ffffff"/>
                  </a:solidFill>
                  <a:latin typeface="Verdana"/>
                </a:rPr>
                <a:t>	</a:t>
              </a:r>
              <a:r>
                <a:rPr b="1" lang="en-US" sz="1200" spc="-1" strike="noStrike">
                  <a:solidFill>
                    <a:srgbClr val="ffffff"/>
                  </a:solidFill>
                  <a:latin typeface="Verdana"/>
                </a:rPr>
                <a:t>	</a:t>
              </a:r>
              <a:r>
                <a:rPr b="1" lang="en-US" sz="1200" spc="-1" strike="noStrike">
                  <a:solidFill>
                    <a:srgbClr val="ffffff"/>
                  </a:solidFill>
                  <a:latin typeface="Verdana"/>
                </a:rPr>
                <a:t>	</a:t>
              </a:r>
              <a:r>
                <a:rPr b="1" lang="en-US" sz="1200" spc="-1" strike="noStrike">
                  <a:solidFill>
                    <a:srgbClr val="ffffff"/>
                  </a:solidFill>
                  <a:latin typeface="Verdana"/>
                </a:rPr>
                <a:t>      human nature?</a:t>
              </a:r>
              <a:endParaRPr b="0" lang="en-US" sz="1200" spc="-1" strike="noStrike">
                <a:solidFill>
                  <a:srgbClr val="ffffff"/>
                </a:solidFill>
                <a:latin typeface="Times New Roman"/>
              </a:endParaRPr>
            </a:p>
          </p:txBody>
        </p:sp>
      </p:grpSp>
      <p:sp>
        <p:nvSpPr>
          <p:cNvPr id="3" name="PlaceHolder 2"/>
          <p:cNvSpPr>
            <a:spLocks noGrp="1"/>
          </p:cNvSpPr>
          <p:nvPr>
            <p:ph type="sldNum" idx="2"/>
          </p:nvPr>
        </p:nvSpPr>
        <p:spPr/>
        <p:txBody>
          <a:bodyPr/>
          <a:p>
            <a:fld id="{BC24B264-BC74-43CA-B7A4-38632FD731C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06T15:48:59Z</dcterms:created>
  <dc:creator>Judi Yost</dc:creator>
  <dc:description/>
  <dc:language>en-US</dc:language>
  <cp:lastModifiedBy>cbaker1x</cp:lastModifiedBy>
  <dcterms:modified xsi:type="dcterms:W3CDTF">2008-04-09T15:47:46Z</dcterms:modified>
  <cp:revision>210</cp:revision>
  <dc:subject/>
  <dc:title>Why Essential Questions?</dc:title>
</cp:coreProperties>
</file>