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D180A-287E-40B7-9F44-2AD0034C4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6750-9EE5-4C10-82FD-014A573D6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509ED-FD25-4DF0-86E4-D83C5C16C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1663E-D35B-4874-B6EB-15071E6B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62923-C98D-425E-A4B7-CD9CBF5B2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9583-577D-4CBE-989C-68F2F9FEB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3E5D5-8B28-4DFB-B9D8-7A27E0F2B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96C1D-00A2-4613-B830-E411B154E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91E97-2383-4137-9ED2-CDDD433EA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8ED47-46E7-4C9F-9A56-51854444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482E-54D3-422D-88A9-9738E2DE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0679-A2D3-419F-BAE6-416C521B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8552-688F-4D57-B4FD-0CD7F8E83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74836-3C88-45DD-B00F-C69E51AE3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7366D-667D-4B49-9E40-0E305B059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323F7-8222-4159-9ED8-FF612F96B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D8937-099F-4259-BC41-1E33A24E7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F9E1-D00F-4A5B-8154-496F31CB6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38D7-CF8D-4CAA-ADB0-AE607427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9EE3-7DC0-4976-8AD7-A3A952D6F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3AD5-F74E-4764-B059-04302B2B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1DED-D4E8-4E3F-BEF2-8616D5EB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461A-8A06-4194-B3BC-D28394485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D87B7-4357-4212-9A79-FAA2B04BA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E047-D05E-4C8F-BBEC-F8AD852A6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ECE2-0912-405F-9F0B-6ABFA8B618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anger to Urban Wildlif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can we do?</a:t>
            </a:r>
            <a:endParaRPr b="0" lang="en-US" sz="4000" spc="-1" strike="noStrike">
              <a:solidFill>
                <a:srgbClr val="ffffff"/>
              </a:solidFill>
              <a:latin typeface="Times New Roman"/>
            </a:endParaRPr>
          </a:p>
        </p:txBody>
      </p:sp>
      <p:sp>
        <p:nvSpPr>
          <p:cNvPr id="122" name="TextBox 6"/>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What are some problems for wild animals that live in urban areas?</a:t>
            </a:r>
            <a:endParaRPr b="1" lang="en-US" sz="4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habit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y for cats and dog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y into window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t by cars or buss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e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h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ts di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ught</a:t>
            </a:r>
            <a:endParaRPr b="0" lang="en-US" sz="2800" spc="-1" strike="noStrike">
              <a:solidFill>
                <a:srgbClr val="ffffff"/>
              </a:solidFill>
              <a:latin typeface="Times New Roman"/>
            </a:endParaRPr>
          </a:p>
        </p:txBody>
      </p:sp>
      <p:sp>
        <p:nvSpPr>
          <p:cNvPr id="125"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How can we reduce the impact of modern society on urban wildlife?</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 green spa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t trees and bush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dogs and cats indo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use pestici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e people about not hurting anima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 cautious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ow trash away in containers</a:t>
            </a:r>
            <a:endParaRPr b="0" lang="en-US" sz="3200" spc="-1" strike="noStrike">
              <a:solidFill>
                <a:srgbClr val="ffffff"/>
              </a:solidFill>
              <a:latin typeface="Times New Roman"/>
            </a:endParaRPr>
          </a:p>
        </p:txBody>
      </p:sp>
      <p:sp>
        <p:nvSpPr>
          <p:cNvPr id="128"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How can we go about finding the leading causes of injury to wildlife?</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our own data by: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ing wildlife expert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viewing community member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ing to clinics and hospitals and asking for data they have collected</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research others have don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ze all our data to look for cau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00:25:09Z</dcterms:created>
  <dc:creator>cbaker1X</dc:creator>
  <dc:description/>
  <dc:language>en-US</dc:language>
  <cp:lastModifiedBy>ljfishex</cp:lastModifiedBy>
  <dcterms:modified xsi:type="dcterms:W3CDTF">2010-05-22T18:24:18Z</dcterms:modified>
  <cp:revision>6</cp:revision>
  <dc:subject/>
  <dc:title>Danger to Urban Wildlife</dc:title>
</cp:coreProperties>
</file>