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C2F8-A7B9-4CF7-BA4A-200A6E1E7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A3FE-2312-4B24-A8CD-8D05D1EB2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01680" y="4343400"/>
            <a:ext cx="6556320" cy="412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73B3-7FAE-4312-8DED-498238B14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204D-D9CB-4DCB-99BD-494AF0446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BBE-4075-48E1-AB7D-BFBB61BE0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A2242-7D07-4ADC-A549-ED2C6CE5F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FF73-6AEB-4C8D-AB0B-05E8137D7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E0C1-66A7-4C98-AB7E-97D15154F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F18CC-1295-4DA6-B914-073232E9D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B1B9B-39D6-4DE7-8B46-D47ACC40D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642E-2823-4234-98A8-1F257AA5A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B5BA-0A4A-451A-AD42-0A98CCD2F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1C4C-BD97-4F6C-AAEC-09172E930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58D5-8C0B-400A-BF68-B0E4A43822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24B63-536A-481C-8AC0-4A70D58A1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7EBE-1348-448D-93FA-7C0F637EA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4CC2D-BBCD-475D-AA45-E1CD2B5A6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ACCD-36CA-4A92-A98A-21AE15E58ECB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ct Incentives</a:t>
            </a:r>
            <a:br>
              <a:rPr sz="28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98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74C2-FA8F-461D-8461-6CA527BA4D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gn Up Process</a:t>
            </a:r>
            <a:br>
              <a:rPr sz="32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Details on class dates/schedul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How teachers should contact you to sign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F8D2-F7B7-4240-961B-C51745F7E0C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FDD4-E192-479F-8A8E-A5F9319E20DE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over 5 million educators in more than 4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D306-64B4-4A93-9EDF-67CEEBF835C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FD4A-04E0-446C-96A0-985EBF7225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380DC-EA39-45CE-B4BF-9204EB5352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D9B6-57F9-424E-ACA7-F1E657C589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0C8B-0794-4ACB-985A-F7BCCAF49B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ypical Module Schedu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27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ir and Sha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dagogical Practices Discuss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s-On Activities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ying Unit Pla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nning Ahead Activ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8BF9-A81C-4044-94AD-FF3C0B96A9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C804-3BEC-4DDF-B82A-956CCCCF15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tend all 32 hours of hands-on in-class trai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Ahead activities between sessions—up to 16 hours of out-of-class for planning activities and completion of unit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7BB6-7570-4F99-8BF6-8C1675A2D9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05T16:21:57Z</dcterms:modified>
  <cp:revision>53</cp:revision>
  <dc:subject/>
  <dc:title>Presentation Title Goes Here</dc:title>
</cp:coreProperties>
</file>