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C1E4-DE96-4485-A7D2-3FE3987D4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822F-D494-4DC6-B17B-30FA3995A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the URL of the online collaborative editing site to the sl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3558-847D-4287-B496-382DBA347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B349-578B-411A-A9CD-24EE55893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3C12-F7CC-4CBC-BCAE-7FD02DC66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DD6E-AA3E-4CEA-8CFC-58C828C56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97BE-6B1B-447A-BFC5-AE4A85D5A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9CB9-5C2D-4FD1-A8E7-707996C72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4E12-CA9E-458E-9FFE-6E0FA08921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BE07-0AD2-4E73-A64F-9A4E9787A5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0853-FEF5-449B-931B-70C64BFB7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2AFB9-B6F3-4DD3-B31A-8BB4BCA59E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44C3-4D74-4639-8928-5FA3283E3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7DA4-5A51-4DE5-8A5D-F8C4FF765F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76AA-BFE7-41CA-88A9-418F92EECF97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95400" y="63644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7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AssessingProjects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n Assessment for My Student Sampl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3 – 5.1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690280"/>
            <a:ext cx="8229600" cy="38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ww.intel.com/education/AssessingProject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y I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ab to view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imated Overview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learn how to use the applic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turn to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AssessingProjec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gn into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orkspa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Assessing Projects application to create an assessment for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ort your assessment to your assessment folder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9229-A749-4142-B9B8-CFF369B126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Revisiting My Student Sample and Unit Plan </a:t>
            </a:r>
            <a:br>
              <a:rPr sz="32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siting  My Student Sampl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6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6656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summative assessment and your colleagues’ feedback from the Pair and Share to assess your student sample and note revisions you would like to mak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siting 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7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47840" y="3693960"/>
            <a:ext cx="836424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Unit Plan using the Unit Plan and Assessment Checkli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ine your Assessment Summ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Instructional Procedures focusing on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on your student sample, assessments, and your Instruction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dures and revise, if necessary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2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standards and objectives, if necessa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45AE-4160-4FE9-AF2F-2A7AF177E0C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9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7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flecting on My Learning</a:t>
            </a:r>
            <a:br>
              <a:rPr sz="14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7 and 5.20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420840" y="2314440"/>
            <a:ext cx="815796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ments should be integrated throughout a project and address all purpos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Student-centered assessments should focus on content as well as 21st century skill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ubrics contain traits that identify objectives that describe levels of perform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summative assessments to determine the quality of products and perform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1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following steps are useful when creating or modifying an assessme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3755880"/>
            <a:ext cx="780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erform the task yoursel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ake sure the traits meet your targeted goal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imit the number of trai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k colleagues and students for inpu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rite descriptors in student-friendly languag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void ambiguous wor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 the order of your tra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46040" y="5308560"/>
            <a:ext cx="830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92040" y="2351160"/>
            <a:ext cx="8272440" cy="36716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6ECC-E46A-4847-A2FD-CFBF6391AD9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9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flecting on My Learn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5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49280" y="2776680"/>
            <a:ext cx="8383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 entitled Module 5 Reflection, copy and paste the prompt below into your entry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This module has helped me think about student-centered assessment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C322-50B3-43D9-81BA-8EA5E10C4E7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5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viewing My Student Sample and Assessmen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9 – 5.2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17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notes from Activity 3 to revise your student sample and assess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on how your assessment strategies meet some of the traits from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about how your Assessment Plan and assessments so far address the following traits from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ress standards and objectiv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e student-centere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-45252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e varied and ongo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grou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3401A-D677-44B1-AF05-608EBE6E61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9880" y="210960"/>
            <a:ext cx="8229600" cy="9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30120" y="1039680"/>
          <a:ext cx="8458200" cy="51768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6: Planning for Student Suc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49200" y="1579680"/>
          <a:ext cx="8408880" cy="2565360"/>
        </p:xfrm>
        <a:graphic>
          <a:graphicData uri="http://schemas.openxmlformats.org/drawingml/2006/table">
            <a:tbl>
              <a:tblPr/>
              <a:tblGrid>
                <a:gridCol w="2311560"/>
                <a:gridCol w="6097320"/>
              </a:tblGrid>
              <a:tr h="256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tudent support and self-di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strategies to differentiate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an assessment to encourage student self-dir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tudent support mate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 to incorporate accommodations for all 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8600" indent="-22860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facilitation of a student-centered classr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30120" y="4137120"/>
            <a:ext cx="843912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help my students become self-directed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support the diverse needs of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F4F4-C178-4501-AC09-8238833FE68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95400" y="63644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D864-68BB-4063-95C9-80D2A1CDF0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A3FF7-7630-4AC4-B43D-55F1842809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9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979560"/>
          <a:ext cx="8534160" cy="31687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98440" y="4159080"/>
            <a:ext cx="8553600" cy="15541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58C0-B44F-434C-A24E-692B82DF79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304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A091-91A9-4B5A-A695-7170DA5595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Using Feedback to Improve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1 – 5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5520" y="199224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student sample with your group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for feedback on ways to improve the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0D576-86E1-44FF-B530-942CD38E375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7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4596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Involving Students in the Assessment Proces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3 – 5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374920"/>
            <a:ext cx="8229600" cy="37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Module 5 Pedagogical Practices page on the course wiki site. 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[Insert URL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a small group, brainstorm a list of some of the challenges and solutions teachers may encounter when involving students in the assessment proce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following ques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ich challenges will be the most difficult for you to overcom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1082520" indent="-4572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steps could you take to implement some of the solutions under considera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F4DC-7A03-4F65-B43F-3160E312833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Assessment Strategies</a:t>
            </a:r>
            <a:br>
              <a:rPr sz="32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flecting on Assessment in My Classroom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5 – 5.06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1360" y="2463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formative self-assessment and note areas for improvemen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14360" y="3156120"/>
            <a:ext cx="8089920" cy="15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ewing Assessment Pla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6 – 5.0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ssessment Plans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AssessingProje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57280" y="4943520"/>
            <a:ext cx="810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977760" y="4549680"/>
            <a:ext cx="7964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ich of these assessments would be most important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kind of information would you and your students gain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would the assessments help students become self-directed, collaborative learn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do the assessments assess higher-order thinking, 21st century skills, and answers to the CFQ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14DE-EF01-4BAC-A3A9-8283E801169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86148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Focusing on My Assessmen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08 – 5.10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360" y="2526840"/>
            <a:ext cx="822960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draft assessment timel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Assessment Table to determine and describe which types of assessments you will use throughout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Assessment Plan with the Assessmen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draft of your Assessment Summary in table or paragraph for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7326-8AC7-404C-9DCB-70B6B83D3C9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97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Module 5: Assessing Student Projects</a:t>
            </a:r>
            <a:br>
              <a:rPr sz="1500"/>
            </a:b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Creating Student Assessments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the Assessment for My Student Sampl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5.10 – 5.1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9808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student sample and think about the following questions as you review the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69800" y="3699000"/>
            <a:ext cx="8140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concepts, skills, and knowledge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Curriculum-Framing Questions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higher-order thinking skills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21st century skills will be assess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ADAF-7C34-440A-8D3A-0E698C3000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8T22:52:29Z</dcterms:modified>
  <cp:revision>81</cp:revision>
  <dc:subject/>
  <dc:title>Presentation Title Goes Here</dc:title>
</cp:coreProperties>
</file>