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B182-9070-4DF3-98DC-9DAA7C70A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BA83-E948-4B9B-B4A7-C615BCDC9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067FE-BC2E-4A17-B70F-433FD6F236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F987-1E03-4B9D-A49D-753F42E0A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76122-8999-4DE3-AFC3-96681C0A4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23962-A94F-427B-B966-D26474024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36D90-C312-47CC-BBAC-F1CBCB35DD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86A9A-EE2A-4C18-ACFB-50CF86EFFB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8DBAC-E27B-49CD-97E4-FAA7ACD9AF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33AFF-8F5D-4D1F-B30D-D86DCEF0DB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87D1B-D2DD-4CD2-80E3-BDC354FB25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4061-AFC9-4697-A4D9-9A871DDE93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BAD7E-AA81-4131-90AC-D49BCB6AEB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59E98-6B47-4AC7-B9B8-FC4CD9F8E3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7342D-FE66-4AAE-8F14-E6B1A46AE4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549D5-EF41-4BD3-A0BB-FB15AD8E44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F4C71-431B-471B-B859-3F23E3BAE4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454D8-F6ED-4D33-8708-ECC09B25A5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79EC4-EA29-4626-AF39-0EEAF1DD84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1E7F-AF24-482B-AA84-50909EEA8F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7356-02D0-44E2-B206-A81179B18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D2EA-A2E6-410D-A272-FEDD1A9D0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B0A6-0DCF-4900-A344-586EBD601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CD904-068A-4B7A-894F-B8B488F717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856E-9538-46A0-BB1B-9A4EAAC739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7CC6-7052-4167-9764-8303DE116E98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81080" y="633240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01E3-DD7D-4731-82C6-833E2A83326A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 Overvie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strict Incentives</a:t>
            </a:r>
            <a:br>
              <a:rPr sz="2800"/>
            </a:b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[To be added by Master Teacher]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980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015A8-AA29-4631-AF56-CA8F2AD1D83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gn Up Process</a:t>
            </a:r>
            <a:br>
              <a:rPr sz="3200"/>
            </a:b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[To be added by Master Teacher]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Details on class dates/schedul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How teachers should contact you to sign u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86D80-FF68-4591-8B14-6E1057DB86C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081080" y="633240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1C6D2-97B3-4704-A500-B4734AC3EB82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br>
              <a:rPr sz="18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ssentials Course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Int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ach Program is a worldwide initiative to provide teachers with the skills to effectively integrate technology into existing curriculum to improve student learning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nce 1999, the Intel Teach Program has helped over 5 million educators in more than 40 countri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oal of the Int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ach Essentials Course is to help classroom teachers develop student-centered learning through technology integration and project-based approach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A5246-905D-4D3C-8C87-811D1BB757E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3840" y="37620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urse Focu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mes of the Essentials Course includ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ing technology effectively in the classroom to promote 21st century skills in a 1:1 computing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ntifying ways students and teachers can use technology to enhance learning through research, communication, collaboration, and productivity strategies and too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ing hands-on learning and the creation of curricular units and assessments, which address state and national academic and technology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ilitating student-centered classrooms that encourage student self-direction and higher-order thin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llaborating with colleagues to improve instruction by problem solving and participating in peer reviews of uni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2B256-832B-478D-B1F1-07BCE3A82A9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04280" y="1012680"/>
            <a:ext cx="738036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Portfoli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achers create all the products liste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se items together make up a complete Unit Portfolio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er reviews are conducted on the products teachers crea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igns to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es through the use of Curriculum-Framing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ludes Assessment Timeline to note ongoing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s accommodations to support all lear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920" y="2487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utco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24F36-8D04-4D65-A3D5-C4AAC21E62C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rriculum Modul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206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1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Project-based learning and unit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2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Curriculum-Framing Questions and ongo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3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king Conne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The Internet to support teaching and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Project outcomes from a student persp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0AF7D-BD51-4A6C-A87A-308310612AA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rriculum Modul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082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5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sessing Student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6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lanning for Student Suc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7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acilitating with Technolog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Teacher as facilit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howcasing Unit Portfol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Sharing Learnin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A7C6-AE79-449D-A9C9-51B342F4737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ypical Module Schedu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82760" y="1308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ir and Sha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dagogical Practices Discuss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ands-On Activiti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ifying Unit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lanning Ahead Activit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63E1D-5994-4743-82E3-E14078B9B66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requisite Skill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360" y="135900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cipants should possess intermediate-level computer skill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546120" y="2527200"/>
            <a:ext cx="80136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bility 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mat and edit 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py, cut, and paste text and graph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ve docu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e-m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vigate and perform a search on the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a word processing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84A24-1691-4E5D-B5D1-B60BCD7CC79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pectation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ttend all 32 hours of hands-on in-class trai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e on ti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rticipate in all activities and discuss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lete Planning Ahead activities between sessions—up to 16 hours of out-of-class for planning activities and completion of unit material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7B8E8-9365-4FB6-8D62-9290BA4E760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5-12T19:47:32Z</dcterms:modified>
  <cp:revision>55</cp:revision>
  <dc:subject/>
  <dc:title>Presentation Title Goes Here</dc:title>
</cp:coreProperties>
</file>