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D90A-CF48-4767-9F3D-E5631525A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 the URL for the blogging site you have chosen for use during this cours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choose to use a wiki to record the ideas of your Participant Teachers, set up the starting page of the wiki and add the URL to this sl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680A-4785-4720-AA27-E00AD0A5C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E43F0-521F-4BFA-8224-C593A8B43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B18E-2319-486D-93B8-C5E7D9405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1DC7-0422-41DC-87AB-F6C58076B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31F0-F204-41DC-B90C-89E41BCC4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5A284-6CE2-4BA4-81D4-2D0DB427B3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E8BF2-1B2F-447B-BFCC-660F8FACA12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363FE-2C35-4BAA-80F0-85004EF8B4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93494-2EEA-459B-9074-672D75F19A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258BA-55A7-4E2C-9663-7582DEF4A1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664B7-8B34-4EA3-8AC9-A8EE74F217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24BC5-EC93-4283-B5A5-5C708888496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B2ED7-1F88-40D2-9FB2-AEE29AB602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A79DB-3782-4C93-BA85-1AEE82992F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8F452-A86A-4A39-95DB-3D7E78B1C3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E1E1A-DC58-497F-BC7D-6F00F0CC3B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E5BC3-9EDD-4644-9C96-9FE375FCF3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5E97A-17CF-47A4-8F83-725861D2B2A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7DB9-0764-46DC-979D-F6B9C8B2000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4F39E-8C68-4297-9A36-811CDF5F3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E6B0-0123-4D61-8F29-4ABD0568C0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BD08-BAC7-4EEA-A1D4-E5AB65E12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7FBC-ACE4-412E-9BF9-9806446DA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C46EF-447B-4432-AD5D-8B8BFCCBC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D988-DBB2-4AC6-9DC0-0A7A438BAFDD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66960" y="6350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Programs of the Intel® Education Initiative are funded by the Intel Foundation and Intel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7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966960" y="642132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000000"/>
                </a:solidFill>
                <a:latin typeface="Verdana"/>
              </a:rPr>
              <a:t> Education are trademarks or registered trademarks of Intel Corporation or its subsidiaries in the United States and other countries. 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2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2721-BA94-4219-BF46-B1CB6B6B9C63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8856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 </a:t>
            </a:r>
            <a:br>
              <a:rPr sz="1300"/>
            </a:br>
            <a:br>
              <a:rPr sz="15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My Student Sample</a:t>
            </a:r>
            <a:br>
              <a:rPr sz="3200"/>
            </a:br>
            <a:br>
              <a:rPr sz="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hoosing the Best Tool for the Job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g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07 – 4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600" y="2558880"/>
            <a:ext cx="8229600" cy="5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possible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ideas for your student sampl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438120" y="3062160"/>
            <a:ext cx="738828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sletter, newspaper, or broch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lo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0E5BB-7D32-41A4-8D3B-476DCEC3F4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 </a:t>
            </a:r>
            <a:br>
              <a:rPr sz="1300"/>
            </a:br>
            <a:br>
              <a:rPr sz="17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My Student Sample</a:t>
            </a:r>
            <a:br>
              <a:rPr sz="3600"/>
            </a:br>
            <a:br>
              <a:rPr sz="10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4: Planning the Conten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g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41360" y="249048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sections on Technology Integration and Instructional Design in the Portfolio Rubr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checklist and storyboard templates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tudent Sampl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ve or print any planning documents you would like to use in your student samp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E2B8F-CADF-413A-8A44-3A9B582C987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500"/>
            </a:br>
            <a:br>
              <a:rPr sz="15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3: Looking at Learning from a Student Perspectiv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e a student sample using one of these option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tion 1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reating a student sample presentation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11 – 4.13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tion 2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reating a student sample publication (newsletter, newspaper, brochure, or poster)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 4.13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tion 3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reating a student sample wiki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13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tion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reating a student sample blog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13 – 4.14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FFCFA-23D8-4B67-B478-1A7DAA3695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7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4: Revisiting My Unit Pla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14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666800"/>
            <a:ext cx="82296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Instructional Procedures section of the Unit Plan Checklis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raft your Instructional Procedur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necessary, revise your standards and objectiv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DA16E-257A-4673-93BD-A38DFEEF3D9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3080" y="88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br>
              <a:rPr sz="1700"/>
            </a:br>
            <a:br>
              <a:rPr sz="10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Reflecting on My Learning</a:t>
            </a:r>
            <a:br>
              <a:rPr sz="1400"/>
            </a:b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the Modul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15 and 4.18)</a:t>
            </a:r>
            <a:br>
              <a:rPr sz="2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406440" y="2386080"/>
            <a:ext cx="8157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Key Poi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lanning and developing a student product requir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nswering the unit's Curriculum-Framing Question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emonstrating understanding of concepts, skills, and knowled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emonstrating higher-order and 21</a:t>
            </a:r>
            <a:r>
              <a:rPr b="0" lang="en-US" sz="1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century sk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reating real-world connections for student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sing technology appropriately and effective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366840" y="4143240"/>
            <a:ext cx="740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decision to use a particular technology should be based on its strengths in supporting the desired content and learning objectiv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378000" y="4694400"/>
            <a:ext cx="7967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the creation of a student sample help me clarify unit expectations and improve my instructional design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ensure students will achieve the learning objectives when creating their student projects?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318960" y="2351160"/>
            <a:ext cx="7983720" cy="35845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70A98-7E54-4C23-A19D-D6F13F0B586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br>
              <a:rPr sz="1300"/>
            </a:br>
            <a:br>
              <a:rPr sz="17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6: Reflecting on My Learning</a:t>
            </a:r>
            <a:br>
              <a:rPr sz="1600"/>
            </a:b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 Blogging My Journey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15)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449280" y="2462040"/>
            <a:ext cx="838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e a blog entry in your personal blog site, copy and paste the following prompt, and write your respon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A606D-32AB-4985-B870-DB15742A6A9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ning Ahead: Reflecting on My Student Samp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18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760" y="1905120"/>
            <a:ext cx="8307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Aft>
                <a:spcPts val="10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preparation for the Pair and Share in Module 5, use the Portfolio Rubric to assess how the student sample you created in the module meets your design goal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36800" indent="-457200">
              <a:spcAft>
                <a:spcPts val="499"/>
              </a:spcAft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structional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36800" indent="-457200">
              <a:spcAft>
                <a:spcPts val="499"/>
              </a:spcAft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chnology Integ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 what feedback you would like from your colleagues to help you improve your student samp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31E1D-A132-4A2E-ABEB-720C7E92EC6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8680" y="39168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oking Ahead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19040" y="1252440"/>
          <a:ext cx="8245440" cy="3009960"/>
        </p:xfrm>
        <a:graphic>
          <a:graphicData uri="http://schemas.openxmlformats.org/drawingml/2006/table">
            <a:tbl>
              <a:tblPr/>
              <a:tblGrid>
                <a:gridCol w="2428920"/>
                <a:gridCol w="581652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5: Assessing Student Proj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ormative and summative 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4040" indent="-28404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Obtain feedback to improve your student s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xplore challenges and solutions for involving students in the assessment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lf-assess your current assessment pract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raft Assessment Summar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summative assessment for your student s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se your student sample based on your summative assess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se your Unit 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420840" y="4268880"/>
            <a:ext cx="8242200" cy="10940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do I assess student learning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do I involve students in the assessment process?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1F323-628F-42C8-8B34-C2D16FB387A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61880" y="6539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37725-67F7-45AB-A15F-BB7BF191C2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7784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271520"/>
            <a:ext cx="82375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-based learning and unit desig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urriculum-Framing Questions and ongoing student-centered assess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3: Making Connection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Internet to support teaching and learn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DC128-9182-412E-8DBF-0BCADD059C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28480" y="18432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23800" y="1092240"/>
          <a:ext cx="8272440" cy="2666880"/>
        </p:xfrm>
        <a:graphic>
          <a:graphicData uri="http://schemas.openxmlformats.org/drawingml/2006/table">
            <a:tbl>
              <a:tblPr/>
              <a:tblGrid>
                <a:gridCol w="2685960"/>
                <a:gridCol w="55864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4: Creating Samples of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oject outcomes from a student perspecti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dentify strategies to ensure safe and responsible Internet u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sample student publication, presentation, wiki, or blog to demonstrate student learn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raft Instructional Procedur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lf-assess your student samp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536400" y="3782880"/>
            <a:ext cx="8274240" cy="2040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he creation of a student sample help me clarify my unit expectations and improve my instructional design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ensure students will achieve the learning objectives when creating their student project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3672D-CF99-4543-9084-7B6BF5F0785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3640"/>
            <a:ext cx="822960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760" y="1214280"/>
            <a:ext cx="82375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Formative and summative assess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7: Facilitating with Technolog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eacher as facilita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8: Showcasing Unit Portfolio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haring learn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0B946-008A-4966-9B0B-FDE036BA4F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ir and Share: Incorporating the Internet into Uni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01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495360" y="1828800"/>
            <a:ext cx="788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hare your ideas on how you plan to incorporate the use of the Internet in your un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523800" y="3060720"/>
            <a:ext cx="801072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your unit abou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are your Curriculum-Framing Question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you incorporate the use of the Internet in your unit for research, collaboration, and communica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the use of the Internet help students develop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1st century and higher-order thinking skill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feedback or additional ideas are you looking for during this tim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D9901-A429-4893-B067-D1B8C66A2EF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5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dagogical Practices: Helping Students Adapt to a Project-Based Classroom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02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482760" y="2309760"/>
            <a:ext cx="78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rm groups to discuss how can we help all students successfully complete project tasks with the ability to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495360" y="3408480"/>
            <a:ext cx="7548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t manageable goa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nage timelines and adjust as necessar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nerate and investigate questions about their wor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 productively with oth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flect and plan for improvem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5A4C3-21A1-49C1-B762-7C285D412F9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Examining Student Samp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g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03 – 4.04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95360" y="1658880"/>
            <a:ext cx="782316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pen a student sample presentation, newsletter/newspaper, poster, wiki, or blo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pen the associated Unit Plan and view the Curriculum-Framing Questions, the targeted standards, and learning objectiv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te how the activities in the classroom support the creation of the student produc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view the student sample and assessment and discuss these questions with a partne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1015920" y="4368960"/>
            <a:ext cx="79250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Considering the learning objectives and assessment, how does the student sample effectively demonstrate student learning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What 21st century skills does the student sample demonstrate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How does the student sample help to answer the Curriculum-Framing Question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How does the chosen technology tool enable students to enhance their learning, increase productivity, and promote creativity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30A8E-796C-4B0D-86C1-31355B689F6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760" y="79992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 </a:t>
            </a:r>
            <a:br>
              <a:rPr sz="1300"/>
            </a:br>
            <a:br>
              <a:rPr sz="15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My Student Sampl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Project Design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g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05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509760" y="239544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nk about how a project-approach to learning can help your students meet your learning goal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525600" y="3279600"/>
            <a:ext cx="7691400" cy="22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real-world connections are possible for your uni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scenarios might help your students make those real-world connection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roles might your students pl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Aft>
                <a:spcPts val="9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tasks might they complete as they carry out those roles?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26154-855C-4DC8-BC69-63E5D332A5A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3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 </a:t>
            </a:r>
            <a:br>
              <a:rPr sz="1300"/>
            </a:br>
            <a:br>
              <a:rPr sz="8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My Student Sample</a:t>
            </a:r>
            <a:br>
              <a:rPr sz="3200"/>
            </a:br>
            <a:br>
              <a:rPr sz="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Connecting My Student Sample to Questions, Objectives and 21st Century Skil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g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06 – 4.07)</a:t>
            </a:r>
            <a:br>
              <a:rPr sz="24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480960" y="2908440"/>
            <a:ext cx="772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nk about how a project-approach to learning can help your students meet your learning goal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946080" y="3720960"/>
            <a:ext cx="750420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real-world connections are possible for your unit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scenarios might help your students make those real-world connection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roles might your students pla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tasks might they complete as they carry out those rol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550800" y="5284800"/>
            <a:ext cx="7620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.  Consider ways to use math to improve your students’ thinking skill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C0360-8521-4C27-9113-8EA7C07406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5-08T19:56:13Z</dcterms:modified>
  <cp:revision>75</cp:revision>
  <dc:subject/>
  <dc:title>Presentation Title Goes Here</dc:title>
</cp:coreProperties>
</file>