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7BD9-147F-4CCF-90C8-BF94E44BC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 your class ID number and your MT User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E15D5-FCC2-403F-A2B2-614694DABF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D454-ACA5-462C-9BCB-31AA9F9B9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D0AE-022F-4D63-9E3B-0401E000F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EC45-B6E9-4309-B154-0D195566C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9C45-A5A1-4758-9FF2-2EAE52EA5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529FB-3F24-4BEF-BE86-71D6D8601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87A4-1CF2-4BE4-9A14-2C15424EA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CF1EC-6262-4F59-A32E-7712333BF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E1C59-6B7D-4C7C-BD5E-52C2A4EBA8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9A71-D091-457C-95BD-E429F40D8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DA39-A890-483C-8A67-50B4051A1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4895-AA17-43E0-A709-28CA3158A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05FC-1AA4-408B-90EC-94938AFC1890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teachfuture/eva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4200" y="59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Reflecting on the Cours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1)</a:t>
            </a:r>
            <a:br>
              <a:rPr sz="20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1600" y="1792080"/>
            <a:ext cx="82296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 your personal blog, create an entry entitled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 Reflection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copy and paste the following prompt into your entry, and write your respons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Of everything you learned, what do you think will have the biggest impact on student learning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2.  Read all of your colleagues’ responses and start a conversation with any that interest you in their personal blog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480960" y="414828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Wrapping 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479520" y="4489560"/>
            <a:ext cx="7993080" cy="1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ansfer your files to a permanent loc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directed by your facilitator, remove all files that you developed during the course from the comput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move all CDs and disks from your compu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CAA0D-76C0-4F6B-ADD7-B4E81F38D1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0200" y="67140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Wrapping Up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cont.) (page 8.12)</a:t>
            </a:r>
            <a:br>
              <a:rPr sz="24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760" y="2242800"/>
            <a:ext cx="8307360" cy="32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gratulations on successfully complet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Inte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each Essentials Course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 Certificate of Completion is provided to acknowledge your effor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61F35-B229-4181-B08B-A9384EC9C36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DE1C-9DA9-44F6-8841-DFE81632AF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1360" y="86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-based learning and unit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urriculum-Framing Questions and ongo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Internet to support teaching and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 outcomes from a student persp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eacher as Facilit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399D-AA40-4593-8971-1A88E7F746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920" y="876240"/>
          <a:ext cx="8534160" cy="3071880"/>
        </p:xfrm>
        <a:graphic>
          <a:graphicData uri="http://schemas.openxmlformats.org/drawingml/2006/table">
            <a:tbl>
              <a:tblPr/>
              <a:tblGrid>
                <a:gridCol w="2514600"/>
                <a:gridCol w="601956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8: Showcasing Unit Portfol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1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ing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tcome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pare for showcasing your 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ive and receive feedback on Unit Portfol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te the Essentials Cou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322200" y="3944880"/>
            <a:ext cx="8516880" cy="1923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76EC-B464-4BF2-9DBA-32F19EAF06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0480"/>
            <a:ext cx="822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Completing Your Portfolio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01)</a:t>
            </a:r>
            <a:br>
              <a:rPr sz="13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07920"/>
            <a:ext cx="82296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your Unit Plan Checklist and  Review your notes from to complete unfinished components and make final revisions to your Unit Portfolio in preparation for the Portfolio Showca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A198-AE03-4985-9C31-7FA165C23F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55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a Showca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Showcasing Student Project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2 – 8.03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040" y="2106360"/>
            <a:ext cx="822960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ideas for showcasing student work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ch of the showcasing ideas could you most easily incorporate into your own classroom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would you need to do to prepare your students for an effective showcase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ould you support students in providing constructive feedback to their peers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strategies could you use to ensure students use the feedback from their peers as well as their own self-assessments to improve their work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4827E-E0CF-4C71-A6A7-2921E89230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a Showcase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Preparing for the Portfolio Showcas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3 – 8.05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4200" y="181728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 to the wiki site. </a:t>
            </a:r>
            <a:r>
              <a:rPr b="0" lang="en-US" sz="1800" spc="-1" strike="noStrike">
                <a:solidFill>
                  <a:srgbClr val="ccecff"/>
                </a:solidFill>
                <a:latin typeface="Verdana"/>
              </a:rPr>
              <a:t>[Insert URL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e your wiki showcase pag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be how you addressed the traits from the Portfolio Rubri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structional desig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chnology integr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ssessment strategi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pload portfolio components to your wik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t Pl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ssessment of your student samp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udent samp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ither a student support or facilitation resour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y other document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plain how you want to receive feedbac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81B9-0ED3-4ECB-8192-370348DE55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6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: Showcasing My Unit Portfolio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6 – 8.07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252252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low guidelines for providing feedbac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oose among options for providing feedback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wiki’s commenting featu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rd your thoughts on a subpage in the presenter's wik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ype your feedback into the Showcase Feedback Fo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low the link in the presenter's wiki to the blog site and provide feedback in a response to the blo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ll out a printed Showcase Feedback Form by hand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80960" y="1535040"/>
            <a:ext cx="802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oal of this showcase is to share your final products with your colleagues, to see what they have created, and receive feedback on your wor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3D528-FB43-4178-B6FD-62BF636B13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5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4: Evaluating the Cours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700280"/>
            <a:ext cx="8237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the online course evaluation at: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1"/>
              </a:rPr>
              <a:t>www.intel.com/education/teachfuture/eva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ur Class ID number is: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[ADD ID NUMBER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Master Teacher’s User ID is: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[ADD USER ID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258920" indent="0"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B4F50-5C7F-4930-83C9-DB91D1EEB1B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the Modul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3)</a:t>
            </a:r>
            <a:br>
              <a:rPr sz="20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800" y="2111400"/>
            <a:ext cx="8307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 Key Point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ents like a showcase allow the greater community to provide input for your students and to celebrate your students’ achievement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453960" y="3537000"/>
            <a:ext cx="811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77720" y="1992240"/>
            <a:ext cx="8393400" cy="35766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7592-A2D0-4948-808C-692B438B0C3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14T20:22:49Z</dcterms:modified>
  <cp:revision>79</cp:revision>
  <dc:subject/>
  <dc:title>Presentation Title Goes Here</dc:title>
</cp:coreProperties>
</file>