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4C11-FD51-49B9-B9AC-9FF896062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83544-CC30-4F7F-8119-73536AE4B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4CC1-B8AB-4C42-AC4F-8AD2054B7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588F4-BCD3-44D3-8F94-6CD319763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891C-6B09-459E-B25C-83FC08DA4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F44C-83DA-4C32-9B2B-83A0132CB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8F8D2-C45B-4BB4-A326-2238B582A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4D668-3F40-4310-9232-95521D935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CF7FD-0BE0-4485-90B9-CB1C89207A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2D21-B2E0-48DD-877B-90D3CB023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CECC-5126-44F6-8277-BE53768FA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8325-4E39-47A2-A2E7-25B5DAFEC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8289-4402-403A-9A9C-C3DD050FEF76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78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a Management Resourc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2598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sample management resourc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management document for your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71C5-A8DB-4AF4-AC7B-DAC604DEB3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: Reflecting on My Unit as a Who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9800" y="19317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Review the Unit Plan Checklist to identify any missing or incomplete elements of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Unit Portfolio Checklist to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ensure you have completed all pieces for your Unit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Portfolio Rubric and highlight the descriptors that describe your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ed on your self-assessment, note any changes you would like to make to your Unit Portfolio in the Unit Plan Checklis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0D50-4758-4D2F-9042-35F06F4273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776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y 1: Revising My Unit Portfolio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11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2960" y="211140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ed on your self-assessment, revise any components of your Unit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371520" y="2925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y 2: Reflecting on Professional Developm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12 – 7.1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12920" y="3822840"/>
            <a:ext cx="78832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inking about My Future Development and take notes about any resources you wish to explore in more detail in the fu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"1:1 Computing Classroom Resources"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sources, 1-to-1 Computing Resourc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EC80-8FE5-4C98-8323-5A83F1AC42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57120" y="1203480"/>
          <a:ext cx="8229600" cy="2041200"/>
        </p:xfrm>
        <a:graphic>
          <a:graphicData uri="http://schemas.openxmlformats.org/drawingml/2006/table">
            <a:tbl>
              <a:tblPr/>
              <a:tblGrid>
                <a:gridCol w="2424240"/>
                <a:gridCol w="5805360"/>
              </a:tblGrid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odule 8: Showcasing Unit Portfol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ing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tcome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pare for showcasing your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ive and receive feedback on Unit Portfol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the Essentials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363600" y="3236760"/>
            <a:ext cx="8229600" cy="1801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26880" y="341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C736-8C26-4FBF-9F7C-DFDEBFB2CC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F69A8-42A1-4169-8689-44B25F2357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55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 learning and unit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 outcomes from a student 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611C-649A-4104-8EA0-183E2784C1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4200" y="1839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76120" y="1015920"/>
          <a:ext cx="8534520" cy="3297240"/>
        </p:xfrm>
        <a:graphic>
          <a:graphicData uri="http://schemas.openxmlformats.org/drawingml/2006/table">
            <a:tbl>
              <a:tblPr/>
              <a:tblGrid>
                <a:gridCol w="2514600"/>
                <a:gridCol w="601992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7: Facilitating with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acher as facilit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tcomes: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xplore questioning strategies to promote higher-order thin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facilitation mate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Unit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iscuss implementation strate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management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Unit Portfolio and revise based on your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 and share with part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299880" y="4316400"/>
            <a:ext cx="8514000" cy="15541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facilitate a student-centered classroom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use technology to support my instructional practi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845F6-AED4-474D-AE76-4A62B4C19B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6200" y="1328400"/>
            <a:ext cx="823788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8: Showcasing Unit Portfoli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264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haring lear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0106-A17F-492E-8952-96DDAFED94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59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edagogical Practices: Using Questioning to Promote Higher-Order Thinking and Engage Student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01 – 7.03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7120" y="217440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eak into three groups, with each group discussing one of the following questions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170000" y="30178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355680" y="2895480"/>
            <a:ext cx="8261280" cy="37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are some ways that you can integrate the use of Curriculum-Framing Questions into your classroom and student project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are some ways that you can integrate the use of questioning into your classroom and student project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you teach students the skills they need to perform higher-order thinking when they create projects? What types of questions, prompts, and scaffolds can you use to encourage students to think deeply?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FE01-CA18-4AFA-AAF6-BA21EA5884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2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Designing Facilitation Resourc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Considering NETS-T Standard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04 – 7.05)</a:t>
            </a:r>
            <a:br>
              <a:rPr sz="24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4600" y="2389320"/>
            <a:ext cx="82836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view ways to use technology to support your instructional practice and improve your productivity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Planning My Facilitation Resourc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6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36680" y="3405240"/>
            <a:ext cx="7661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owse sample presentations, publications, spreadsheets, and Web resources located in the Facilitation folder on the Curriculum Resource C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ccess teacher-created blogs and wikis on the Web from links available in the Facilitation Examples folder on the Curriculum Resource C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ke notes on any ideas you find that you could use in your un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7B2BD-89A2-4A2A-AFEF-E1C1B21C3E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8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Designing Facilitation Resourc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Facilitation Materia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6)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4200" y="2628720"/>
            <a:ext cx="8229600" cy="32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ideas and areas of interest and your notes from the previous step. Create a new document, presentation, or web-based resource to support the facilitation of your uni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you wish, modify existing support material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592C-37F1-4AB4-AB09-E0C7912D46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4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Completing My Instructional Procedur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7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6560" y="2539800"/>
            <a:ext cx="804888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your Unit Plan and complete your Instructional Procedures section. Specify how you will incorporat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al and informal assessment throughout the instructional cyc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1st century skills instru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fferenti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sential, Unit, and Content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your Unit Plan Summary and the other sections of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58BB-F4DB-43FB-9E4B-D84FD37638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lanning for a Successful Projec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08 – 7.0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2760" y="2519280"/>
            <a:ext cx="8229600" cy="17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Managing Student Use of Computers in the One-to-One folder on the Curriculum Resource C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lnSpc>
                <a:spcPct val="100000"/>
              </a:lnSpc>
              <a:spcAft>
                <a:spcPts val="70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small groups discuss how you could address the following topics to ensure a successful project in your classroom.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25520" y="4289400"/>
            <a:ext cx="814536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4960" indent="-28908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unicating about the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8908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ming and Transi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8908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lab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8908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terials/Equipment/Technology/Outside Resources/Facil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4960" indent="-28908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a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C3A01-852C-479F-B29B-45AEB432CE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12T20:09:59Z</dcterms:modified>
  <cp:revision>88</cp:revision>
  <dc:subject/>
  <dc:title>Presentation Title Goes Here</dc:title>
</cp:coreProperties>
</file>