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3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4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5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E81AB09-F6C4-4D09-8A4B-0FD6817A6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 the URL for the blogging site you have chosen for use during this cours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B360E-D551-4D48-BCF9-71B1C5F53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CA2BC-0428-4485-AC2B-E78234BC8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5F370-AB12-4CC4-8924-CD1A398D8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B2744-0B62-4F35-8FB6-03AB3856C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99941-8A80-4E9A-A9B7-554786A56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2E653-7EB2-4C07-8BA2-03DC9B729A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7890B-4424-4DDF-B21C-EA44570599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65C72-63E7-40F9-AC73-29C6D1806B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7871D-E6D7-4820-94B6-8BBF3413E8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23574-8B7C-4BEA-B6B7-EB280F7EE2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9A233-2496-41A0-AA75-C2861CF120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64F69-D780-4297-A585-1D812BD882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F19C9-B1EF-4246-AA9D-D70FCDF2F2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86C50-1953-437B-8AB8-5DEE123BBC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71AD8-E4DC-47FD-86F4-2AEFBA1E84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95C40-B29B-42BD-AD7F-7BF3C500BB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82B6D-64F0-40F2-8CCD-2F7D32E7417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56E23-4412-4359-ABE7-9D07ADA1098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BB05B-BF6A-4C46-A2F4-2D36BC81A1F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F1A2A-3FA2-4500-A4F1-A04D54ECB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B7022-77B2-442F-84D8-A23BDD5F8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63B5-A4A7-490C-9CFF-43EC20420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DDC57-2070-47D4-AAF2-F1CD705F7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721DC-9782-418B-AD0F-11A816B7A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FEAB-9B32-4D01-8EE3-40F53650F89B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B84C-8BDB-4437-8B99-5D09C03DB52E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525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97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5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3: Using the Internet for Research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Finding Media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08)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90680" y="2281320"/>
            <a:ext cx="803592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cate one or more good multimedia research resources for your uni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ve images, sounds, or videos, if appropriate, for your un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495360" y="3757680"/>
            <a:ext cx="7561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Evaluating the Web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09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Web site evaluation forms for teachers and stud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0FBF6-29A9-4B54-B0C5-C8A2AD5804F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4: Communicating with the World through the Internet</a:t>
            </a:r>
            <a:br>
              <a:rPr sz="3200"/>
            </a:br>
            <a:br>
              <a:rPr sz="8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Reviewing Internet Communication Tools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2576520"/>
            <a:ext cx="84186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Considering Communication Tool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3.11 – 3.1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ine a communication tool in more dep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484200" y="3749760"/>
            <a:ext cx="7867800" cy="18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-mail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1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a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1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stant Messaging (IM)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1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urvey/Polling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13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oice Over Internet Protocol (VoIP)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3.13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292E7-1B1E-41C4-826F-BB5DABFEFE6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5: Considering Web-based Collaborative Learn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3.14 – 3.17)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760" y="1930320"/>
            <a:ext cx="823752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benefits and drawbacks of blogs, wikis, and online collaborative editing Web sit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rd your thoughts on online collaborative spreadsheet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d the system-generated e-mail inviting you to collaborate on the document titled Using_Web 2.0_Tools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gin to the site with your e-mail and passwor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rd how you could use one communication tool and one collaboration tool in your classroom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93D82-8AA0-4AC2-9C51-0A58010A127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3000" y="80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 </a:t>
            </a:r>
            <a:br>
              <a:rPr sz="1300"/>
            </a:br>
            <a:br>
              <a:rPr sz="15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6: Reflecting on My Learn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Reviewing the Modul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3.18 and 3.20)</a:t>
            </a:r>
            <a:br>
              <a:rPr sz="22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276120" y="2324160"/>
            <a:ext cx="8621640" cy="32000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Key Poi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Internet can be a powerful tool for research, collaboration, and communic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ir use guidelines describe the ways in which copyrighted materials may be used legall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orks Cited documents can be created in a variety of formats for students of all age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skilled use of search strategies enables students and teachers to find useful information efficiently on the Web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 variety of factors must be considered when determining the credibility and value of a Web site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-mail, online chats, instant messaging, and Voice Over IP technology allow students to communicate with people all over the world through the Internet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logs, wikis, and online collaborative documents allow students to collaborate on projec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I use the Internet to support my teaching and students' learning?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I ensure responsible and appropriate use of the Internet?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AC5ED-8C75-4D12-B8F8-8FCADA02834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0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7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6: Reflecting on My Learning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600"/>
            </a:br>
            <a:br>
              <a:rPr sz="20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 Blogging My Journey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18)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449280" y="2847960"/>
            <a:ext cx="838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e a blog entry in your personal blog site, copy and paste the following prompt, and write your respons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s module has helped me think about the impact of the Internet on my students’ learning in the following ways…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72621-2BFC-4AAB-A906-299BB7F4278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7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lanning Ahead: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ncorporating the Interne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19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5760" y="1805040"/>
            <a:ext cx="83073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notes for integrating the Internet into your un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lect one or more Internet tools and briefly describe ways you will use them to support the learning goals of your unit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DC63D-79A0-42B3-95C7-C7BA3C2D612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oking Ahead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14440" y="1271520"/>
          <a:ext cx="8272440" cy="2840040"/>
        </p:xfrm>
        <a:graphic>
          <a:graphicData uri="http://schemas.openxmlformats.org/drawingml/2006/table">
            <a:tbl>
              <a:tblPr/>
              <a:tblGrid>
                <a:gridCol w="2685960"/>
                <a:gridCol w="55864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4: Creating Samples of Lea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oject outcomes from a student persp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dentify strategies to ensure safe and responsible Internet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sample student publication, presentation, wiki, or blog to demonstrate student lear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raft Instructional Procedur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elf-assess your student s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07960" y="4114800"/>
            <a:ext cx="8272440" cy="14122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the creation of a student sample help me clarify my unit expectations and improve my instructional design?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ensure students will achieve the learning objectives when creating their student project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7DCD4-BBAF-454A-A45C-BB3CE487CD8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525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30DF0-8297-4A93-BF94-F38ADB0D8B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760" y="1128600"/>
            <a:ext cx="82375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1: Teaching with Proje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-base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learning and unit desig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2: Planning My Un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urriculum-Framing Questions and ongoing student-centered assess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EB397-FCD8-419B-A7D3-60325CFC45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77720" y="1724040"/>
          <a:ext cx="8386920" cy="2386080"/>
        </p:xfrm>
        <a:graphic>
          <a:graphicData uri="http://schemas.openxmlformats.org/drawingml/2006/table">
            <a:tbl>
              <a:tblPr/>
              <a:tblGrid>
                <a:gridCol w="2889360"/>
                <a:gridCol w="5497560"/>
              </a:tblGrid>
              <a:tr h="238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he Internet to suppo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eaching and lear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hare ideas for meeting standards with projec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ew copyright laws and fair u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Works Cited docu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ntegrate the use of Internet resources into unit to support research, communication, collaboration, problem solving, and/or other 21st century skill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Use online collaborative Web site to share unit ide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b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79520" y="1147680"/>
          <a:ext cx="8381880" cy="56052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3: Making Conne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500040" y="4110120"/>
            <a:ext cx="8383680" cy="12826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ule Question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use the Internet to support my teaching and students' learning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ensure responsible and appropriate use of the Internet?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B1ABA-D2F3-42AA-98AD-F09E5543F2B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 Going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760" y="1028520"/>
            <a:ext cx="823752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4: Creating Samples of Learni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project outcomes (presentation, publication, wiki, blog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5: Assessing Student Project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Formative and summative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6: Planning for Student Succes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7: Facilitating with Technolog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eacher as facilita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8: Showcasing Unit Portfolio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haring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2BB68-CAF2-4E3A-B2EA-E419FD59F5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0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ir and Share: Presenting My Unit Portfolio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3.01 – 3.02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523800" y="1887480"/>
            <a:ext cx="802656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nk about what kind of feedback you would like to receive from your colleagu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are your Unit Portfolio Presentation with the embedded assess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ive feedback to your colleagues about their presentations and assess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rporate your colleagues’ suggestions if you wis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3031E-263C-4601-99DB-4F702C77A70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7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edagogical Practices: Meeting Standards in a Student-Centered Classroo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03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522360" y="2324160"/>
            <a:ext cx="8229600" cy="30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the question assigned to your group by the facilitator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7760" indent="-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do I ensure that students meet standards in open-ended activities and project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7760" indent="-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students are in charge of their own learning, how will we be sure they learn what is importan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7760" indent="-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do I ensure accountability when students are working in group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oose one person to record your thoughts in the wik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7A8CC-AB2A-4671-95D5-A8FEA533885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3156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5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1: Targeting 21st Century Skill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04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511200" y="1859040"/>
            <a:ext cx="7880400" cy="42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learning objectiv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ere in your unit do students need to conduct research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your unit, when could students' learning be enhanced by communicating with other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ere in your unit would collaboration be beneficial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you ensure students are using problem solving strategies throughout your unit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ainstorm how you could incorporate the Internet in your unit to help students do research, communicate, and collabor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AB4B0-9A73-4B0A-B26A-212B5ED4B59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1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Modeling and Teaching Legal and Ethical Practice Related to Technology Use</a:t>
            </a:r>
            <a:br>
              <a:rPr sz="3200"/>
            </a:br>
            <a:br>
              <a:rPr sz="8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Exploring Copyrigh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05)</a:t>
            </a:r>
            <a:br>
              <a:rPr sz="36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5520" y="2787480"/>
            <a:ext cx="8237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ke the copyright quiz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the “Copyright Chaos” presentation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how copyright law and fair use guidelines will impact your classroom (optional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5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465120" y="4340160"/>
            <a:ext cx="80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Citing Source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466560" y="4865760"/>
            <a:ext cx="82155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Works Cited resources, examples, and templa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a Works Cited document and save to your unit_support folder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093F8-49E2-4D28-A647-37862FB83FE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2428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sing Search Engin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5120" indent="-4651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rrow your sear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5120" indent="-4651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ainstorm keywords to find information for your un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5120" indent="-4651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g or bookmark sites you might like to us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5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65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457200" y="74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1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3: Using the Internet for Research</a:t>
            </a:r>
            <a:br>
              <a:rPr sz="3200"/>
            </a:br>
            <a:br>
              <a:rPr sz="1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Locating Internet Resource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3.07 – 3.08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479520" y="4151160"/>
            <a:ext cx="8272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pecialized Search Eng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you are researching an unusual subject or you want to make sure your sites are age-appropriate, you may want to use a specialized search eng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AD61D-456A-4181-84CB-25E50BCA050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magrantx</cp:lastModifiedBy>
  <dcterms:modified xsi:type="dcterms:W3CDTF">2008-05-14T21:45:25Z</dcterms:modified>
  <cp:revision>81</cp:revision>
  <dc:subject/>
  <dc:title>Presentation Title Goes Here</dc:title>
</cp:coreProperties>
</file>