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2B60-BB71-4545-9B2B-AA47C7C934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E853-225D-4EA0-98B9-BAC3476C9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65A0-B768-4F10-81DD-1C4DAEA9E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8B614-0473-45C3-9CAA-136F2DC141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C3FF-D9E3-4BD9-9B8F-4B2EF9D0C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7772-4E7B-4925-88F6-32FC9F5E1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ABB13-2A25-463A-AB45-85049B3C5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BD9F-DCE5-4016-9C14-ECC6AE2EB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C819-B604-4EB6-9082-A3DEF0C6B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468E-BD73-4FB7-BE63-267053875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A670-9CDA-4A27-A534-DD356A90F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5D9B4-8637-4CE1-AD8C-536DA7C7C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64C5-3A23-4728-9491-5B11AEAA8CEE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1E08-7530-4B50-B0DC-8B162D9257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6C41-AC0D-4812-A42B-B5E3A5514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12920" y="3822840"/>
            <a:ext cx="78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A2BD-94A8-4E82-9EDB-E54B53769A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63600" y="323676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BF78-875B-4BA6-A1B8-2C76277D37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FF39-253F-4F6E-99CA-440CAD2ACA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5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80BB-667F-445A-BE84-53E308BD47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200" y="1839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76120" y="1015920"/>
          <a:ext cx="8534520" cy="3297240"/>
        </p:xfrm>
        <a:graphic>
          <a:graphicData uri="http://schemas.openxmlformats.org/drawingml/2006/table">
            <a:tbl>
              <a:tblPr/>
              <a:tblGrid>
                <a:gridCol w="2514600"/>
                <a:gridCol w="60199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7: Facilitating with Techn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er as facilit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questioning strategies to promote higher-order thi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facilitation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iscuss implementation strat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management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Unit Portfolio and revise based on your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 and share with part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299880" y="4316400"/>
            <a:ext cx="85140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facilitate a student-centered classroom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use technology to support my instructional practi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47BEE-4132-4F4E-907F-894A6B0BE4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1328400"/>
            <a:ext cx="8237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12640" indent="0"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917E-6F45-49F3-9C47-8396E54AD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597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dagogical Practices: Using Questioning to Promote Higher-Order Thinking and Engage Studen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1 – 7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7120" y="2174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eak into three groups, with each group discussing one of the following question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170000" y="30178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355680" y="2895480"/>
            <a:ext cx="8261280" cy="37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Curriculum-Framing Questions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some ways that you can integrate the use of questioning into your classroom and student project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teach students the skills they need to perform higher-order thinking when they create projects? What types of questions, prompts, and scaffolds can you use to encourage students to think deeply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ED9D-BC7A-4A96-8305-F6D38981F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2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nsidering NETS-T Standard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4 – 7.05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4240" y="2274840"/>
            <a:ext cx="8699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ways to use technology to support your instructional practice and improve your productivity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My Facilitation Resourc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436680" y="3405240"/>
            <a:ext cx="7661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owse sample presentations, publications, spreadsheets, and Web resources located in the Facilitation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cess teacher-created blogs and wikis on the Web from links available in the Facilitation Examples folder on the Curriculum Resource C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notes on any ideas you find that you could use in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992A7-F018-414F-90D9-44B056C91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4200" y="262872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AA63-FA8D-4FF5-AD36-0DA965AE60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96040" indent="-4478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72960" indent="-37296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EE0C-889B-414B-9229-9BC0E69F1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FA09-9A8A-4156-9D5F-97063DE215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0:00:39Z</dcterms:modified>
  <cp:revision>87</cp:revision>
  <dc:subject/>
  <dc:title>Presentation Title Goes Here</dc:title>
</cp:coreProperties>
</file>