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9858-DFBA-4288-9A5B-9D7DAE872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0D85-3DA0-40BC-9E5B-99E65D98C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01680" y="4343400"/>
            <a:ext cx="6556320" cy="412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593D-9CCB-4CBC-A990-353CE21D6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A7CC-71ED-4CD3-9C4F-C706457F7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66D6-E5C1-4523-80FE-C9D57E031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EBCD-6D7C-4870-924F-F14F7D154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229A-AFBF-4BB3-94A0-55CBCE44D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D229-4341-4FA5-BB08-3A5F70144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FD90-9456-4922-943E-D335AFE92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0077-6BA1-4517-A954-35390479A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2FB4-F7FE-44F9-BEA9-EC6379DC2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37BA-B32F-4161-A7A4-0D818A8EA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ED9F-0A67-4572-89BA-D93DFBC09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062D-FF06-41F8-B856-EC046709D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5082-5F85-4518-AADA-9AD7CA79B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1CB1-B2B8-4D9A-8342-20554B589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6374-60A4-4299-93CE-3B3AE8E0F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3105-AE89-43D0-9F99-B871475786CB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702E-A0D5-4652-9FE1-A959AEB86E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gn Up Proces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Details on class dates/schedul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How teachers should contact you to sign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3D02-C747-40D0-AD9B-9C11EBD256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2F1F-3AFD-4B80-BF55-ED6BF073C00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6C49-98C0-4D88-9369-94E4280FF4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DE22-5D86-4BA5-B2FB-3889035773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C479-B4E7-48F2-8972-C56559F960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1874-E482-4262-BEC7-E0901FD90A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957C-D3ED-4E90-91A8-10314B4AD0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CD36-EBCB-41FD-900E-B57E666FC1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D497-E9F2-47D5-A883-84230554F8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C399-49A2-45FD-B696-DB7E8ED06D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5T16:21:57Z</dcterms:modified>
  <cp:revision>53</cp:revision>
  <dc:subject/>
  <dc:title>Presentation Title Goes Here</dc:title>
</cp:coreProperties>
</file>