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A231-FB73-4EEA-9256-3340D0DE7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444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444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80B6F-06E9-4529-84B5-E4DF92091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2A10DD11-369E-44DF-A8C0-0C1ED3600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0723CD71-08FD-46EC-A03D-55A10A10B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34C0F1A4-6758-4E29-B0B8-B6B1989E6F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055B19D-40DD-4366-93EF-DE1A71470B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82984-9D57-4632-9A5C-0502260045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7458FBC-6C44-4CF9-BE0B-CD1DED3F8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E4B1978-8854-418D-90A9-9B61152212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DADE08B7-E84F-471D-B30B-E424040DF3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582BF901-9087-40E5-A684-164721653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EAF6246-610A-4462-94A2-6868288F38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2B544D45-686A-4246-973A-0CAD80FF55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AA2FDFD6-E51C-489C-970B-C77A0A72FF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6D7228A8-1BA0-452A-9C1E-1BFF93AA0D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6BEFFFD-6A0A-4C90-991A-4BAAFA61A2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3FEFEC09-8904-4ABD-A173-7603606AA6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13421042-0C33-4B19-870E-BB40500AA0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56471379-9673-4125-B344-678A5CF17B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A800BEA6-9890-414B-8361-FA97E450E2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335D3DD8-2267-4763-A9D9-E338AFCE4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CA0055EC-276A-4246-B30E-C8E662A6F5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97F3898-8F67-46A6-A7A7-D86FCE663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250B1F6-A503-4DA3-9CB6-A991AA7FD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3438DEC-C12C-42BF-AC13-080D81599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737F-A5A8-44C7-99FF-59C70DA86FA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6C1D-3A4C-4615-9126-D2D14464D10B}"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BD600CB-C37B-4D29-826B-202CF8CB6F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CB64B9F-C8BF-417F-8107-F1B65B58C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C50BE8A8-70C9-46DD-B26A-AB90542D2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254D9793-848C-41BA-B052-36DBE8ABD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B9CF7266-322A-4D41-AAC9-6E45A7B12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E00B670C-DC84-423D-87D1-D4A30740B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341280" indent="-341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A15A3D0-F786-440C-A38F-8170692D08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3C244846-B307-4690-94E5-D9AB8BBCA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4D3C570-DB23-46E7-85CE-51A1F0BEC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466C316F-3A69-4FE4-AD57-3835E440B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C0CF884-2948-469B-96AE-2AF095911E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34128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4B71415-4119-4AE7-ADC0-EAB8D7E45B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9A44F906-3DB6-4AAE-94C8-7A5A118D07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304920" y="327672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1B972C0-C752-49A8-AD6F-164C1066DC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7EC6C79-1538-422C-88AC-8E1603F25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EA37994-4654-4BC1-ACE1-5FBF551E9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CF6D6B7-6D36-4940-8EAD-303342550C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CC5B3DA-2BAF-4D5C-B4D7-F7C908BBA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39"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EBCDFCE-9CD9-46A3-B4CF-55DAC5B29F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1"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2"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3"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15A5912-8D69-499B-B77A-59132314A2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5"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584A688-8539-4A33-9E06-CE5260B6B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66C7797-2319-43A7-A5C2-272067A4C1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7"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8"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088812B-56BF-44F2-94DF-AB3C4C448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0"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0B72F432-0DEA-47F8-A46F-378CD7D735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3"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F8FB2BD-D6D5-4AD4-BB2E-E7EE52B86EC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5"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D387F31-F287-4DB2-9E9E-C3731E763FF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7"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8"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714B1A6-3767-43DC-A0C6-4062A90206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89EBCDB7-8DC8-45FF-A731-55C2A8F10D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3"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1E60B36-4B47-4768-AFDB-13EEB6FB1B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4"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5"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6"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00AB963-6760-499F-8D6B-85C75D78B70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8"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2CAB637-F61E-4707-B9F8-E2BAD1EA5D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954062C8-14F3-4EA8-BCE8-45D57A0073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BA7FF17-5BCF-4472-9E28-F359B6F97D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D54B328-7FEB-4E18-9112-66AEB58ACDB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065D46D-22B3-4FD7-AAD7-91767AC23B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DDF570F-DEA4-4349-A310-40580FB22A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7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401C7E8-DA3D-4B21-AEC2-3C4DFFF337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EA8059F-2A42-48AB-A96A-BD927EAA57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862B40E-A382-4955-B0D4-681D575FE26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9C1DB4D1-20FF-4BAA-849E-934C2C31995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46028A4-510E-4E66-98A0-7055867DE14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89"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80C12F7-F48C-4BFD-8D42-7E608CE001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3260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ccessfully complete all 32 hours of the course </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icipate in all class activitie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 Unit Portfolio that integrates technology, which addresses higher-order thinking skills and aligns with targeted content standard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n online evaluation of the course</a:t>
            </a:r>
            <a:endParaRPr b="0" lang="en-US" sz="2400" spc="-1" strike="noStrike">
              <a:solidFill>
                <a:srgbClr val="ffffff"/>
              </a:solidFill>
              <a:latin typeface="Times New Roman"/>
            </a:endParaRPr>
          </a:p>
          <a:p>
            <a:pPr marL="341280" indent="-3412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8980DFE-47D2-4ACE-A5BF-51EEE0CED2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0EA4686-1D95-4DDA-9E3B-4BA40741A06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414C9444-E69B-47BA-9F33-46BC43E8C2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87368EDE-78BF-4B73-AF5D-C2FEACEA5E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C424E13-6A62-44B2-8ED8-6C1660A4743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00"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3F3AB1B-BC6D-4B79-9226-79075F4FCA4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2217600" y="1908000"/>
            <a:ext cx="4953240" cy="2475000"/>
          </a:xfrm>
          <a:prstGeom prst="rect">
            <a:avLst/>
          </a:prstGeom>
          <a:ln w="0">
            <a:noFill/>
          </a:ln>
        </p:spPr>
      </p:pic>
      <p:sp>
        <p:nvSpPr>
          <p:cNvPr id="302"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B9627687-0290-4B47-8C1E-BB2E067D376B}"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F9094D1-55BC-4BBC-800D-440D0762A9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990057B0-5FAE-44CA-80FD-9B2F7BE6D5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C7AED97-14F1-46C9-87CA-51554908A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A267C863-4AF2-4580-8BFE-70134B790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5T15:21:46Z</dcterms:modified>
  <cp:revision>496</cp:revision>
  <dc:subject/>
  <dc:title>Module 1</dc:title>
</cp:coreProperties>
</file>