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0DBB-8716-47AD-BFFD-F30F82D40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EAFB-67A3-43C2-99EA-9BE1B30D7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1E10-8BD7-4F13-BF88-5F3568FD5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6C22-35EB-4C50-8C1F-75AC2F366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883D-EFFD-416D-8A78-E1965D356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8D1B-D87B-41E8-B6AE-55A877A20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1A3B-BB98-42EA-B415-46E9A0878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6D22-51C8-4A14-AB69-8AC1B4D41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1FFD-6C8D-4D6B-B7ED-BB47E0F20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E559-9318-45A1-8A04-68068FBE9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99E4-3604-439C-BB09-4B5F9419F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BE3A-D9C8-456B-9EB8-34D322D3E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E2B1-D6FE-4456-BAB1-B894DDD47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E35B-E838-4F4B-A381-1DB71EF0A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F61-DC5F-400F-B3A2-DBD9745F9EC6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8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online.intel.com/courseupdat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.com/education/teachfuture/eva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63600" y="327168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721C-D7AA-4BA3-AC32-23E4122A22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34720"/>
            <a:ext cx="82296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ponsibiliti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resources in the Master Teacher Appendix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Responsibilities and Check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Milestones - MT Appendix C.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Preparation Checklists – Starting on MT Appendix C.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Guide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Participant Teachers - MT Appendix C.0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uidelines for Training Participant Teachers - MT Appendix C.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My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Appendix C.10; also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M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B546-89D8-4CC1-AE7E-585A90AD251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FDE9-D720-40BC-A3D7-D82432F6949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our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4840" y="104724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ster Teacher resources on the Essentials Course v 10.1 Overview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teachonline.intel.com/courseupdat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00080" y="1811160"/>
            <a:ext cx="69357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et Tools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-to-One Computing Emph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Module  Check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Pres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and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96D1-CF49-4084-95E9-D3880EEC12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8D07-8F1B-45DB-8EF9-DC9118B4BB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1740-3A5B-4614-AAC0-401E84399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8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8 Checklist in MT Appendix C.2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0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6AE9-1B9B-4B00-BE7D-FC874717E2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F002-C2DF-46A2-93B8-9429257678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7EE7-51CD-40B2-99CD-F4755892B3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B2A4-EA1E-468E-89FF-02ED7973BB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4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Responsibilities/Participant Teacher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Extra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te of Comple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14E3-830C-4913-B4D5-8FF1C37369C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D1BA-C246-4BA3-B7DA-95EC5860BB2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090E-D734-49FA-A624-1E4A78597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520" y="-360"/>
            <a:ext cx="86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Extranet Overvi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9680" y="1033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http://teachonline.intel.com/courseupdates and log 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he Essentials Course v 10.1 Overvie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MT Resources ta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navigation to find Intel® Teach Program Extranet instruc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pdate your personal information and passwo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left-channel navigation and online help feat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ppropriate, setup your first class and order your training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closing class at the end of the course (Module 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B19F-5509-42EC-B8F7-83E4E67648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85904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41960" y="171360"/>
            <a:ext cx="2576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For Particip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Teachers On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339E-E544-4A53-BA42-E871602EC78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2120" t="18945" r="23733" b="20510"/>
          <a:stretch/>
        </p:blipFill>
        <p:spPr>
          <a:xfrm>
            <a:off x="1039680" y="2500200"/>
            <a:ext cx="42944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9680" y="24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nts log in at the PT Log-in Web Page to complete their evalu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www.intel.com/education/teachfuture/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4024440"/>
            <a:ext cx="1933560" cy="609480"/>
          </a:xfrm>
          <a:prstGeom prst="wedgeRoundRectCallout">
            <a:avLst>
              <a:gd name="adj1" fmla="val -188425"/>
              <a:gd name="adj2" fmla="val 14739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Class ID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458040" y="4776840"/>
            <a:ext cx="1847880" cy="609480"/>
          </a:xfrm>
          <a:prstGeom prst="wedgeRoundRectCallout">
            <a:avLst>
              <a:gd name="adj1" fmla="val -192527"/>
              <a:gd name="adj2" fmla="val 8020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your MT User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BF09-FCBD-446A-9C28-21E8CF0F82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F820-8CD7-4BC3-86F9-B49B884C7D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s will view an introduction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 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PTs to respond to all questions by selecting the appropriate radio butt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ite PTs to include comments at the end of the surve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ertain that all PTs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NIS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o close out of the survey Web p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valuation will take approximately fifteen minutes to comple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will have access to evaluation results once you close the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AA40-CAAA-4CFD-87DB-9C28ADAF4D4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F605-7C0B-4935-B6D9-B9D543DE4BC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23C4-D502-4112-B2DE-96D4529AC9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4CDA-5A52-4D3F-AA30-4A2CBFDD09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A620-0077-4247-BA95-91AFB502FBF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A9E7-32EA-4D20-8F63-DEA24DDBF7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4200" y="275076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D3D3-F760-4E92-BA00-DDA6CD06A2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01480" indent="-5014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DFF3-3FE3-4179-AF04-A67B86C058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1086-8497-4311-9D27-CA0AA16C8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49F5-915C-4AF7-9193-4171E59274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C6A9-E0F4-4C3F-93F1-54F7594BD1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12920" y="3822840"/>
            <a:ext cx="78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A37D-5105-41ED-A2BE-523AB109D1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3:26:14Z</dcterms:modified>
  <cp:revision>90</cp:revision>
  <dc:subject/>
  <dc:title>Presentation Title Goes Here</dc:title>
</cp:coreProperties>
</file>