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3CDF-DB97-49F0-B929-A14E7B827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your class ID number and your MT User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89E5-E347-4792-9419-35B5ABA82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64FE-0285-4BD8-88F9-ABA865F31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81D6-72F9-4C42-B538-711D5108D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A0AE-BA9C-4D0A-8C72-903C8B025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48E6-6D24-4BC4-A0F7-C2F198C52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EBD2-F460-4E09-9FA4-9F034AE7F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4CC7-107C-4E67-A32C-F656033CE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DDE5-01C4-4EB1-9832-F1A6E9AFB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8072-22C3-4FD4-8EE8-212CC6839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1195-DD66-408C-A7B9-92CB04899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24D1-4A36-4AF3-A91E-73FF08FFC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A0AB-9218-4023-B342-F55B23D45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1994-122C-48D5-9BAC-8DB2634C7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698C-4E8E-45E8-9290-1A0C75D2AA54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87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tel.com/education/teachfuture/eva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eachonline.intel.com/courseupdat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y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BDDA-29A1-4210-B87A-8D02FC9738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12920" y="3822840"/>
            <a:ext cx="78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A59F-4235-4C16-ACCE-B15F8705FB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363600" y="327168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BF04-4FF3-4E0B-8F54-D40652D420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360" y="86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E069-A7D2-44E0-8AA5-FA98A57476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876240"/>
          <a:ext cx="8534160" cy="307188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2200" y="3944880"/>
            <a:ext cx="8516880" cy="192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7397-239D-4094-AFBA-D6E8CB1869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8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8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8 Checklist in MT Appendix C.2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06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4A5B-7ABF-496A-A7A7-5E9AE68F4B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Completing Your Portfolio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01)</a:t>
            </a:r>
            <a:br>
              <a:rPr sz="13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0792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Unit Plan Checklist and  Review your notes from to complete unfinished components and make final revisions to your Unit Portfolio in preparation for the Portfolio Showc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453E-9D4B-4629-B3F6-8D225384FA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Showcasing Student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2 – 8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2040" y="2106360"/>
            <a:ext cx="82296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ideas for showcasing student wor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of the showcasing ideas could you most easily incorporate into your own classroom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ould you need to do to prepare your students for an effective showcas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ould you support students in providing constructive feedback to their peer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trategies could you use to ensure students use the feedback from their peers as well as their own self-assessments to improve their work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F8AA-3FA7-4E46-B64D-1910282E51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reparing for the Portfolio Showca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3 – 8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4200" y="1817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wiki site.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[Insert 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your wiki showcase p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be how you addressed the traits from the Portfolio Rubri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load portfolio components to your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of your 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ther a student support or facilitation resour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y other docum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how you want to receive feedbac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C299-6EBD-4BB3-BEA4-7FF4E7F4D7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y 4 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nt Car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Responsibilities/Participant Teacher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Extra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te of Comple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8D17-D52C-46A0-BB36-5B462B29954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EEE9-6AF5-4EE4-8191-E5164D1584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Showcas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6 – 8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252252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guidelines for providing feedbac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among options for providing feedbac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wiki’s commenting fe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a subpage in the presenter's wi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ype your feedback into the Showcase Feedback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the link in the presenter's wiki to the blog site and provide feedback in a response to the blo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out a printed Showcase Feedback Form by hand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80960" y="1535040"/>
            <a:ext cx="80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is showcase is to share your final products with your colleagues, to see what they have created, and receive feedback on you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1AB7-6C60-49B9-8E6E-1E48400219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520" y="-360"/>
            <a:ext cx="865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Extranet Overview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9680" y="1033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http://teachonline.intel.com/courseupdates and log 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the Essentials Course v 10.1 Overvie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MT Resources ta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navigation to find Intel® Teach Program Extranet instruc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pdate your personal information and passwo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e left-channel navigation and online help feat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ppropriate, setup your first class and order your training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closing class at the end of the course (Module 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5B46-F9D8-4824-858E-E02CE6C2C6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Evaluating the Cour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859040"/>
            <a:ext cx="8237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online course evaluation at: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Class ID number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ID NUMBER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aster Teacher’s User ID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USER ID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258920" indent="0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41960" y="171360"/>
            <a:ext cx="25765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For Particip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Teachers On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B323-DBAD-4A7E-8F3A-433EEA6146D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22120" t="18945" r="23733" b="20510"/>
          <a:stretch/>
        </p:blipFill>
        <p:spPr>
          <a:xfrm>
            <a:off x="1039680" y="2500200"/>
            <a:ext cx="429444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9680" y="24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3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cipants log in at the PT Log-in Web Page to complete their evalu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2"/>
              </a:rPr>
              <a:t>www.intel.com/education/teachfuture/ev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4024440"/>
            <a:ext cx="1933560" cy="609480"/>
          </a:xfrm>
          <a:prstGeom prst="wedgeRoundRectCallout">
            <a:avLst>
              <a:gd name="adj1" fmla="val -188425"/>
              <a:gd name="adj2" fmla="val 14739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Class ID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458040" y="4776840"/>
            <a:ext cx="1847880" cy="609480"/>
          </a:xfrm>
          <a:prstGeom prst="wedgeRoundRectCallout">
            <a:avLst>
              <a:gd name="adj1" fmla="val -192527"/>
              <a:gd name="adj2" fmla="val 8020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your MT User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BFF9-2A0B-46C5-A590-A067069089E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2A79-C9CF-48C6-A4B1-02921A3B364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nts will view an introduction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 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k PTs to respond to all questions by selecting the appropriate radio butt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ite PTs to include comments at the end of the surve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certain that all PTs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NIS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o close out of the survey Web pag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valuation will take approximately fifteen minutes to comple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will have access to evaluation results once you close the cla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8386-1746-46CA-9743-1DFAC79A4DC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55D9-3F45-47E1-A80D-B7137491E33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3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800" y="211140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nts like a showcase allow the greater community to provide input for your students and to celebrate your students’ achievem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53960" y="3537000"/>
            <a:ext cx="811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7720" y="1992240"/>
            <a:ext cx="8393400" cy="3576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FA03-6AA0-4AFF-B745-08D1128A1ED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4200" y="59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flecting on the Cour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1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" y="17920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your personal blog, create an entry entitl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Reflection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copy and paste the following prompt into your entry, and write your respons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Of everything you learned, what do you think will have the biggest impact on student learn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2.  Read all of your colleagues’ responses and start a conversation with any that interest you in their personal blog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80960" y="41482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4489560"/>
            <a:ext cx="79930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er your files to a permanent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directed by your facilitator, remove all files that you developed during the course from the compu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move all CDs and disks from your compu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87C6-708E-4919-803A-14C8C9D915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0200" y="6714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 (page 8.12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760" y="2242800"/>
            <a:ext cx="83073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gratulations on successfully complet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each Essentials Cours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Certificate of Completion is provided to acknowledge your effo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9EB5-D069-4FE5-AA8A-26D8BCD14EC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8E2D-FB80-43A1-B6CD-795A6B255D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34720"/>
            <a:ext cx="82296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ponsibiliti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13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resources in the Master Teacher Appendix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Responsibilities and Checkli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Milestones - MT Appendix C.0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Preparation Checklists – Starting on MT Appendix C.1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Guide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Participant Teachers - MT Appendix C.06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uidelines for Training Participant Teachers - MT Appendix C.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My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Appendix C.10; also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in M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110A-9530-4757-9794-C0AB5DB4736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07B2-1123-42C2-B5B8-0D90263C1C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ourc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4840" y="104724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Master Teacher resources on the Essentials Course v 10.1 Overview at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http://teachonline.intel.com/courseupdat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000080" y="1811160"/>
            <a:ext cx="69357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e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et Tools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-to-One Computing Emph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dagogical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Module  Check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Pres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and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B313-7D66-44BC-A835-4C9ECF00B18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4200" y="275076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E5C5-4BF6-4D85-8D4B-F2B8AB4F37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01480" indent="-5014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8CFA-B0FB-4B98-938E-6FA65CD4DC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2760" y="25750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66560" y="3305160"/>
            <a:ext cx="8145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1650-7B45-4554-B20D-E4D7DFE09D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D0F3-C49A-4A1B-A403-3F9FCA55A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5T15:18:46Z</dcterms:modified>
  <cp:revision>91</cp:revision>
  <dc:subject/>
  <dc:title>Presentation Title Goes Here</dc:title>
</cp:coreProperties>
</file>