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F0AF-9DEF-41DE-B5CE-4F7C7FFDC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 subject/grade similar groups for Pair and Share to remain constant throughout cour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wiki or other resource to collect presentations on one computer for Pair and Sh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a wiki or other resource to record ideas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`````````````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1761-04E6-4397-B128-1D83115FC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9A9-630E-4451-AD67-7BE6FA3AC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hoose to use a wiki to record the ideas of your Participant Teachers, set up the starting page of the wiki and add the URL to this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2123-206E-4C7C-B20A-5676A9E9E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C0FC-B2C8-473B-BF11-1D791EE79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1907-4218-48DE-B59D-A38BD27C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ect index cards at the end of the training; discuss them the next morning, where appropri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47D6-56F5-4CE1-B76E-A23A0A777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DAD9-2C63-4E55-8A2A-BBB20EAEB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100F-D562-43F1-ABFF-C724CCFF8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4F9B-DF55-4604-A8E8-40F8D7276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E763-4B4E-492C-989F-1423777A3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07FC-D38A-40DB-B0DE-D7CE3F261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A844-FAA4-4C13-824E-F7F303F9C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5638-B4D1-4A2C-8FDF-3AA564CBC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1278-C4D0-4D7F-8FF9-2716F8EC1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68E0-8425-4EE0-8E27-C83F9D512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9C5A-9E2E-4821-9E28-F5DA05B8C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D694-489D-4227-A416-E9728E45A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FEF6-06BD-407D-AC4F-47F016EA8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AFD1-4C73-4571-96F1-0D749847EC71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y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028520"/>
            <a:ext cx="82375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 Creating Samples of Learn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project outcomes (presentation, publication, wiki, blo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D7BC-3FCE-44A4-9FE2-C74416AEDF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3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3 present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3 Checklist in MT Appendix C.2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C90B-BFAA-4E77-8A92-1C146F3B91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Present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01 – 3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23800" y="1887480"/>
            <a:ext cx="80265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what kind of feedback you would like to receive from your colleag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Unit Portfolio Presentation with the embedded assess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feedback to your colleagues about their presentations and assess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your colleagues’ suggestions if you wis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B297-1C2C-4006-ABA0-9712C076A5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Meeting Standards in a Student-Centered Classro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22360" y="2324160"/>
            <a:ext cx="822960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question assigned to your group by the facilitator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I ensure that students meet standards in open-ended activities and projec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students are in charge of their own learning, how will we be sure they learn what is importa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I ensure accountability when students are working in group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one person to record your thoughts in the wik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7760-4DD4-46A2-852D-6039C104C7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Targeting 21st Century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11200" y="1859040"/>
            <a:ext cx="788040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learning obj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n your unit do students need to conduct research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your unit, when could students' learning be enhanced by communicating with other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n your unit would collaboration be benefici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ensure students are using problem solving strategies throughout your unit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how you could incorporate the Internet in your unit to help students do research, communicate, and collabor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BB1E-3E67-4FE3-868D-FE40D556C89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Modeling and Teaching Legal and Ethical Practice Related to Technology Us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Exploring Copyrigh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5)</a:t>
            </a:r>
            <a:br>
              <a:rPr sz="3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5520" y="2787480"/>
            <a:ext cx="8237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the copyright quiz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“Copyright Chaos”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how copyright law and fair use guidelines will impact your classroom (optional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65120" y="4340160"/>
            <a:ext cx="80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iting Sourc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4865760"/>
            <a:ext cx="821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Works Cited resources, examples, and templ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Works Cited document and save to your unit_support folder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0E45-832A-46BE-8F7F-CF4FD11AB1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2428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sing Search Eng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rrow your sear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keywords to find information for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g or bookmark sites you might like to u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1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Using the Internet for Research</a:t>
            </a:r>
            <a:br>
              <a:rPr sz="3200"/>
            </a:br>
            <a:br>
              <a:rPr sz="1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Locating Internet Resourc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07 – 3.08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79520" y="4151160"/>
            <a:ext cx="8272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are researching an unusual subject or you want to make sure your sites are age-appropriate, you may want to use a specialized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39AB-1F8A-40AE-9764-4CA77166E81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7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Using the Internet for Research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Finding Media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8)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90680" y="2281320"/>
            <a:ext cx="80359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cate one or more good multimedia research resources for your un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images, sounds, or videos, if appropriate, for your un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95360" y="3757680"/>
            <a:ext cx="7561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Evaluating the Web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Web site evaluation forms for teachers and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3F0F-8E24-4500-B728-6F46FEFF183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Communicating with the World through the Internet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Internet Communication Tools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576520"/>
            <a:ext cx="84186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onsidering Communication Too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1 –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e a communication tool in more dep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84200" y="3749760"/>
            <a:ext cx="7867800" cy="18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mai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nt Messaging (IM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rvey/Poll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oice Over Internet Protocol (VoIP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3.1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0EB4-CBC4-45BB-AD0C-8632954487A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sidering Web-based Collaborative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4 – 3.17)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930320"/>
            <a:ext cx="82375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benefits and drawbacks of blogs, wikis, and online collaborative editing Web sit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online collaborative spreadshee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d the system-generated e-mail inviting you to collaborate on the document titled Using_Web 2.0_Tool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in to the site with your e-mail and passwor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how you could use one communication tool and one collaboration tool in your classroom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CC65-4FF7-447B-B9D6-CE73CB0BDA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25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y 2 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nt Car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2: Planning My Unit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4: Creating Samples of Learning (par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Self-Refl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FF92-540B-4BCE-A68A-9D1BE40CB1A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000" y="80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8 and 3.20)</a:t>
            </a:r>
            <a:br>
              <a:rPr sz="22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276120" y="2324160"/>
            <a:ext cx="8621640" cy="3200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Internet can be a powerful tool for research, collaboration, and communic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guidelines describe the ways in which copyrighted materials may be used legall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orks Cited documents can be created in a variety of formats for students of all ag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skilled use of search strategies enables students and teachers to find useful information efficiently on the Web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 variety of factors must be considered when determining the credibility and value of a Web sit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-mail, online chats, instant messaging, and Voice Over IP technology allow students to communicate with people all over the world through the Internet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logs, wikis, and online collaborative documents allow students to collaborate on proje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B8B7-855A-4513-9519-EA5275AB8B5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 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8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284796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copy and paste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module has helped me think about the impact of the Internet on my students’ learning in the following ways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B3D4-70CD-4F21-8E01-C03A7E7F6F6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corporating the Intern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80504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notes for integrating the Internet into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lect one or more Internet tools and briefly describe ways you will use them to support the learning goals of your uni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FC67-A404-4B10-B8C1-1732543BB76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14440" y="1271520"/>
          <a:ext cx="8272440" cy="2840040"/>
        </p:xfrm>
        <a:graphic>
          <a:graphicData uri="http://schemas.openxmlformats.org/drawingml/2006/table">
            <a:tbl>
              <a:tblPr/>
              <a:tblGrid>
                <a:gridCol w="2685960"/>
                <a:gridCol w="55864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4: Creating Samples of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ject outcomes from a student 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y strategies to ensure safe and responsible Internet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ample student publication, presentation, wiki, or blog to demonstrate student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Instructional Procedur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student 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507960" y="4114800"/>
            <a:ext cx="8272440" cy="141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CDBD-3B40-4809-AAF6-72E10E14CAE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760" y="127152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678D-2312-4C5D-9F9B-04657E47DE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8480" y="1843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23800" y="1092240"/>
          <a:ext cx="8272440" cy="2666880"/>
        </p:xfrm>
        <a:graphic>
          <a:graphicData uri="http://schemas.openxmlformats.org/drawingml/2006/table">
            <a:tbl>
              <a:tblPr/>
              <a:tblGrid>
                <a:gridCol w="2685960"/>
                <a:gridCol w="55864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4: Creating Samples of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ject outcomes from a student perspe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y strategies to ensure safe and responsible Internet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ample student publication, presentation, wiki, or blog to demonstrate student lear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Instructional Procedu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36400" y="3782880"/>
            <a:ext cx="8274240" cy="2040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8794-4C84-46E8-ADD0-96C4A9D0E01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21428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A6D6-3E85-4E00-97B5-F3E9D68E46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4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4 present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3 Checklist in MT Appendix C.2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6AB3-5D5D-4A7B-8EC8-07E0809A99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Incorporating the Internet into Uni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0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495360" y="1828800"/>
            <a:ext cx="78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llow the instructions to use a wiki to share your ideas on how you plan to incorporate the use of the Internet in your un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23800" y="3346560"/>
            <a:ext cx="801072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your unit abou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your Curriculum-Framing Ques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you incorporate the use of the Internet in your unit for research, collaboration, and communic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the use of the Internet help students develop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and higher-order thinking skil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feedback or additional ideas are you looking for during this ti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BA68-7E45-4D79-B436-5FA8A4FA9AD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7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2: Planning My Unit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2.25 and 2.31)</a:t>
            </a:r>
            <a:br>
              <a:rPr sz="22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9200" y="2193840"/>
            <a:ext cx="8307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ey Poin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urriculum-Framing Questions:  An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Essential Question, Unit Questions, and Content Ques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42800" y="2857680"/>
            <a:ext cx="814392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sessments for project-based units should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 embedded throughout the learning cycl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sess the important objectives of the uni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gage students in assessment process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 a variety of assessment strategies that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auge student need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courage self-direction and collabora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nitor progres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eck for understanding and encourage metacogni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e understanding and sk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69800" y="5079960"/>
            <a:ext cx="777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Curriculum-Framing Questions help support my students' learning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plan ongoing student-centered assessmen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93840" y="2158920"/>
            <a:ext cx="8216640" cy="36705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B960-71AD-4CC5-BD84-D7DBFE2C649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5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Helping Students Adapt to a Project-Based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82760" y="230976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rm groups to discuss how can we help all students successfully complete project tasks with the ability to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95360" y="3408480"/>
            <a:ext cx="754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manageable go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nage timelines and adjust as necessa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te and investigate questions about their 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productively with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 and plan for improv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E688-A4F1-4792-9E01-E8D7FDFA5B9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Examining Student Samp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3 – 4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95360" y="1658880"/>
            <a:ext cx="782316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a student sample presentation, newsletter/newspaper, poster, wiki, or blo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the associated Unit Plan and view the Curriculum-Framing Questions, the targeted standards, and learning objec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 how the activities in the classroom support the creation of the student produc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the student sample and assessment and discuss these questions with a partn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15920" y="4368960"/>
            <a:ext cx="7925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Considering the learning objectives and assessment, how does the student sample effectively demonstrate student learning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hat 21st century skills does the student sample demonstrate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How does the student sample help to answer the Curriculum-Framing Question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How does the chosen technology tool enable students to enhance their learning, increase productivity, and promote creativity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B951-16C0-4D34-962D-0BA4CD3DB9D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7999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Project Desig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09760" y="239544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nk about how a project-approach to learning can help your students meet your learning goa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25600" y="3279600"/>
            <a:ext cx="769140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real-world connections are possible for your uni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cenarios might help your students make those real-world connec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roles might your students 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9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tasks might they complete as they carry out those roles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B85C-FE28-4BB4-9B28-B165512EBF2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onnecting My Student Sample to Questions, Objectives and 21st Century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6 – 4.07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80960" y="2908440"/>
            <a:ext cx="772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how a project-approach to learning can help your students meet your learning goa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946080" y="3720960"/>
            <a:ext cx="75042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eal-world connections are possible for your unit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scenarios might help your students make those real-world connection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oles might your students pl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tasks might they complete as they carry out those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50800" y="5284800"/>
            <a:ext cx="7620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  Consider ways to use math to improve your students’ thinking skil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D3D0-A615-46FF-8869-D228615DEB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8856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hoosing the Best Tool for the Job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7 – 4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1600" y="2558880"/>
            <a:ext cx="82296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possibl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ideas for your student s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438120" y="3062160"/>
            <a:ext cx="738828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sletter, newspaper, or broch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o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4294-343A-4836-91B1-86124CFF60C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6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4: Planning the Cont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1360" y="249048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ections on Technology Integration and Instructional Design in the Portfolio Rubr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checklist and storyboard templates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tudent S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or print any planning documents you would like to use in your student sam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BCE5-13A6-4646-9B3E-F18BB90C3A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Looking at Learning from a Student Perspectiv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student sample using one of these op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presentat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1 –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publication (newsletter, newspaper, brochure, or poster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wiki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blo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3 – 4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5899-12F4-4520-AC8D-CBC56F00E2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Revisiting My Unit Pla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8760" y="1666800"/>
            <a:ext cx="82296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Instructional Procedures section of the Unit Plan Checkli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your Instructional Procedu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necessary, revise your standards and objectiv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C620-3664-4BCE-A3D7-C52FA3E8EE9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3080" y="88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700"/>
            </a:br>
            <a:br>
              <a:rPr sz="1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Reflecting on My Learning</a:t>
            </a:r>
            <a:br>
              <a:rPr sz="1400"/>
            </a:b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5 and 4.18)</a:t>
            </a:r>
            <a:br>
              <a:rPr sz="2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406440" y="2386080"/>
            <a:ext cx="8157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lanning and developing a student product requir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swering the unit's Curriculum-Framing Question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ing understanding of concepts, skills, and knowled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ing higher-order and 2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eating real-world connections for student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ing technology appropriately and eff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66840" y="4143240"/>
            <a:ext cx="740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decision to use a particular technology should be based on its strengths in supporting the desired content and learning objectiv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" y="4694400"/>
            <a:ext cx="7967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unit expectations and improve my instructional desig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18960" y="2351160"/>
            <a:ext cx="7983720" cy="3584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9102-1857-4ECF-B96E-B48EBFB1F21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br>
              <a:rPr sz="16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5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49280" y="246204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copy and paste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EA0C-64C1-4D74-B040-4E29BF34D43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2: Planning My Unit 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2.25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49280" y="284796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paste in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This module has helped me think about using standards, CFQs or formative assessment in the following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CAC6-967F-40DA-B2DB-DBD95902395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Reflecting on My Student Sa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8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905120"/>
            <a:ext cx="830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preparation for the Pair and Share in Module 5, use the Portfolio Rubric to assess how the student sample you created in the module meets your design goal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6800" indent="-457200">
              <a:spcAft>
                <a:spcPts val="499"/>
              </a:spcAft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6800" indent="-457200">
              <a:spcAft>
                <a:spcPts val="499"/>
              </a:spcAft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what feedback you would like from your colleagues to help you improve your student sam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3121-4600-4841-8BD9-EF233187874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8680" y="39168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19040" y="1252440"/>
          <a:ext cx="8245440" cy="3009960"/>
        </p:xfrm>
        <a:graphic>
          <a:graphicData uri="http://schemas.openxmlformats.org/drawingml/2006/table">
            <a:tbl>
              <a:tblPr/>
              <a:tblGrid>
                <a:gridCol w="2428920"/>
                <a:gridCol w="58165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5: Assessing Student Proj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tive and summativ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tain feedback to improve your student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challenges and solutions for involving students in the assessment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current assessment pract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Assessment Summa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ummative assessment for your student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student sample based on your summative 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420840" y="4268880"/>
            <a:ext cx="8242200" cy="1094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I assess student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F6DB-527C-44EC-ADE4-884547BAB94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ke-Home Assignment for Master Teacher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Master Teacher Self-Reflec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Print version is available in Master Teacher Appendix C.0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lectronic version is located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rain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in S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4CE5-E39E-41E1-AB54-D16299DAB80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5520" y="42660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ment Card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06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comment cards to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itive Com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comfort level with the course so f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2F25-CE10-46E0-A00C-55BBBF32F14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8CD9-8F11-4A9C-B4F3-FA5A9362416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2: Planning My Unit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 Activity 1: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Broadening My Understanding of Essential Questions</a:t>
            </a:r>
            <a:br>
              <a:rPr sz="16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reating Project Ideas for an Essential Quest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2.26 – 2.28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4120" y="3211560"/>
            <a:ext cx="830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new project ideas for a single Essential Ques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other units that could connect to your existing Essential Ques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vising My CFQs (optional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2.2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E7D2-97DF-41A7-9187-314F856510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9720" y="27576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2280" y="1771560"/>
          <a:ext cx="8386920" cy="2386080"/>
        </p:xfrm>
        <a:graphic>
          <a:graphicData uri="http://schemas.openxmlformats.org/drawingml/2006/table">
            <a:tbl>
              <a:tblPr/>
              <a:tblGrid>
                <a:gridCol w="2556000"/>
                <a:gridCol w="5830920"/>
              </a:tblGrid>
              <a:tr h="23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he Internet to supp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ing and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e ideas for meeting standards with projec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ew copyright laws and fair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Works Cited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grate the use of Internet resources into unit to support research, communication, collaboration, problem solving, and/or other 21st century skil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se online collaborative Web site to share unit id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07880" y="1181160"/>
          <a:ext cx="8382240" cy="560160"/>
        </p:xfrm>
        <a:graphic>
          <a:graphicData uri="http://schemas.openxmlformats.org/drawingml/2006/table">
            <a:tbl>
              <a:tblPr/>
              <a:tblGrid>
                <a:gridCol w="8382240"/>
              </a:tblGrid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3: Making Conne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50720" y="4348080"/>
            <a:ext cx="8383680" cy="128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3F6F-7181-464F-8143-DC9CD3AC4B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27152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658A-9985-4661-AB75-4F24CA5C42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7720" y="1724040"/>
          <a:ext cx="8386920" cy="2386080"/>
        </p:xfrm>
        <a:graphic>
          <a:graphicData uri="http://schemas.openxmlformats.org/drawingml/2006/table">
            <a:tbl>
              <a:tblPr/>
              <a:tblGrid>
                <a:gridCol w="2889360"/>
                <a:gridCol w="5497560"/>
              </a:tblGrid>
              <a:tr h="23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he Internet to supp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ing and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e ideas for meeting standards with projec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ew copyright laws and fair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Works Cited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grate the use of Internet resources into unit to support research, communication, collaboration, problem solving, and/or other 21st century skil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se online collaborative Web site to share unit id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9520" y="1147680"/>
          <a:ext cx="8381880" cy="56052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3: Making Conne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500040" y="4110120"/>
            <a:ext cx="8383680" cy="128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4AF3-3FE7-41A2-9774-D954F29A401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6-09T17:50:54Z</dcterms:modified>
  <cp:revision>94</cp:revision>
  <dc:subject/>
  <dc:title>Presentation Title Goes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Exploration</vt:lpwstr>
  </property>
</Properties>
</file>