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2EA9-89E7-4B1A-9A7A-E8D2E1113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9133-AE92-4F44-B3C5-BDEE9A010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 your class ID number and your MT User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8A1F2-9772-4AAF-BB3D-BFF4321C3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01A1-C023-4319-BCC1-DAF4B5BEF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63155-D9E7-4F96-AC11-85A825E79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A4902-3C5C-4948-82A9-DC7C995ADC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3837-BCB5-4B70-9375-2C750FDB3C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CE743-9F96-4D8A-9CC8-40238C75EA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0E13B-E538-4B7F-99B1-251FDDA08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E3F74-0973-438D-BCB3-0383A4892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17E3F-1169-4550-BC6B-C513D2F74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22E04-B0CA-4BDA-993E-2A355B330A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D16A9-8C7E-4CA6-BFB1-3948A5A835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C44F9-4C47-413A-89D1-89063A5E6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7E9C-DE52-4788-8BAA-B01EB4BB5F49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87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eachonline.intel.com/courseupdate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teachfuture/eval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intel.com/education/teachfuture/eval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057400" y="5448240"/>
            <a:ext cx="64008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ay 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57120" y="1203480"/>
          <a:ext cx="8229600" cy="2041200"/>
        </p:xfrm>
        <a:graphic>
          <a:graphicData uri="http://schemas.openxmlformats.org/drawingml/2006/table">
            <a:tbl>
              <a:tblPr/>
              <a:tblGrid>
                <a:gridCol w="2424240"/>
                <a:gridCol w="5805360"/>
              </a:tblGrid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Module 8: Showcasing Unit Portfol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2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haring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epare for showcasing your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Give and receive feedback on Unit Portfol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te the Essentials Co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63600" y="3271680"/>
            <a:ext cx="8229600" cy="18010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prepare for and facilitate an effective showcas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provide constructive feedback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326880" y="3412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oking Ahe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EE245-54A5-4B47-B634-53C9823851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34720"/>
            <a:ext cx="8229600" cy="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ster Teacher Responsibiliti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9040" y="1131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resources in the Master Teacher Appendix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T Responsibilities and Checklis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ster Teacher Milestones - MT Appendix C.0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Preparation Checklists – Starting on MT Appendix C.11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Guidelin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ruiting Participant Teachers - MT Appendix C.06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uidelines for Training Participant Teachers - MT Appendix C.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Planning My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T Appendix C.10; also available in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PT Form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lder in MT Resour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2F1C-85B2-4E4E-A0B5-D02644C7158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F0BEE-767A-4717-9285-D4A66DDAED7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ster Teacher Resourc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4840" y="1047240"/>
            <a:ext cx="82296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Master Teacher resources on the Essentials Course v 10.1 Overview at 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Verdana"/>
                <a:hlinkClick r:id="rId1"/>
              </a:rPr>
              <a:t>http://teachonline.intel.com/courseupdate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1000080" y="1811160"/>
            <a:ext cx="693576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gen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cilitating Discus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rnet Tools 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T Trai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ne-to-One Computing Emph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dagogical Pract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T For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T Module  Checkli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T Presen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ruiting and Trai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mpl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F2BD3-34D2-41C4-8BE7-B69199CFBB7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89080"/>
            <a:ext cx="822960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1360" y="86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1: Teaching with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-based learning and unit desig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2: Planning My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urriculum-Framing Questions and ongoing student-centered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3: Making Connection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he Internet to support teaching and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4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reating Sample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 outcomes from a student persp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5: Assessing Student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Formative and Summative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6: Planning for Student Succ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7: Facilitating with Technolog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eacher as Facilita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7D1C9-BC3B-4AD3-88EC-4B95882738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4920" y="876240"/>
          <a:ext cx="8534160" cy="3071880"/>
        </p:xfrm>
        <a:graphic>
          <a:graphicData uri="http://schemas.openxmlformats.org/drawingml/2006/table">
            <a:tbl>
              <a:tblPr/>
              <a:tblGrid>
                <a:gridCol w="2514600"/>
                <a:gridCol w="601956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8: Showcasing Unit Portfol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1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haring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tcome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epare for showcasing your 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Give and receive feedback on Unit Portfol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te the Essentials Cou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322200" y="3944880"/>
            <a:ext cx="8516880" cy="1923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epare for and facilitate an effective showc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ovide constructive feedbac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B5872-2693-45D4-B8AA-A450784F2D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view MT Resources for Module 8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90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iefly view the Module 8 presentatio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the Module 8 Checklist in MT Appendix C.26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06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B4C2F-3CD4-4FE0-9FE5-F5034D583F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20480"/>
            <a:ext cx="8229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Completing Your Portfolio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01)</a:t>
            </a:r>
            <a:br>
              <a:rPr sz="13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07920"/>
            <a:ext cx="82296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your Unit Plan Checklist and  Review your notes from to complete unfinished components and make final revisions to your Unit Portfolio in preparation for the Portfolio Showcas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05080-793E-4385-9B90-F6A036CA9D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55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a Showca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Showcasing Student Project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8.02 – 8.03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2040" y="2106360"/>
            <a:ext cx="822960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ideas for showcasing student work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ch of the showcasing ideas could you most easily incorporate into your own classroom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would you need to do to prepare your students for an effective showcase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ould you support students in providing constructive feedback to their peers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strategies could you use to ensure students use the feedback from their peers as well as their own self-assessments to improve their work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C357-81F8-41DA-B6C1-7FB5AB44DD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8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a Showcase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Preparing for the Portfolio Showcas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8.03 – 8.05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4200" y="1817280"/>
            <a:ext cx="82296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 to the wiki site. </a:t>
            </a:r>
            <a:r>
              <a:rPr b="0" lang="en-US" sz="1800" spc="-1" strike="noStrike">
                <a:solidFill>
                  <a:srgbClr val="ccecff"/>
                </a:solidFill>
                <a:latin typeface="Verdana"/>
              </a:rPr>
              <a:t>[Insert URL]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eate your wiki showcase pag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cribe how you addressed the traits from the Portfolio Rubric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structional desig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echnology integr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ssessment strategi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pload portfolio components to your wik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t Pl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ssessment of your student samp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udent samp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ither a student support or facilitation resour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y other document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plain how you want to receive feedbac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C326-3A4F-43C8-B050-BB1B332740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ay 4 Agend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ment Card Revie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7: Facilitating with Technology (Cont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ster Teacher Responsibilities/Participant Teacher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each Program Extran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valuation of the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ertificate of Comple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8153-EA87-47FC-A77D-4AC79DBB91F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3986D-1E85-4364-8A77-5AE5CD2F00A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6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: Showcasing My Unit Portfolio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8.06 – 8.07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5760" y="252252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llow guidelines for providing feedback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oose among options for providing feedback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wiki’s commenting featu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rd your thoughts on a subpage in the presenter's wik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ype your feedback into the Showcase Feedback Fo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llow the link in the presenter's wiki to the blog site and provide feedback in a response to the blog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ll out a printed Showcase Feedback Form by hand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480960" y="1535040"/>
            <a:ext cx="802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oal of this showcase is to share your final products with your colleagues, to see what they have created, and receive feedback on your wor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1A172-95AE-4448-BBF1-5E354868C7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520" y="-360"/>
            <a:ext cx="865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ster Teacher Extranet Overview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9680" y="1033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: http://teachonline.intel.com/courseupdates and log i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ter the Essentials Course v 10.1 Overview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he MT Resources ta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navigation to find Intel® Teach Program Extranet instruction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92240" indent="-4572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pdate your personal information and passwor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92240" indent="-4572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lore left-channel navigation and online help feat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92240" indent="-4572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appropriate, setup your first class and order your training material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92240" indent="-4572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closing class at the end of the course (Module 8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92240" indent="-4572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the evaluation of the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9DEFD-3DB3-4A09-BD68-9E88950BFD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5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4: Evaluating the Cours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0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760" y="1859040"/>
            <a:ext cx="8237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the online course evaluation at: 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Verdana"/>
                <a:hlinkClick r:id="rId1"/>
              </a:rPr>
              <a:t>www.intel.com/education/teachfuture/eval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ur Class ID number is: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</a:rPr>
              <a:t>[ADD ID NUMBER]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Master Teacher’s User ID is: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</a:rPr>
              <a:t>[ADD USER ID]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258920" indent="0"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141960" y="171360"/>
            <a:ext cx="257652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Arial Black"/>
              </a:rPr>
              <a:t>For Participa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Arial Black"/>
              </a:rPr>
              <a:t>Teachers On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BD5A-2621-404C-A626-8F1CE48B1CE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22120" t="18945" r="23733" b="20510"/>
          <a:stretch/>
        </p:blipFill>
        <p:spPr>
          <a:xfrm>
            <a:off x="1039680" y="2500200"/>
            <a:ext cx="4294440" cy="36007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9680" y="240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rticipant Evaluation Procedu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73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rticipants log in at the PT Log-in Web Page to complete their evaluatio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Verdana"/>
                <a:hlinkClick r:id="rId2"/>
              </a:rPr>
              <a:t>www.intel.com/education/teachfuture/ev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6443640" y="4024440"/>
            <a:ext cx="1933560" cy="609480"/>
          </a:xfrm>
          <a:prstGeom prst="wedgeRoundRectCallout">
            <a:avLst>
              <a:gd name="adj1" fmla="val -188425"/>
              <a:gd name="adj2" fmla="val 14739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Ts enter Class ID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6458040" y="4776840"/>
            <a:ext cx="1847880" cy="609480"/>
          </a:xfrm>
          <a:prstGeom prst="wedgeRoundRectCallout">
            <a:avLst>
              <a:gd name="adj1" fmla="val -192527"/>
              <a:gd name="adj2" fmla="val 8020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Ts enter your MT UserI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43EE-621D-49C4-8800-B2F242B3DAE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21D61-060B-4C8E-B99F-ED8F3393E90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rticipant Evaluation Procedu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rticipants will view an introduction and then 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egin Evaluati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k PTs to respond to all questions by selecting the appropriate radio butt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vite PTs to include comments at the end of the surve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ke certain that all PTs 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INISH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o close out of the survey Web pag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evaluation will take approximately fifteen minutes to complet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 will have access to evaluation results once you close the clas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EE14-D4BC-4F8D-A82F-8D99F7E6E4F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A407B-179F-44E6-A02B-C2745243C68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7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Concluding the Cour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viewing the Modul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3)</a:t>
            </a:r>
            <a:br>
              <a:rPr sz="20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800" y="2111400"/>
            <a:ext cx="8307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8 Key Point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vents like a showcase allow the greater community to provide input for your students and to celebrate your students’ achievement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453960" y="3537000"/>
            <a:ext cx="811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epare for and facilitate an effective showc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ovide constructive feedbac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77720" y="1992240"/>
            <a:ext cx="8393400" cy="35766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E0D69-3D69-406B-9252-7A00DD2C1B9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84200" y="59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Concluding the Cour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Reflecting on the Cours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1)</a:t>
            </a:r>
            <a:br>
              <a:rPr sz="20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1600" y="1792080"/>
            <a:ext cx="82296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 your personal blog, create an entry entitled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8 Reflection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copy and paste the following prompt into your entry, and write your respons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Of everything you learned, what do you think will have the biggest impact on student learning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2.  Read all of your colleagues’ responses and start a conversation with any that interest you in their personal blog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480960" y="414828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Wrapping U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4489560"/>
            <a:ext cx="7993080" cy="15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ransfer your files to a permanent loc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directed by your facilitator, remove all files that you developed during the course from the compute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move all CDs and disks from your compu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9505-DCF6-4181-9E0E-E7C8D2BB5F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0200" y="67140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Concluding the Cour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Wrapping Up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cont.) (page 8.12)</a:t>
            </a:r>
            <a:br>
              <a:rPr sz="24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5760" y="2242800"/>
            <a:ext cx="8307360" cy="32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gratulations on successfully complet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Inte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each Essentials Course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 Certificate of Completion is provided to acknowledge your effor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CC667-0C6F-4A19-96E8-918AC627B14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6DE76-442A-4FF1-88FB-3C5A614972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7: Facilitating with Technology (cont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8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Designing Facilitation Resource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Creating Facilitation Materia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6)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4200" y="2750760"/>
            <a:ext cx="8229600" cy="32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ideas and areas of interest and your notes from the previous step. Create a new document, presentation, or web-based resource to support the facilitation of your uni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you wish, modify existing support materials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5EB7-7FBF-45D7-A791-AECE5DC572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4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: Implementing a Successful Project 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Completing My Instructional Procedure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7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6560" y="2539800"/>
            <a:ext cx="8048880" cy="32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your Unit Plan and complete your Instructional Procedures section. Specify how you will incorporat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59320" indent="-42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mal and informal assessment throughout the instructional cyc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59320" indent="-42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1st century skills instru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59320" indent="-42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fferenti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59320" indent="-42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59320" indent="-42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sential, Unit, and Content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01480" indent="-50148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your Unit Plan Summary and the other sections of your Unit Pla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7998-8595-438C-8392-B503D1B992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80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: Implementing a Successful Project 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Planning for a Successful Project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7.08 – 7.09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2760" y="257508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small groups discuss how you could address the following topics to ensure a successful project in your classroom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66560" y="3305160"/>
            <a:ext cx="8145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municating about the Pro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iming and Trans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terials/Equipment/Technology/Outside Resources/Fac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3B8EA-74F4-4664-8154-180E7D35D5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4200" y="78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: Implementing a Successful Project 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Creating a Management Resourc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9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360" y="2598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sample management resourc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 management document for your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8D31-E842-4E77-864D-C4362EC7BF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0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: Reflecting on My Unit as a Whol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10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9800" y="19317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Review the Unit Plan Checklist to identify any missing or incomplete elements of your Unit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Unit Portfolio Checklist to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ensure you have completed all pieces for your Unit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Portfolio Rubric and highlight the descriptors that describe your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ed on your self-assessment, note any changes you would like to make to your Unit Portfolio in the Unit Plan Checklis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59BAE-E6F7-4683-9279-87E7F16883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776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ning Ahead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y 1: Revising My Unit Portfolio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11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2960" y="211140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ed on your self-assessment, revise any components of your Unit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371520" y="2925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y 2: Reflecting on Professional Developmen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7.12 – 7.1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12920" y="3822840"/>
            <a:ext cx="78832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inking about My Future Development and take notes about any resources you wish to explore in more detail in the fu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"1:1 Computing Classroom Resources" in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Resources, 1-to-1 Computing Resourc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lder on the Curriculum Resource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E85C-F2EE-4311-B5E5-D31838C477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magrantx</cp:lastModifiedBy>
  <dcterms:modified xsi:type="dcterms:W3CDTF">2008-05-16T21:38:38Z</dcterms:modified>
  <cp:revision>92</cp:revision>
  <dc:subject/>
  <dc:title>Presentation Title Goes Here</dc:title>
</cp:coreProperties>
</file>