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4BDE-4BB3-4AD3-9F57-9E01E7D39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 your class ID number and your MT User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D638-C3B7-4CB2-BA72-B21570543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9793-963D-4A2C-B1ED-DC1ECFD84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8A33-F3BB-403C-ADC3-8EA8FF4A5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6358-BF02-452E-90F2-D3385D31D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95CD-9BB5-40A4-8B03-FC2CD9E17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6E79-B311-4145-83FC-7E058AACE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A13A-7340-4A57-A834-A21D1E7B2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17F8-D800-405A-8F68-D9742281F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203E-4C92-4C5C-980A-3594BB431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291D-DCB1-4BC5-AB87-D37B7E57A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915E-43B5-44B4-80A1-5CAA0BE75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3DAE-66A5-4570-9AEE-4F782E06D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20B6-1025-4259-B3CB-CD9A8C116A4B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teachfuture/eva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200" y="59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flecting on the Cour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1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1600" y="17920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your personal blog, create an entry entitle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Reflection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copy and paste the following prompt into your entry, and write your respons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Of everything you learned, what do you think will have the biggest impact on student learn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2.  Read all of your colleagues’ responses and start a conversation with any that interest you in their personal blog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80960" y="41482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79520" y="4489560"/>
            <a:ext cx="79930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fer your files to a permanent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directed by your facilitator, remove all files that you developed during the course from the compu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move all CDs and disks from your compu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1072-8533-41E6-B835-C27285FE41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0200" y="6714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 (page 8.12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2242800"/>
            <a:ext cx="830736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gratulations on successfully complet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each Essentials Cours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Certificate of Completion is provided to acknowledge your effor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1633-3E4C-478E-A9B2-3F89613B5E8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6891-2633-433B-90DE-14EA261112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360" y="86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D1FE-77F2-4FF9-AEA7-49CE0B8992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876240"/>
          <a:ext cx="8534160" cy="307188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22200" y="3944880"/>
            <a:ext cx="8516880" cy="192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8854-E464-41C3-847E-71C7131AB1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04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Completing Your Portfolio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01)</a:t>
            </a:r>
            <a:br>
              <a:rPr sz="13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0792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Unit Plan Checklist and  Review your notes from to complete unfinished components and make final revisions to your Unit Portfolio in preparation for the Portfolio Showc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D43A-DF25-4DA7-AB75-A0EEDDB81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55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Showcasing Student Projec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2 – 8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040" y="2106360"/>
            <a:ext cx="82296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ideas for showcasing student wor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of the showcasing ideas could you most easily incorporate into your own classroom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ould you need to do to prepare your students for an effective showcas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ould you support students in providing constructive feedback to their peer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trategies could you use to ensure students use the feedback from their peers as well as their own self-assessments to improve their work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C843-61EB-4E1E-B982-BFE498535C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reparing for the Portfolio Showca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3 – 8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4200" y="1817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 the wiki site.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[Insert 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your wiki showcase pa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be how you addressed the traits from the Portfolio Rubri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strateg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pload portfolio components to your wi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of your 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ither a student support or facilitation resour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y other documen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ain how you want to receive feedbac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B5D4-81A7-4FA8-9214-5087E6BE02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Showcas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6 – 8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252252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guidelines for providing feedbac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among options for providing feedbac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wiki’s commenting fe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a subpage in the presenter's wi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ype your feedback into the Showcase Feedback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the link in the presenter's wiki to the blog site and provide feedback in a response to the blo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ll out a printed Showcase Feedback Form by hand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80960" y="1535040"/>
            <a:ext cx="80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is showcase is to share your final products with your colleagues, to see what they have created, and receive feedback on you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C16C-2094-4721-8C76-754D8CB21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Evaluating the Cour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700280"/>
            <a:ext cx="8237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online course evaluation at: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teachfuture/ev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r Class ID number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ID NUMBER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aster Teacher’s User ID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USER ID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258920" indent="0"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CC8B-E48D-4668-9CE8-B1C798F443F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3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211140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ents like a showcase allow the greater community to provide input for your students and to celebrate your students’ achievem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3960" y="3537000"/>
            <a:ext cx="811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77720" y="1992240"/>
            <a:ext cx="8393400" cy="3576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0F35-5009-4F73-81F7-A84DBB33B92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4T20:22:49Z</dcterms:modified>
  <cp:revision>79</cp:revision>
  <dc:subject/>
  <dc:title>Presentation Title Goes Here</dc:title>
</cp:coreProperties>
</file>