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936167-03EB-4346-A7BE-B739D9DD9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CEF6-7B89-4579-90A4-ED28E22E9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8440-040E-4C8A-995B-44E8D23F9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F1DB-7510-423E-8DF1-80BD090CD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ACE2-01D2-4398-9EE3-9E8013CAD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F509-0ADE-4F1F-BE70-EEF9FC26E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4D3C-9798-49E3-BF33-811C5EC50B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94B3-3E45-4962-8073-60654D8190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C74F-7C2F-4290-BC55-7225709647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79C5-90D3-4FCF-A2E6-7565E15B46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5396-347D-44D5-863A-F459E661D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287D-9288-4453-82EA-255B60A5DE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8DE0-9017-441E-9D0A-481927D0B8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965A-F2D2-4125-A4EF-5A279E98E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344A-4366-4634-B5E7-4D5EAA7CAC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A0DA-DF66-4CF1-9E70-11D1524B29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0B7E-FD76-43D2-AA03-5569F2555A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B2FA-DB76-46DD-A8A4-40B1F5EB71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A80F-D904-4EDF-B5C0-416DBD5179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4EE2-B260-4373-B303-90F6BEEC18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6949-F923-458A-AAF5-83B7C4F4F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41A6-E43C-4234-88B4-34D1E4E6C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8C47-7631-4BDC-94CD-992583C54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2F64-5EB8-40E9-88B9-77DE32516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5E24-3E90-4F04-ACEF-445D5BD2E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735-C37A-4AB6-A4AA-B84BE5F5AB97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96BA-8A50-4007-9621-F979C2E4AE9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25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Finding Media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8)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90680" y="2281320"/>
            <a:ext cx="80359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cate one or more good multimedia research resources for your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images, sounds, or videos, if appropriate, for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3757680"/>
            <a:ext cx="7561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Evaluating the We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Web site evaluation forms for teachers and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9804-B4E7-4F52-AF6F-ACC0DFCDFB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Communicating with the World through the Internet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Internet Communication Tool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576520"/>
            <a:ext cx="8418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sidering Communication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1 –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e a communication tool in more dep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84200" y="3749760"/>
            <a:ext cx="786780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nt Messaging (IM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rvey/Poll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oice Over Internet Protocol (VoIP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E5A6-3F9E-4FF7-B4D9-1A93EBEEA3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sidering Web-based Collaborative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4 – 3.17)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930320"/>
            <a:ext cx="823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and drawbacks of blogs, wikis, and online collaborative editing Web si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online collaborative spreadshe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the system-generated e-mail inviting you to collaborate on the document titled Using_Web 2.0_Tool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in to the site with your e-mail and passwo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how you could use one communication tool and one collaboration tool in your classroom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DD6D-1981-4C58-986F-F6A4B79A80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" y="80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8 and 3.20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76120" y="2324160"/>
            <a:ext cx="8621640" cy="320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Internet can be a powerful tool for research, collaboration, and communi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guidelines describe the ways in which copyrighted materials may be used legall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s Cited documents can be created in a variety of formats for students of all ag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killed use of search strategies enables students and teachers to find useful information efficiently on the Web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variety of factors must be considered when determining the credibility and value of a Web sit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-mail, online chats, instant messaging, and Voice Over IP technology allow students to communicate with people all over the world through the Internet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to collaborate on proje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4FF7-78BC-4AEB-8C55-8A21733AE6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module has helped me think about the impact of the Internet on my students’ learning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B3C3-AE1C-4CF0-A8FE-5051A27CFD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corporating the Inter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80504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notes for integrating the Internet into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one or more Internet tools and briefly describe ways you will use them to support the learning goals of your uni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3AE0-9E44-4BDF-841E-516A6841DC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440" y="1271520"/>
          <a:ext cx="8272440" cy="284004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7960" y="4114800"/>
            <a:ext cx="8272440" cy="141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3906-E530-4821-88E1-C3AC2E3C9B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525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7B7E-94D5-4ACC-A63A-0E6F6A2879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12860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B091-4031-4B4A-9A64-B24157D92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77720" y="1724040"/>
          <a:ext cx="8386920" cy="2386080"/>
        </p:xfrm>
        <a:graphic>
          <a:graphicData uri="http://schemas.openxmlformats.org/drawingml/2006/table">
            <a:tbl>
              <a:tblPr/>
              <a:tblGrid>
                <a:gridCol w="2889360"/>
                <a:gridCol w="549756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9520" y="1147680"/>
          <a:ext cx="8381880" cy="560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00040" y="411012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CB6B-78A4-457B-8140-603523E4EB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A25B-EE34-4F2E-B4E4-10913B32A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Present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1 – 3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887480"/>
            <a:ext cx="8026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at kind of feedback you would like to receive from your colleag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 Portfolio Presentation with the embedded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dback to your colleagues about their presentations and assess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your colleagues’ suggestions if you w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B436-CA98-4AF0-BD9D-FCEEA939A9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Meeting Standards in a Student-Centered Classro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22360" y="2324160"/>
            <a:ext cx="82296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 assigned to your group by the facilitat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that students meet standards in open-ended activities and proje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students are in charge of their own learning, how will we be sure they learn what is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accountability when students are working in grou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one person to record your thoughts in the wi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C0A6-6DCC-457D-A5B5-991A5FC2E2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Targeting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11200" y="1859040"/>
            <a:ext cx="78804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learning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do students need to conduct research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, when could students' learning be enhanced by communicating with other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would collaboration be benefici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ensure students are using problem solving strategies throughout your unit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how you could incorporate the Internet in your unit to help students do research, communicate, and collabor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71A0-F71B-4857-ABEB-04D6EB24BC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Modeling and Teaching Legal and Ethical Practice Related to Technology Us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Exploring Copyrigh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5)</a:t>
            </a:r>
            <a:br>
              <a:rPr sz="3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5520" y="2787480"/>
            <a:ext cx="823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copyright quiz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“Copyright Chaos”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ow copyright law and fair use guidelines will impact your classroom (optiona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65120" y="4340160"/>
            <a:ext cx="80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iting Sourc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66560" y="4865760"/>
            <a:ext cx="821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Works Cited resources, examples, and templ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Works Cited document and save to your unit_support folder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7939-3E18-4D78-8491-9BE17694CA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428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ing Search Eng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rrow your sear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keywords to find information for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g or bookmark sites you might like to u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1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Locating Interne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7 – 3.0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79520" y="4151160"/>
            <a:ext cx="8272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are researching an unusual subject or you want to make sure your sites are age-appropriate, you may want to use a specialized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E843-B5A9-4035-A11E-38DF19668E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1:45:25Z</dcterms:modified>
  <cp:revision>81</cp:revision>
  <dc:subject/>
  <dc:title>Presentation Title Goes Here</dc:title>
</cp:coreProperties>
</file>