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8E8-35FF-4864-96BD-3E07E942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F5E-311E-4EA4-98DA-8188A2543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720-5891-466F-ADFF-680B47590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4D0-9931-414D-8604-20F5785F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195-0F8C-49E5-93B0-5CE5EA17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8DC9-9BC8-4224-89E0-F49AA040E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B6E8-3564-4E78-AD20-09EF743E2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691B-A132-4985-A833-1DFD1FCF1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9833-F885-46A1-9407-5FDC3EFB4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5E7A-71F6-4294-BEEF-EA3A5543B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B6E9-CC56-4D13-B030-4A6702A09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3DC0-658F-47E4-900D-7340F473B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D6F9-F2B4-4435-BB94-F8F5D0539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9CC4-BE63-4311-B0EF-04F43AF47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3F58-0D10-4781-8405-D1693DC58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13F1-3082-4E55-B29C-9C5DAFCCE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0D20-3D46-48D9-BE79-D8CAF7ACB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968-5375-4DDB-89CC-D86D636A78A1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D42E-7A47-466F-ADD8-F2A5F3BC11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FBC4-5F13-4A7B-A5DB-DB343043B2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229A-7F0B-4E61-81C2-45CB7026469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5394-FA68-495B-A0FF-0FDA803004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DCCD-4AE5-430B-84ED-1A9ACBF779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C28F-1467-46B0-8223-F24C9740AE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4EC2-8E65-492A-86F0-87460DBFAC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7A8C-001E-4CFD-B10D-8AC1CD118D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DB30-133D-4863-8B1D-C68BE2104C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3EF5-E4AD-4CC7-A491-DB5DF88CAF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45AD-8779-4591-8F27-B06F871997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5T16:21:57Z</dcterms:modified>
  <cp:revision>53</cp:revision>
  <dc:subject/>
  <dc:title>Presentation Title Goes Here</dc:title>
</cp:coreProperties>
</file>