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AE86-9F3F-4357-9D21-769461D64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65508-A8AC-4424-9BD8-8D83A1D62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5EE2-0922-4DE6-AB98-C3A9D92AB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B12C-4655-45F7-AAC2-1878CA3F7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2B8F-3724-4F8E-B156-81DAF36B0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98C8-1945-4942-8DBF-3C0081F4D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B8C0-9FF1-4458-92D8-8FABD5AA5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910B-EA29-484B-9642-0085582DE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A426-A764-4306-92A5-96A10AC3E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4293-A332-43AE-955C-EE310430A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11F2-0066-4887-B033-A5975CF14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F0B0-8B30-4AA9-96D7-A6E52FA04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291A-C78F-4B09-8941-0FF7A657092E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78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a Management Resourc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2598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sample management resourc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management document for your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64EA-4901-4CF5-AB6E-2ACFD73AA1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: Reflecting on My Unit as a Who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9800" y="19317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Review the Unit Plan Checklist to identify any missing or incomplete elements of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Unit Portfolio Checklist to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ensure you have completed all pieces for your Unit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Portfolio Rubric and highlight the descriptors that describe your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ed on your self-assessment, note any changes you would like to make to your Unit Portfolio in the Unit Plan Checklis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5D68-7E31-42E6-B15E-D107E48EF0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776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y 1: Revising My Unit Portfolio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11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2960" y="211140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ed on your self-assessment, revise any components of your Unit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371520" y="2925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y 2: Reflecting on Professional Developm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12 – 7.1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12920" y="3822840"/>
            <a:ext cx="78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inking about My Future Development and take notes about any resources you wish to explore in more detail in the fu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E5E1-3633-4879-A858-DA5C55CEAD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57120" y="1203480"/>
          <a:ext cx="8229600" cy="2041200"/>
        </p:xfrm>
        <a:graphic>
          <a:graphicData uri="http://schemas.openxmlformats.org/drawingml/2006/table">
            <a:tbl>
              <a:tblPr/>
              <a:tblGrid>
                <a:gridCol w="2424240"/>
                <a:gridCol w="580536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odule 8: Showcasing Unit Portfo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ing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pare for showcasing your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ive and receive feedback on Unit Portfol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the Essentials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363600" y="3236760"/>
            <a:ext cx="8229600" cy="1801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26880" y="341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D109-98AE-4DB5-A054-D267051503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3EE0-7977-433E-A317-36CDB84F64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55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 outcomes from a student 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43B7-AE05-467B-ACD1-20DFB907E3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4200" y="1839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76120" y="1015920"/>
          <a:ext cx="8534520" cy="3297240"/>
        </p:xfrm>
        <a:graphic>
          <a:graphicData uri="http://schemas.openxmlformats.org/drawingml/2006/table">
            <a:tbl>
              <a:tblPr/>
              <a:tblGrid>
                <a:gridCol w="2514600"/>
                <a:gridCol w="601992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7: Facilitating with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acher as facilit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xplore questioning strategies to promote higher-order thin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facilitation mate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Unit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iscuss implementation strate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management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Unit Portfolio and revise based on your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 and share with part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299880" y="4316400"/>
            <a:ext cx="8514000" cy="15541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facilitate a student-centered classroom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use technology to support my instructional practi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45C0-F190-4897-BF0A-B6DBB48847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6200" y="1328400"/>
            <a:ext cx="823788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8: Showcasing Unit Portfoli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264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haring lear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94F4-AA6B-4DE8-8750-4B3A8C1F71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59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edagogical Practices: Using Questioning to Promote Higher-Order Thinking and Engage Student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01 – 7.03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7120" y="217440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eak into three groups, with each group discussing one of the following question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170000" y="30178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355680" y="2895480"/>
            <a:ext cx="8261280" cy="37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are some ways that you can integrate the use of Curriculum-Framing Questions into your classroom and student project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are some ways that you can integrate the use of questioning into your classroom and student project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you teach students the skills they need to perform higher-order thinking when they create projects? What types of questions, prompts, and scaffolds can you use to encourage students to think deeply?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B0C6-BDF2-4D94-A90F-407D8E64F4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2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Designing Facilitation Resourc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Considering NETS-T Standard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04 – 7.05)</a:t>
            </a:r>
            <a:br>
              <a:rPr sz="24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4240" y="2274840"/>
            <a:ext cx="8699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view ways to use technology to support your instructional practice and improve your productivity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lanning My Facilitation Resource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6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36680" y="3405240"/>
            <a:ext cx="7661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owse sample presentations, publications, spreadsheets, and Web resources located in the Facilitation folder on the Curriculum Resource C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ccess teacher-created blogs and wikis on the Web from links available in the Facilitation Examples folder on the Curriculum Resource C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ke notes on any ideas you find that you could use in your un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2BB9-7F64-4470-A664-50CD401A37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8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Designing Facilitation Resourc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Facilitation Materia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6)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4200" y="2628720"/>
            <a:ext cx="8229600" cy="32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ideas and areas of interest and your notes from the previous step. Create a new document, presentation, or web-based resource to support the facilitation of your uni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you wish, modify existing support material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8FAC-BBD3-45AA-89D3-1CD910394E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4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Completing My Instructional Procedur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7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6560" y="2539800"/>
            <a:ext cx="804888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your Unit Plan and complete your Instructional Procedures section. Specify how you will incorporat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al and informal assessment throughout the instructional cyc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1st century skills instru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fferenti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sential, Unit, and Content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your Unit Plan Summary and the other sections of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E749-D59E-44E9-BF17-8F65BD348E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lanning for a Successful Projec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08 – 7.0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2760" y="257508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small groups discuss how you could address the following topics to ensure a successful project in your classroo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66560" y="3305160"/>
            <a:ext cx="8145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unicating about the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iming and Trans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terials/Equipment/Technology/Outside Resources/Fac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6ED0-9E58-4E3C-84EF-E534875690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14T20:00:39Z</dcterms:modified>
  <cp:revision>87</cp:revision>
  <dc:subject/>
  <dc:title>Presentation Title Goes Here</dc:title>
</cp:coreProperties>
</file>