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3DE6-3D78-452E-9B47-F8C1E214B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2065-702F-4DEB-8231-76F420D15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 the URL for the blogging site you have chosen for use during this cours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 the URL of the online collaborative editing site to the sl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475A-4967-4275-810E-42A7DAC45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1DBE-050C-4B39-89F2-66122B29E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F21E-1376-4429-A0C5-FC86108D7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CF0F-CE1F-4CFB-968E-B2829026B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8BE7-134F-4061-A9D7-5A774AD1A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A52F9-4569-4070-91AC-EA19646E2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E68F-4B78-48C5-9526-8722391BD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B2E0-F55E-4501-91B8-1ACF60AB0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3AAC-8074-44C8-A35C-AFA6FAAF9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81F3-38B7-491B-91C8-77FD3AFB6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D5BD-F079-4C1E-959A-E090434FE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06E8-E5DE-4DAC-9343-E0D15D827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8799-63A8-4366-8D6C-00A701BB8BC7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95400" y="63644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7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ssessingProjects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ssessingProjects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dule 5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sessing Student Proje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500"/>
            </a:b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Creating Student Assessments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an Assessment for My Student Sampl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13 – 5.15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690280"/>
            <a:ext cx="8229600" cy="38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ww.intel.com/education/AssessingProject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y I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ab to view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imated Overview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nd learn how to use the applic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turn to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www.intel.com/education/AssessingProject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gn into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orkspac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Assessing Projects application to create an assessment for your student samp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ort your assessment to your assessment folder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0346-BAFF-4DAD-BB73-536DFFC266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5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3: Revisiting My Student Sample and Unit Plan </a:t>
            </a:r>
            <a:br>
              <a:rPr sz="3200"/>
            </a:br>
            <a:br>
              <a:rPr sz="1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siting  My Student Sampl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5.16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66560"/>
            <a:ext cx="82296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your summative assessment and your colleagues’ feedback from the Pair and Share to assess your student sample and note revisions you would like to mak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Revisiting  My Unit Pla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5.17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47840" y="3693960"/>
            <a:ext cx="836424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Unit Plan using the Unit Plan and Assessment Checkli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fine your Assessment Summa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Instructional Procedures focusing on assess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flect on your student sample, assessments, and your Instruction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dures and revise, if necessar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standards and objectives, if necessa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D5E0-696F-4552-B309-8DCC434815E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9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7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Reflecting on My Learning</a:t>
            </a:r>
            <a:br>
              <a:rPr sz="1400"/>
            </a:b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17 and 5.20)</a:t>
            </a:r>
            <a:br>
              <a:rPr sz="2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420840" y="2314440"/>
            <a:ext cx="815796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Key Poi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ssessments should be integrated throughout a project and address all purpos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tudent-centered assessments should focus on content as well as 21st century skill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ubrics contain traits that identify objectives that describe levels of perform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se summative assessments to determine the quality of products and perform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following steps are useful when creating or modifying an assessme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673200" y="3755880"/>
            <a:ext cx="780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rform the task yoursel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ke sure the traits meet your targeted goal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imit the number of trait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sk colleagues and students for inpu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rite descriptors in student-friendly languag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void ambiguous word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ider the order of your tra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46040" y="5308560"/>
            <a:ext cx="8304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do I assess student learning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do I involve students in the assessment proces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392040" y="2351160"/>
            <a:ext cx="8272440" cy="36716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08F1-133B-48CB-A10E-477E3E137BD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9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5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Reflecting on My Learn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 Blogging My Journey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5.18)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49280" y="2776680"/>
            <a:ext cx="8383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blog entry in your personal blog site entitled Module 5 Reflection, copy and paste the prompt below into your entry, and write your respon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This module has helped me think about student-centered assessment in the following ways…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DD5E-4C1F-4D5E-B29B-6E61E819F37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5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5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: Reviewing My Student Sample and Assess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19 – 5.2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0176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your notes from Activity 3 to revise your student sample and assessm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flect on how your assessment strategies meet some of the traits from the Portfolio Rubr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your thoughts about how your Assessment Plan and assessments so far address the following traits from the Portfolio Rubr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5040" indent="-45252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strategi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05040" indent="-45252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ress standards and objectiv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05040" indent="-45252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re student-centere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05040" indent="-45252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re varied and ongo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what feedback you would like from your group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3013-0DDB-48D9-B62B-4DE84AB16FF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9880" y="210960"/>
            <a:ext cx="8229600" cy="9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30120" y="1039680"/>
          <a:ext cx="8458200" cy="51768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6: Planning for Student Suc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49200" y="1579680"/>
          <a:ext cx="8408880" cy="2565360"/>
        </p:xfrm>
        <a:graphic>
          <a:graphicData uri="http://schemas.openxmlformats.org/drawingml/2006/table">
            <a:tbl>
              <a:tblPr/>
              <a:tblGrid>
                <a:gridCol w="2311560"/>
                <a:gridCol w="6097320"/>
              </a:tblGrid>
              <a:tr h="256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udent support and self-dir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plore strategies to differentiate 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an assessment to encourage student self-dir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tudent support mate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Unit Plan to incorporate accommodations for all lear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facilitation of a student-centered classro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30120" y="4137120"/>
            <a:ext cx="8439120" cy="1554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help my students become self-directed learn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support the diverse needs of learn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ED9A-2068-424C-83A1-9C57E90C1F2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95400" y="63644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09D3-F623-4D88-93C3-CDA44D8C3E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7784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271520"/>
            <a:ext cx="82375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 outcomes from a student persp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C736-189F-41A0-A2BC-18202C3F59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9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979560"/>
          <a:ext cx="8534160" cy="3168720"/>
        </p:xfrm>
        <a:graphic>
          <a:graphicData uri="http://schemas.openxmlformats.org/drawingml/2006/table">
            <a:tbl>
              <a:tblPr/>
              <a:tblGrid>
                <a:gridCol w="2514600"/>
                <a:gridCol w="60195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5: Assessing Student Proj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ormative and summative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4040" indent="-2840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Obtain feedback to improve your student samp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plore challenges and solutions for involving students in the assessment proc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current assessment pract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raft Assessment Summary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ummative assessment for your student samp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student sample based on your summative assess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Unit Pl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298440" y="4159080"/>
            <a:ext cx="8553600" cy="1554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do I assess student learnin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do I involve students in the assessment proces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8C9E-B052-41EB-B765-5C324C4222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304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86BB-487D-4970-B2A9-AB6636EAB2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ir and Share: Using Feedback to Improve My Student Sam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01 – 5.02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5520" y="199224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student sample with your group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k for feedback on ways to improve the samp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A63B-950C-45E6-B8F0-4F995ECD85C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596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5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dagogical Practices: Involving Students in the Assessment Proces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03 – 5.04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74920"/>
            <a:ext cx="822960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the Module 5 Pedagogical Practices page on the course wiki site.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[Insert URL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a small group, brainstorm a list of some of the challenges and solutions teachers may encounter when involving students in the assessment proce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the following question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82520" indent="-4572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ich challenges will be the most difficult for you to overcom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1082520" indent="-4572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steps could you take to implement some of the solutions under consideratio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A839-0F43-4C6A-8140-D67E189C2D5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5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Examining Assessment Strategies</a:t>
            </a:r>
            <a:br>
              <a:rPr sz="3200"/>
            </a:br>
            <a:br>
              <a:rPr sz="1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flecting on Assessment in My Classroo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05 – 5.06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1360" y="2463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ke the formative self-assessment and note areas for improvem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14360" y="3156120"/>
            <a:ext cx="808992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Reviewing Assessment Plan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06 – 5.07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Assessment Plans at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www.intel.com/education/AssessingPro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nk abo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57280" y="4943520"/>
            <a:ext cx="810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977760" y="4549680"/>
            <a:ext cx="7964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ich of these assessments would be most important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kind of information would you and your students gain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would the assessments help students become self-directed, collaborative learn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do the assessments assess higher-order thinking, 21st century skills, and answers to the CFQ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0A29-75F5-4FC9-9B7A-C42F2A4DB4D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6148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500"/>
            </a:b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Creating Student Assessments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Focusing on My Assessment Pla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08 – 5.10)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1360" y="2526840"/>
            <a:ext cx="8229600" cy="32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draft assessment timeli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Assessment Table to determine and describe which types of assessments you will use throughout your un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Assessment Plan with the Assessment Plan Checklis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rite a draft of your Assessment Summary in table or paragraph for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5FB5-B49D-4678-9F76-F2AFEC0CB11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97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500"/>
            </a:b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Creating Student Assessments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lanning the Assessment for My Student Sampl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10 – 5.12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9808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student sample and think about the following questions as you review the sampl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69800" y="3699000"/>
            <a:ext cx="8140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concepts, skills, and knowledge will be assess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the Curriculum-Framing Questions be assess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higher-order thinking skills will be assess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21st century skills will be assess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26C0-1FE5-44F4-B758-FBA4FAC8924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08T22:52:29Z</dcterms:modified>
  <cp:revision>81</cp:revision>
  <dc:subject/>
  <dc:title>Presentation Title Goes Here</dc:title>
</cp:coreProperties>
</file>