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6043E-FB7B-497F-8ABD-EBBA986210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88EAC-FC36-427F-AE0F-A73413C7CC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DF402-3517-4713-8EDE-71E00A55AE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0423E-EC18-4751-BED2-D68C75DDA5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4CDDA-0DAE-44CA-B894-3303484051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E27DF-B577-4F17-97BF-FAA369133A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6877A-8898-4612-9D20-41F8CAAC13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16E60-FDF1-4A9C-A2DF-7B229A86BA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E57C7-72FB-45CD-8F26-0BDDB04F64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1DC5A-A95E-4670-8C8E-B942EF2AAE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1B044-D0D5-438F-BBA1-B7B8A27CF6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E9502-91E4-4C50-97FB-357460B0C1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400800"/>
            <a:ext cx="415800" cy="2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FBACD-8B86-497C-A9F9-02ECFB701D2D}" type="slidenum">
              <a:rPr b="1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547040" y="6114960"/>
            <a:ext cx="1116000" cy="5572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966960" y="635004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  <a:ea typeface="Arial"/>
              </a:rPr>
              <a:t>Copyright © 2008,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547040" y="6114960"/>
            <a:ext cx="1116000" cy="557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241520"/>
            <a:ext cx="77724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478560" y="309600"/>
            <a:ext cx="2179800" cy="1089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44600" y="1725480"/>
            <a:ext cx="8253360" cy="2541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66960" y="635004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  <a:ea typeface="Arial"/>
              </a:rPr>
              <a:t>Copyright © 2008,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6478560" y="309600"/>
            <a:ext cx="2179800" cy="1089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4781160"/>
            <a:ext cx="87631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1" lang="en-US" sz="36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Teach Pro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0" y="5474880"/>
            <a:ext cx="876312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ssentials Cours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odule 7: Facilitating with Technology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84200" y="788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7: Facilitating with Technology </a:t>
            </a: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2: Implementing a Successful Project </a:t>
            </a:r>
            <a:br>
              <a:rPr sz="2800"/>
            </a:br>
            <a:br>
              <a:rPr sz="16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3: Creating a Management Resource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7.09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5360" y="259884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iew sample management resource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reate a management document for your portfoli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A795A-188E-49A0-8157-CDC23F4EC9D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0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7: Facilitating with Technology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8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3: Reflecting on My Unit as a Whole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7.10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9800" y="19317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MS PGothic"/>
              </a:rPr>
              <a:t>Review the Unit Plan Checklist to identify any missing or incomplete elements of your Unit Pla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ew the Unit Portfolio Checklist to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MS PGothic"/>
              </a:rPr>
              <a:t>ensure you have completed all pieces for your Unit Portfoli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ew the Portfolio Rubric and highlight the descriptors that describe your portfoli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ased on your self-assessment, note any changes you would like to make to your Unit Portfolio in the Unit Plan Checklist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AB65F-A30D-4B5F-B889-6A7E2EEAEF0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7760" y="703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7: Facilitating with Technology </a:t>
            </a: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lanning Ahead</a:t>
            </a:r>
            <a:br>
              <a:rPr sz="3200"/>
            </a:br>
            <a:br>
              <a:rPr sz="16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ctivity 1: Revising My Unit Portfolio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7.11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72960" y="2111400"/>
            <a:ext cx="822960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ased on your self-assessment, revise any components of your Unit Portfoli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/>
          <p:nvPr/>
        </p:nvSpPr>
        <p:spPr>
          <a:xfrm>
            <a:off x="371520" y="29257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ctivity 2: Reflecting on Professional Development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s 7.12 – 7.13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12920" y="3822840"/>
            <a:ext cx="788328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ew Thinking about My Future Development and take notes about any resources you wish to explore in more detail in the futur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iew "1:1 Computing Classroom Resources" in the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Resources, 1-to-1 Computing Resource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folder on the Curriculum Resource C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61D69-6923-4C62-A33A-523DAC2AD57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357120" y="1203480"/>
          <a:ext cx="8229600" cy="2041200"/>
        </p:xfrm>
        <a:graphic>
          <a:graphicData uri="http://schemas.openxmlformats.org/drawingml/2006/table">
            <a:tbl>
              <a:tblPr/>
              <a:tblGrid>
                <a:gridCol w="2424240"/>
                <a:gridCol w="5805360"/>
              </a:tblGrid>
              <a:tr h="3988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Verdana"/>
                          <a:ea typeface="Times New Roman"/>
                        </a:rPr>
                        <a:t>Module 8: Showcasing Unit Portfol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42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Topics: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haring lear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3920" indent="-223920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utcomes: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Prepare for showcasing your un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Give and receive feedback on Unit Portfoli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Reflect on learning in your blo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Evaluate the Essentials Cour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363600" y="3236760"/>
            <a:ext cx="8229600" cy="180108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Essential Ques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3280" indent="-23328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ow can technology be used most effectively to support and assess student learning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Ques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3280" indent="-23328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ow can I prepare for and facilitate an effective showcase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33280" indent="-23328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ow can I provide constructive feedback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326880" y="3412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ooking Ahea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12AE1-3E81-4CCE-9020-04AA2007FA3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217600" y="1908000"/>
            <a:ext cx="4953240" cy="2475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966960" y="635004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  <a:ea typeface="Arial"/>
              </a:rPr>
              <a:t>Copyright © 2008,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9AAF2-20FD-44BD-BB2F-0DFF7E436F8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here We Wer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55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1: Teaching with Projec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Project-based learning and unit desig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2: Planning My Un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Curriculum-Framing Questions and ongoing student-centered assess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3: Making Connection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The Internet to support teaching and learn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4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Creating Samples of Learn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Project outcomes from a student perspectiv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5: Assessing Student Projec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Formative and Summative Assess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6: Planning for Student Succes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Student Support and Self-Direc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40966-7DBA-4A8D-AAEE-413F4EC08CA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4200" y="1839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here We Ar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76120" y="1015920"/>
          <a:ext cx="8534520" cy="3297240"/>
        </p:xfrm>
        <a:graphic>
          <a:graphicData uri="http://schemas.openxmlformats.org/drawingml/2006/table">
            <a:tbl>
              <a:tblPr/>
              <a:tblGrid>
                <a:gridCol w="2514600"/>
                <a:gridCol w="6019920"/>
              </a:tblGrid>
              <a:tr h="520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odule 7: Facilitating with Technolog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76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Topics: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Teacher as facilita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3920" indent="-223920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utcomes: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Explore questioning strategies to promote higher-order think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reate facilitation materi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Revise your Unit Pl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Discuss implementation strateg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reate management docu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elf-assess your Unit Portfolio and revise based on your assess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Reflect on learning in your blog and share with partn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"/>
          <p:cNvSpPr/>
          <p:nvPr/>
        </p:nvSpPr>
        <p:spPr>
          <a:xfrm>
            <a:off x="299880" y="4316400"/>
            <a:ext cx="8514000" cy="155412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ssential Ques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ow can technology be used most effectively to support and assess student learning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odule Ques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ow can I facilitate a student-centered classroom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ow can I use technology to support my instructional practi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749EB-F39E-467E-882C-113A01DC92E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here We Are Going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6200" y="1328400"/>
            <a:ext cx="823788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2640" indent="0"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8: Showcasing Unit Portfolio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12640" indent="0"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Sharing learn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14051-3A6E-4D18-9A6F-2B94627854D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7920" y="597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7: Facilitating with Technology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800"/>
            </a:br>
            <a:br>
              <a:rPr sz="13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Pedagogical Practices: Using Questioning to Promote Higher-Order Thinking and Engage Students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s 7.01 – 7.03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57120" y="2174400"/>
            <a:ext cx="822960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reak into three groups, with each group discussing one of the following questions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"/>
          <p:cNvSpPr/>
          <p:nvPr/>
        </p:nvSpPr>
        <p:spPr>
          <a:xfrm>
            <a:off x="1170000" y="30178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355680" y="2895480"/>
            <a:ext cx="8261280" cy="37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spcBef>
                <a:spcPts val="10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at are some ways that you can integrate the use of Curriculum-Framing Questions into your classroom and student projects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10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at are some ways that you can integrate the use of questioning into your classroom and student projects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11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can you teach students the skills they need to perform higher-order thinking when they create projects? What types of questions, prompts, and scaffolds can you use to encourage students to think deeply?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1A6E4-66D2-479A-9E09-808A4463077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7: Facilitating with Technology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12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1: Designing Facilitation Resources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800"/>
            </a:br>
            <a:br>
              <a:rPr sz="16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1: Considering NETS-T Standards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s 7.04 – 7.05)</a:t>
            </a:r>
            <a:br>
              <a:rPr sz="2400"/>
            </a:b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44600" y="2389320"/>
            <a:ext cx="8283600" cy="12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eview ways to use technology to support your instructional practice and improve your productivity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2: Planning My Facilitation Resource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7.06)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436680" y="3405240"/>
            <a:ext cx="76611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rowse sample presentations, publications, spreadsheets, and Web resources located in the Facilitation folder on the Curriculum Resource C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ccess teacher-created blogs and wikis on the Web from links available in the Facilitation Examples folder on the Curriculum Resource C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ake notes on any ideas you find that you could use in your uni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9295F-3891-4A08-B2B5-3E75FB38A4C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88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7: Facilitating with Technology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800"/>
            </a:br>
            <a:br>
              <a:rPr sz="28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1: Designing Facilitation Resources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800"/>
            </a:br>
            <a:br>
              <a:rPr sz="16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3: Creating Facilitation Materials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7.06)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84200" y="2628720"/>
            <a:ext cx="8229600" cy="32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ew your ideas and areas of interest and your notes from the previous step. Create a new document, presentation, or web-based resource to support the facilitation of your unit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f you wish, modify existing support material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25DDD-7619-4E5A-A36C-7517B0FF4A0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4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7: Facilitating with Technology </a:t>
            </a: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2: Implementing a Successful Project </a:t>
            </a:r>
            <a:br>
              <a:rPr sz="28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1: Completing My Instructional Procedures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7.07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6560" y="2539800"/>
            <a:ext cx="8048880" cy="32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72960" indent="-37296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pen your Unit Plan and complete your Instructional Procedures section. Specify how you will incorporate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896040" indent="-4478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rmal and informal assessment throughout the instructional cyc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896040" indent="-4478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1st century skills instruc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896040" indent="-4478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fferenti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896040" indent="-4478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udent self-direc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896040" indent="-4478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ssential, Unit, and Content Ques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72960" indent="-37296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plete your Unit Plan Summary and the other sections of your Unit Pla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D0EC1-C27D-4899-8CAD-1D57BE74B95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802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7: Facilitating with Technology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8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2: Implementing a Successful Project </a:t>
            </a:r>
            <a:br>
              <a:rPr sz="28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2: Planning for a Successful Project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s 7.08 – 7.09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82760" y="2519280"/>
            <a:ext cx="8229600" cy="17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100000"/>
              </a:lnSpc>
              <a:spcAft>
                <a:spcPts val="1001"/>
              </a:spcAft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ew Managing Student Use of Computers in the One-to-One folder on the Curriculum Resource CD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100000"/>
              </a:lnSpc>
              <a:spcAft>
                <a:spcPts val="700"/>
              </a:spcAft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 small groups discuss how you could address the following topics to ensure a successful project in your classroom.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425520" y="4289400"/>
            <a:ext cx="8145360" cy="17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4960" indent="-28908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ommunicating about the Projec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4960" indent="-28908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iming and Transi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4960" indent="-28908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ollabor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4960" indent="-28908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aterials/Equipment/Technology/Outside Resources/Facilit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4960" indent="-28908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rad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BC624-2F80-441D-B090-3B497B299CD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05:19:46Z</dcterms:created>
  <dc:creator>Kristen Merrill</dc:creator>
  <dc:description/>
  <dc:language>en-US</dc:language>
  <cp:lastModifiedBy>magrantx</cp:lastModifiedBy>
  <dcterms:modified xsi:type="dcterms:W3CDTF">2008-05-12T20:09:59Z</dcterms:modified>
  <cp:revision>88</cp:revision>
  <dc:subject/>
  <dc:title>Presentation Title Goes Here</dc:title>
</cp:coreProperties>
</file>