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60F-7BBF-44C7-A70F-A95DAD8E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hoose to use a wiki to record the ideas of your Participant Teachers, set up the starting page of the wiki and add the URL to this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A3F1-3F42-4F95-8AE1-09FC881FB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95E6-9CE4-49C4-8548-12C089E73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9715-3B10-40B6-882E-C16E49A43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50E1-E085-48A2-9EAE-2DC4BA043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DFF5-DFA4-4DF9-9AA9-A2F57ACEE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E26B-6653-4754-B753-15590B3456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7585-F0A4-43EA-B11A-47F118A2C7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0587-CD29-49EA-9BC7-5C3F23ABF4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7AD8-19FB-4360-9B5C-548F10C243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26D1-5E2F-4C30-BD66-1AA49FB51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ABC8-62F2-4E3A-8EF4-EC19B6D8D5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CFC9-9484-4F27-B6AA-A7788CA32D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990E-1B90-4357-9519-22B0F8FEA0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2029-EE98-431A-B75A-0666CB8CEE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B87D-321C-49E6-83FE-338C42CCE1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BF7F-432B-4161-A506-76C239E76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6B26-6044-44CB-99DA-1EFE9AD627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8C74-7C46-48C9-B6EC-5E7BE20987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1731-7D48-4E9D-A20F-1495DABD09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F88A-066D-4518-BA47-8F886C4DB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5F6E-B028-4585-9C0C-491086F4D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C5D2-2029-40DA-B651-D0E3C7624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C1BD-55F4-437B-B86A-5ACBF994C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28DD-9166-4288-8D2A-BD7EFA430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D72-DE2D-4AC3-8AEE-D44947B83FC6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Programs of the Intel® Education Initiative are funded by the Intel Foundation and Intel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1A4-B4B4-4D27-91B0-6B855E0B4046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8856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hoosing the Best Tool for the Jo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7 – 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255888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possibl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ideas for your student s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38120" y="3062160"/>
            <a:ext cx="738828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sletter, newspaper, or broch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4C4B-1E54-4AE3-B999-68638F9055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6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4: Planning the Cont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360" y="249048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ections on Technology Integration and Instructional Design in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checklist and storyboard templates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tudent S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or print any planning documents you would like to use in your student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7D7B-C7E1-4F69-9B3E-A2FEC32862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Looking at Learning from a Student Perspectiv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student sample using one of these op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resenta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1 –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ublication (newsletter, newspaper, brochure, or poster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wiki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blo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 – 4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02F5-F470-45B3-A1D9-75E732B81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visiting My Uni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666800"/>
            <a:ext cx="82296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Instructional Procedures section of the Unit Plan Check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your Instructional Procedu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necessary, revise your standards and objectiv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EEC0-8307-4A16-B223-CA9D5689FA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3080" y="88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700"/>
            </a:br>
            <a:br>
              <a:rPr sz="1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Reflecting on My Learning</a:t>
            </a:r>
            <a:br>
              <a:rPr sz="1400"/>
            </a:b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5 and 4.18)</a:t>
            </a:r>
            <a:br>
              <a:rPr sz="2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406440" y="2386080"/>
            <a:ext cx="8157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lanning and developing a student product requir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swering the unit's Curriculum-Framing Questio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understanding of concepts, skills, and knowled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higher-order and 2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eating real-world connections for student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ing technology appropriately and eff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366840" y="4143240"/>
            <a:ext cx="74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decision to use a particular technology should be based on its strengths in supporting the desired content and learning objectiv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" y="4694400"/>
            <a:ext cx="7967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unit expectations and improve my instructional desig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18960" y="2351160"/>
            <a:ext cx="7983720" cy="3584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FDD0-E2E2-47B3-951B-5D393A99B1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br>
              <a:rPr sz="16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5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449280" y="246204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4972-BCBF-4765-A515-3BF81F0F10D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Reflecting on My Student S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760" y="1905120"/>
            <a:ext cx="830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preparation for the Pair and Share in Module 5, use the Portfolio Rubric to assess how the student sample you created in the module meets your design goal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what feedback you would like from your colleagues to help you improve your student sam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8FD7-B6F0-4838-9BB9-53AC4241D9E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8680" y="39168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19040" y="1252440"/>
          <a:ext cx="8245440" cy="3009960"/>
        </p:xfrm>
        <a:graphic>
          <a:graphicData uri="http://schemas.openxmlformats.org/drawingml/2006/table">
            <a:tbl>
              <a:tblPr/>
              <a:tblGrid>
                <a:gridCol w="2428920"/>
                <a:gridCol w="58165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5: Assessing Student 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tive and summativ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tain feedback to improve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challenges and solutions for involving students in the assess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current assessment pract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Assessment Summa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ummative assessment for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student sample based on your summative 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420840" y="4268880"/>
            <a:ext cx="8242200" cy="1094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assess student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4616-A76E-497B-AC85-AD82089F9B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1880" y="6539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40A1-DDEB-4E08-8D48-CDF4126AC5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6817-9DBE-4D7A-A4B4-F840EE5CE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8480" y="184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23800" y="1092240"/>
          <a:ext cx="8272440" cy="266688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536400" y="3782880"/>
            <a:ext cx="8274240" cy="2040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C7D3-EDCB-492C-9E5D-C9788BB92F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21428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B523-672C-4FBB-8582-EDD5B7A4D7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Incorporating the Internet into Uni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1828800"/>
            <a:ext cx="78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are your ideas on how you plan to incorporate the use of the Internet in your un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23800" y="3060720"/>
            <a:ext cx="801072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your unit abou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your Curriculum-Framing 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you incorporate the use of the Internet in your unit for research, collaboration, and communic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use of the Internet help students develo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and higher-order thinking ski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feedback or additional ideas are you looking for during this ti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57A8-8404-4AA6-AFF6-AB2D011ED3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5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Helping Students Adapt to a Project-Based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482760" y="230976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rm groups to discuss how can we help all students successfully complete project tasks with the ability to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3408480"/>
            <a:ext cx="754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manageable go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nage timelines and adjust as necessa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te and investigate questions about their 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productively with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and plan for improv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2421-2AC7-4624-BF5A-79587B3401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Examining Student Samp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3 – 4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1658880"/>
            <a:ext cx="78231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a student sample presentation, newsletter/newspaper, poster, wiki, or blo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the associated Unit Plan and view the Curriculum-Framing Questions, the targeted standards, and learning objec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 how the activities in the classroom support the creation of the student produc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student sample and assessment and discuss these questions with a partn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015920" y="4368960"/>
            <a:ext cx="7925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Considering the learning objectives and assessment, how does the student sample effectively demonstrate student learning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hat 21st century skills does the student sample demonstrate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student sample help to answer the Curriculum-Framing Question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chosen technology tool enable students to enhance their learning, increase productivity, and promote creativity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47F0-F733-4368-9E2B-FC3340DCAC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7999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Project Desig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09760" y="239544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525600" y="3279600"/>
            <a:ext cx="76914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9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BEFD-F06B-4812-8096-2C8463644F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necting My Student Sample to Questions, Objectives and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6 – 4.07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80960" y="2908440"/>
            <a:ext cx="772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946080" y="3720960"/>
            <a:ext cx="75042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50800" y="5284800"/>
            <a:ext cx="7620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 Consider ways to use math to improve your students’ thinking skil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74BD-0671-4871-8E38-8A556ACA48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8T19:56:13Z</dcterms:modified>
  <cp:revision>75</cp:revision>
  <dc:subject/>
  <dc:title>Presentation Title Goes Here</dc:title>
</cp:coreProperties>
</file>