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101-44F4-4083-A285-347EE45E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8E1A-F4D6-4A13-ABAB-E799F1526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2C2E-3425-4218-AFDA-86B172F5D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9E7-9DCA-46C4-B1C6-A5074BFA0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49E2-824E-410E-90E6-933A750AB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0B2A-37AB-4488-B6E8-47574D255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C06F-CAB6-4C4D-99A9-D2E4B46ED4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4106-39A1-42D7-9212-0747351609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F13A-3587-4578-B118-3A3391546B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EC2B-A65C-42DA-AB46-A68DA074C9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D49A-BE4E-4129-8116-0400781A4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1C91-244C-4274-814D-EA7F436A3C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7954-DEDA-4CE4-B718-A0110D9BCF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1EB3-D46A-40E2-B0EC-7BD76AC990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B32E-AC9B-4319-B486-3CDECCE455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0B90-F683-4A42-AB82-61120D6609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092C-A7E5-4414-9032-86D3A5C44A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A9EF-273B-42FE-BA41-195FD8A7FC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7B6C-E5B4-4EC0-90D9-B0E40A1838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00F0-B4E0-40BC-A115-B9A7C6E010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A3B7-F9A9-450F-9AD1-B65362FAB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C938-EF17-4131-B256-49FFD909C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3614-234B-48C8-B985-EDDF217FA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8CB3-2F76-4893-AD76-DFCF82D63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0192-C3F8-4A13-A87A-B094CAB84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18A5-A046-4F6E-9545-FB51DDF270A0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CBF-9880-46A7-BA44-5E5030CA99E4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89CE-2D9B-43F3-A76B-C2268087F0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6CEF-9936-4405-AB5B-769B5A5F73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BDB5-F951-4AE1-BA03-33C86EF00AE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2AEF-F02E-4750-AA4C-BA5BE342B1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 in a 1:1 computing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A712-E8F1-4231-A89C-622EB915E1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EF29-BE5A-4352-834B-0C3713476F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359D-7A83-4F9F-A6C3-EBD55A92F5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F9B0-7A95-467D-A05B-DEE40011E1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C741-760F-4DCA-AF72-F312200666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3339-CA3D-4366-8313-656837A909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CE61-4FF8-48A8-8CF0-E080F82DB3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2T19:47:32Z</dcterms:modified>
  <cp:revision>55</cp:revision>
  <dc:subject/>
  <dc:title>Presentation Title Goes Here</dc:title>
</cp:coreProperties>
</file>