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0C4F-A7E4-4C2B-8183-DEF85E9F3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rm subject/grade similar groups for Pair and Share to remain constant throughout cour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wiki or other resource to collect presentations on one computer for Pair and Sh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 a wiki or other resource to record ideas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`````````````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B563-F11A-4CC0-9727-68BFE857D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CFD9-5EAF-4403-BE56-662A3EBC1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choose to use a wiki to record the ideas of your Participant Teachers, set up the starting page of the wiki and add the URL to this sl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D2B9-E3E2-4986-B7C4-F60F9B8B4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F000-9121-4375-866B-894088001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 the URL for the blogging site you have chosen for use during this cours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B9DC-5DE9-431F-8EE5-0F6784463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lect index cards at the end of the training; discuss them the next morning, where appropri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5C91-77D5-4B67-9336-BEA4D0931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EFDB-761B-40BA-89D2-340CE8228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4E51-B1B8-4101-A5CD-36CF500A8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B8668-2190-4BB6-AF11-24C54901D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15311-6765-4E4D-9E48-293497615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A1A3-6706-4005-84F5-E5A0F32A0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DD0C-C068-479C-A376-24766A5ED3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5133-82AF-42CD-B8BA-113307EC9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C614-968B-44BC-983B-F102FFDD7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A600-353D-4705-86F7-1D344B1EA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C1AC-0C65-4D20-BC54-7796D2A8F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23B2-660B-4F5C-BA54-F81EEBC65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1652-FAD1-4311-9701-EF8AEC8DD4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50BF-A372-4DC7-8E56-67686424EC2D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0920"/>
            <a:ext cx="82296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028520"/>
            <a:ext cx="823752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 Creating Samples of Learni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project outcomes (presentation, publication, wiki, blog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97C09-6BA5-4AC4-B9A8-F3E2E5AE7E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3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3 present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3 Checklist in MT Appendix C.2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2944-3E7E-4F09-8C4E-92810006B5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Present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1 – 3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523800" y="1887480"/>
            <a:ext cx="802656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what kind of feedback you would like to receive from your colleag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are your Unit Portfolio Presentation with the embedded assess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feedback to your colleagues about their presentations and assessm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your colleagues’ suggestions if you wis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8F5D-3960-4869-AD8B-AC4056F68D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Meeting Standards in a Student-Centered Classroom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522360" y="2324160"/>
            <a:ext cx="8229600" cy="30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the question assigned to your group by the facilitator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that students meet standards in open-ended activities and projec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students are in charge of their own learning, how will we be sure they learn what is importa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7776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do I ensure accountability when students are working in group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one person to record your thoughts in the wik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1903-07AF-4314-9133-9E6C58B2906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Targeting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511200" y="1859040"/>
            <a:ext cx="7880400" cy="42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learning objecti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do students need to conduct research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your unit, when could students' learning be enhanced by communicating with other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ere in your unit would collaboration be beneficial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you ensure students are using problem solving strategies throughout your unit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how you could incorporate the Internet in your unit to help students do research, communicate, and collabora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8DA37-6AFA-477A-B041-19F4214C7AF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Modeling and Teaching Legal and Ethical Practice Related to Technology Us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Exploring Copyrigh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5)</a:t>
            </a:r>
            <a:br>
              <a:rPr sz="3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5520" y="2787480"/>
            <a:ext cx="82375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ke the copyright quiz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“Copyright Chaos”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28120" indent="-5281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how copyright law and fair use guidelines will impact your classroom (optional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050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465120" y="4340160"/>
            <a:ext cx="80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iting Sourc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4865760"/>
            <a:ext cx="82155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Works Cited resources, examples, and templa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Works Cited document and save to your unit_support folder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64A6A-48F4-426D-9866-03787BF839E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2428920"/>
            <a:ext cx="822960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sing Search Eng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rrow your sear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keywords to find information for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-339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ag or bookmark sites you might like to u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1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Locating Internet Resourc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07 – 3.0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79520" y="4151160"/>
            <a:ext cx="8272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pecialized Search Eng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are researching an unusual subject or you want to make sure your sites are age-appropriate, you may want to use a specialized search engi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7995A-04EA-459F-B55A-A4B193FE9FF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97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5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Using the Internet for Research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Finding Media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8)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490680" y="2281320"/>
            <a:ext cx="803592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cate one or more good multimedia research resources for your uni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images, sounds, or videos, if appropriate, for your un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495360" y="3757680"/>
            <a:ext cx="7561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Evaluating the We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09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Web site evaluation forms for teachers and stud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1965-B35E-4705-923E-D56DD3E78CF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Communicating with the World through the Internet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Internet Communication Tools 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576520"/>
            <a:ext cx="841860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sidering Communication Too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1 –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e a communication tool in more depth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484200" y="3749760"/>
            <a:ext cx="786780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651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mail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a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ant Messaging (IM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rvey/Pollin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5120" indent="-46512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oice Over Internet Protocol (VoIP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3.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F1EB0-6E4C-4100-9F88-7BA0D92E7A2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sidering Web-based Collaborative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4 – 3.17)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930320"/>
            <a:ext cx="823752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benefits and drawbacks of blogs, wikis, and online collaborative editing Web si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online collaborative spreadshee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d the system-generated e-mail inviting you to collaborate on the document titled Using_Web 2.0_Tools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gin to the site with your e-mail and passwor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how you could use one communication tool and one collaboration tool in your classroom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5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BD89-2DF3-4C0E-91A6-04B19C46F74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254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2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2: Planning My Unit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 (partial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Self-Refl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E334A-ED4D-4D3D-A088-83D4172A725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000" y="80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3.18 and 3.20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276120" y="2324160"/>
            <a:ext cx="8621640" cy="3200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Internet can be a powerful tool for research, collaboration, and communic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guidelines describe the ways in which copyrighted materials may be used legall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orks Cited documents can be created in a variety of formats for students of all age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skilled use of search strategies enables students and teachers to find useful information efficiently on the Web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 variety of factors must be considered when determining the credibility and value of a Web sit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-mail, online chats, instant messaging, and Voice Over IP technology allow students to communicate with people all over the world through the Internet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logs, wikis, and online collaborative documents allow students to collaborate on proje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705D3-DADB-42DC-9F1C-DF7002294F2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0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8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s module has helped me think about the impact of the Internet on my students’ learning in the following ways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DDFE-9FE9-49A3-9D1A-22F4C75CB4A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corporating the Interne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3.1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5760" y="1805040"/>
            <a:ext cx="830736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notes for integrating the Internet into your un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lect one or more Internet tools and briefly describe ways you will use them to support the learning goals of your unit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F50D-A2A6-4CE2-84AB-CFB33F12F0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427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14440" y="1271520"/>
          <a:ext cx="8272440" cy="284004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400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507960" y="4114800"/>
            <a:ext cx="8272440" cy="14122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0EAC-8D9B-4BB6-A86B-94B3DAE2757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42D71-B887-4EE3-A753-704EFDEE6B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28480" y="18432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23800" y="1092240"/>
          <a:ext cx="8272440" cy="2666880"/>
        </p:xfrm>
        <a:graphic>
          <a:graphicData uri="http://schemas.openxmlformats.org/drawingml/2006/table">
            <a:tbl>
              <a:tblPr/>
              <a:tblGrid>
                <a:gridCol w="2685960"/>
                <a:gridCol w="558648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4: Creating Samples of Lear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oject outcomes from a student perspectiv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31840" indent="-231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y strategies to ensure safe and responsible Internet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ample student publication, presentation, wiki, or blog to demonstrate student lear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Instructional Procedur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student samp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31840" indent="-23184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36400" y="3782880"/>
            <a:ext cx="8274240" cy="20408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my unit expectations and improve my instructional design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E0F39-2B3D-4946-9B23-CCFC44CD35C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 Going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5760" y="121428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8: Showcasing Unit Portfolio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haring learn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5DD7-B150-4C5B-88CE-947D40089D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4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4 presenta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36520" indent="-236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3 Checklist in MT Appendix C.2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9C38B-8F01-4137-856A-2EC80122F2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8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ir and Share: Incorporating the Internet into Unit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495360" y="1828800"/>
            <a:ext cx="78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ollow the instructions to use a wiki to share your ideas on how you plan to incorporate the use of the Internet in your uni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23800" y="3346560"/>
            <a:ext cx="801072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is your unit abou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are your Curriculum-Framing Ques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you incorporate the use of the Internet in your unit for research, collaboration, and communicatio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will the use of the Internet help students develop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and higher-order thinking skill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feedback or additional ideas are you looking for during this ti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5041D-25F4-436E-B301-0B0363ED8F6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7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2.25 and 2.31)</a:t>
            </a:r>
            <a:br>
              <a:rPr sz="22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9200" y="2193840"/>
            <a:ext cx="8307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urriculum-Framing Questions:  An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Essential Question, Unit Questions, and Content Question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3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42800" y="2857680"/>
            <a:ext cx="8143920" cy="25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ments for project-based units should: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Be embedded throughout the learning cycl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ssess the important objectives of the uni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gage students in assessment processe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e a variety of assessment strategies that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Gauge student need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courage self-direction and collabora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Monitor progres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heck for understanding and encourage metacognition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087560" indent="-173160">
              <a:lnSpc>
                <a:spcPct val="100000"/>
              </a:lnSpc>
              <a:buClr>
                <a:srgbClr val="ffffff"/>
              </a:buClr>
              <a:buFont typeface="Verdan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e understanding and ski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469800" y="5079960"/>
            <a:ext cx="777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Curriculum-Framing Questions help support my students' learning?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plan ongoing student-centered assessment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393840" y="2158920"/>
            <a:ext cx="8216640" cy="367056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DB972-65FA-43D9-A30E-E7D25EC1CDF4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65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edagogical Practices: Helping Students Adapt to a Project-Based Classroom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02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82760" y="2309760"/>
            <a:ext cx="786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rm groups to discuss how can we help all students successfully complete project tasks with the ability to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95360" y="3408480"/>
            <a:ext cx="754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t manageable go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nage timelines and adjust as necessa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nerate and investigate questions about their 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 productively with oth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flect and plan for improve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5C9B-BB99-430C-B1C2-21F54C9087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4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Examining Student Sample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3 – 4.0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495360" y="1658880"/>
            <a:ext cx="78231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a student sample presentation, newsletter/newspaper, poster, wiki, or blog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en the associated Unit Plan and view the Curriculum-Framing Questions, the targeted standards, and learning objectiv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ote how the activities in the classroom support the creation of the student product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view the student sample and assessment and discuss these questions with a partne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1015920" y="4368960"/>
            <a:ext cx="79250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Considering the learning objectives and assessment, how does the student sample effectively demonstrate student learning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What 21st century skills does the student sample demonstrate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student sample help to answer the Curriculum-Framing Question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Verdana"/>
              </a:rPr>
              <a:t>How does the chosen technology tool enable students to enhance their learning, increase productivity, and promote creativity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1DF2-12B0-47B6-8AE8-BD5D272010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79992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Project Desig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09760" y="2395440"/>
            <a:ext cx="7924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525600" y="3279600"/>
            <a:ext cx="7691400" cy="22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75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Aft>
                <a:spcPts val="901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B7F2-0E95-4E32-895C-6AFF54E461F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3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Connecting My Student Sample to Questions, Objectives and 21st Century Skil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6 – 4.07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80960" y="2908440"/>
            <a:ext cx="7721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nk about how a project-approach to learning can help your students meet your learning goa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946080" y="3720960"/>
            <a:ext cx="750420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eal-world connections are possible for your unit?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scenarios might help your students make those real-world connection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roles might your students pla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hat tasks might they complete as they carry out those role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50800" y="5284800"/>
            <a:ext cx="7620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.  Consider ways to use math to improve your students’ thinking skills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AE01D-623D-4DDC-A608-32A0EF858A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88560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200"/>
            </a:br>
            <a:br>
              <a:rPr sz="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hoosing the Best Tool for the Job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07 – 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71600" y="2558880"/>
            <a:ext cx="8229600" cy="5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velop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</a:rPr>
              <a:t>possible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ideas for your student sampl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438120" y="3062160"/>
            <a:ext cx="7388280" cy="23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letter, newspaper, or broch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6CB2-F170-468C-873D-CB322F175A1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My Student Sample</a:t>
            </a:r>
            <a:br>
              <a:rPr sz="3600"/>
            </a:b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4: Planning the Content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ag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41360" y="2490480"/>
            <a:ext cx="822960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sections on Technology Integration and Instructional Design in the Portfolio Rubri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checklist and storyboard templates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Student Sampl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or print any planning documents you would like to use in your student samp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E43B-4E47-40E8-B2E4-78DD7BC6022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5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3: Looking at Learning from a Student Perspectiv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6516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e a student sample using one of these option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resenta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1 –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publication (newsletter, newspaper, brochure, or poster)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wiki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)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Option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reating a student sample blog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3 – 4.14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9E72-DCAF-4FA4-81A1-FAD80AAAC23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Revisiting My Unit Pla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4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760" y="166680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Instructional Procedures section of the Unit Plan Checklis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raft your Instructional Procedu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necessary, revise your standards and objectiv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75E0-87C6-4373-9D54-B60FD63AF04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43080" y="88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700"/>
            </a:br>
            <a:br>
              <a:rPr sz="10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Reflecting on My Learning</a:t>
            </a:r>
            <a:br>
              <a:rPr sz="1400"/>
            </a:b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4.15 and 4.18)</a:t>
            </a:r>
            <a:br>
              <a:rPr sz="2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406440" y="2386080"/>
            <a:ext cx="815796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Key Poi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Planning and developing a student product requir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Answering the unit's Curriculum-Framing Question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understanding of concepts, skills, and knowled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Demonstrating higher-order and 21</a:t>
            </a:r>
            <a:r>
              <a:rPr b="0" lang="en-US" sz="1400" spc="-1" strike="noStrike" baseline="30000">
                <a:solidFill>
                  <a:srgbClr val="ffffff"/>
                </a:solidFill>
                <a:latin typeface="Verdana"/>
              </a:rPr>
              <a:t>s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century sk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reating real-world connections for students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Using technology appropriately and effective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366840" y="4143240"/>
            <a:ext cx="740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decision to use a particular technology should be based on its strengths in supporting the desired content and learning objectiv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" y="4694400"/>
            <a:ext cx="7967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the creation of a student sample help me clarify unit expectations and improve my instructional design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can I ensure students will achieve the learning objectives when creating their student projects?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18960" y="2351160"/>
            <a:ext cx="7983720" cy="358452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B7DC1-EEA1-4D73-8591-CE330D0F3EF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br>
              <a:rPr sz="1600"/>
            </a:b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49280" y="246204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copy and paste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21438-98A5-4195-81BD-6C3ABC43947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 </a:t>
            </a:r>
            <a:br>
              <a:rPr sz="1300"/>
            </a:br>
            <a:br>
              <a:rPr sz="17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6: Reflecting on My Learning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600"/>
            </a:br>
            <a:br>
              <a:rPr sz="20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 Blogging My Journey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2.25)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449280" y="2847960"/>
            <a:ext cx="8383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blog entry in your personal blog site, paste in the following prompt, and write your respon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This module has helped me think about using standards, CFQs or formative assessment in the following way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CCFEF-04ED-4481-BB22-558EB54BF35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4: Creating Samples of Learning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: Reflecting on My Student Sampl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4.18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760" y="190512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preparation for the Pair and Share in Module 5, use the Portfolio Rubric to assess how the student sample you created in the module meets your design goal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36800" indent="-457200">
              <a:spcAft>
                <a:spcPts val="499"/>
              </a:spcAft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sider what feedback you would like from your colleagues to help you improve your student samp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4B41-7786-4429-A376-40798F7451C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8680" y="39168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19040" y="1252440"/>
          <a:ext cx="8245440" cy="3009960"/>
        </p:xfrm>
        <a:graphic>
          <a:graphicData uri="http://schemas.openxmlformats.org/drawingml/2006/table">
            <a:tbl>
              <a:tblPr/>
              <a:tblGrid>
                <a:gridCol w="2428920"/>
                <a:gridCol w="581652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5: Assessing Student 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ormative and summative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4040" indent="-28404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Obtain feedback to improve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xplore challenges and solutions for involving students in the assessment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elf-assess your current assessment pract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raft Assessment Summar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summative assessment for your student samp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student sample based on your summative assess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se your Unit P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84040" indent="-28404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420840" y="4268880"/>
            <a:ext cx="8242200" cy="109404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assess student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do I involve students in the assessment process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7038-4E21-4CA8-886F-55EBB5CB475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ake-Home Assignment for Master Teacher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Master Teacher Self-Reflection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 Print version is available in Master Teacher Appendix C.0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lectronic version is located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Training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S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F5CD-C192-4903-85BF-12D85C450FA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42660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ment Cards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06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comment cards to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sitive Comment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r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r comfort level with the course so f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039F4-A60F-482B-8AED-F380D102CE9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95B93-37B6-485F-9D48-39A93CA7B17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2: Planning My Unit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 Activity 1: </a:t>
            </a:r>
            <a:r>
              <a:rPr b="1" lang="en-US" sz="3000" spc="-1" strike="noStrike">
                <a:solidFill>
                  <a:srgbClr val="ffffff"/>
                </a:solidFill>
                <a:latin typeface="Verdana"/>
              </a:rPr>
              <a:t>Broadening My Understanding of Essential Questions</a:t>
            </a:r>
            <a:br>
              <a:rPr sz="16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reating Project Ideas for an Essential Question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2.26 – 2.28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4120" y="3211560"/>
            <a:ext cx="8307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new project ideas for a single Essential Ques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ainstorm other units that could connect to your existing Essential Ques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vising My CFQs (optional)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2.29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85CAB-2716-43C6-8F6C-51BF870ED4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9720" y="275760"/>
            <a:ext cx="82296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22280" y="1771560"/>
          <a:ext cx="8386920" cy="2386080"/>
        </p:xfrm>
        <a:graphic>
          <a:graphicData uri="http://schemas.openxmlformats.org/drawingml/2006/table">
            <a:tbl>
              <a:tblPr/>
              <a:tblGrid>
                <a:gridCol w="2556000"/>
                <a:gridCol w="583092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407880" y="1181160"/>
          <a:ext cx="8382240" cy="560160"/>
        </p:xfrm>
        <a:graphic>
          <a:graphicData uri="http://schemas.openxmlformats.org/drawingml/2006/table">
            <a:tbl>
              <a:tblPr/>
              <a:tblGrid>
                <a:gridCol w="8382240"/>
              </a:tblGrid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50720" y="434808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D162B-5D50-4A8E-A5D6-68517C44D61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3: 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78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271520"/>
            <a:ext cx="823752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2DB1-D523-42FF-9228-D0CE05B11A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7720" y="1724040"/>
          <a:ext cx="8386920" cy="2386080"/>
        </p:xfrm>
        <a:graphic>
          <a:graphicData uri="http://schemas.openxmlformats.org/drawingml/2006/table">
            <a:tbl>
              <a:tblPr/>
              <a:tblGrid>
                <a:gridCol w="2889360"/>
                <a:gridCol w="5497560"/>
              </a:tblGrid>
              <a:tr h="238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he Internet to suppo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eaching and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e ideas for meeting standards with projec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view copyright laws and fair u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reate Works Cited docu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grate the use of Internet resources into unit to support research, communication, collaboration, problem solving, and/or other 21st century skill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se online collaborative Web site to share unit id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b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479520" y="1147680"/>
          <a:ext cx="8381880" cy="560520"/>
        </p:xfrm>
        <a:graphic>
          <a:graphicData uri="http://schemas.openxmlformats.org/drawingml/2006/table">
            <a:tbl>
              <a:tblPr/>
              <a:tblGrid>
                <a:gridCol w="838188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3: Making Conne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500040" y="4110120"/>
            <a:ext cx="8383680" cy="12826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ule Question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use the Internet to support my teaching and students' learning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3920" indent="-22392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ensure responsible and appropriate use of the Internet?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99F5-C5AD-4D41-98DD-3C85CDC4CCD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6-09T17:50:54Z</dcterms:modified>
  <cp:revision>94</cp:revision>
  <dc:subject/>
  <dc:title>Presentation Title Goes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Exploration</vt:lpwstr>
  </property>
</Properties>
</file>