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9F60-9EE2-4CEB-BA0D-AB0D3F668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B8B6-97D7-4146-9C91-5A2C2C4B4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 your class ID number and your MT User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3A0AE-8659-4428-8EE1-2523A3588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B2932-03CF-4035-841F-E54FC4CDFC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7B02-4068-48E1-8FCA-08B3A5181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2A081-87EF-4127-BE92-5B301FE28B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A15A0-F630-42F0-B4B4-88B162C90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1C4E7-23C3-49B8-BB9F-44B24BEBF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B9E8-6658-4F66-8679-D53A22F96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97A3-F949-4E92-B6F0-4084579C8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9C4A-496E-4A46-9862-EE8FB5E40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805EE-C402-408C-9762-801AF8F97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5231-D77D-4C83-B587-ACCAD9872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6255-4B55-47C0-8561-B67F3D78BB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A768-BC27-4F76-AEB7-9E4E451A8BE6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87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chonline.intel.com/courseupdate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teachfuture/eva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ntel.com/education/teachfuture/eva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057400" y="5448240"/>
            <a:ext cx="64008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y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57120" y="1203480"/>
          <a:ext cx="8229600" cy="2041200"/>
        </p:xfrm>
        <a:graphic>
          <a:graphicData uri="http://schemas.openxmlformats.org/drawingml/2006/table">
            <a:tbl>
              <a:tblPr/>
              <a:tblGrid>
                <a:gridCol w="2424240"/>
                <a:gridCol w="580536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63600" y="3271680"/>
            <a:ext cx="8229600" cy="1801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26880" y="341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4DE3-5CD7-43D9-A834-3B7C7316A5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34720"/>
            <a:ext cx="82296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Responsibiliti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40" y="113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resources in the Master Teacher Appendix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Responsibilities and Checklis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Milestones - MT Appendix C.0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Preparation Checklists – Starting on MT Appendix C.1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Guide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iting Participant Teachers - MT Appendix C.06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uidelines for Training Participant Teachers - MT Appendix C.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Planning My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Appendix C.10; also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PT Form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in M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46F1-605A-4CE3-99CF-0E7CC9E91254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4CFE-F9FA-4FF3-82C8-833F05B8A75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Resourc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4840" y="104724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Master Teacher resources on the Essentials Course v 10.1 Overview at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http://teachonline.intel.com/courseupdate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000080" y="1811160"/>
            <a:ext cx="69357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gen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et Tools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e-to-One Computing Emph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dagogical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Module  Checkl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Pres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iting and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mpl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BEA3-9CBA-4994-8AD1-4D8FBDD3EEC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1360" y="86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51DA2-1FF0-44BA-9CA6-9440E75648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876240"/>
          <a:ext cx="8534160" cy="307188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2200" y="3944880"/>
            <a:ext cx="8516880" cy="192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D745-6931-4B09-AD1E-CB7A04DE34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view MT Resources for Module 8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9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iefly view the Module 8 presenta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Module 8 Checklist in MT Appendix C.2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06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75B90-92AA-49E5-9D27-2B2DB1C9BB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048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Completing Your Portfolio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01)</a:t>
            </a:r>
            <a:br>
              <a:rPr sz="13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0792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your Unit Plan Checklist and  Review your notes from to complete unfinished components and make final revisions to your Unit Portfolio in preparation for the Portfolio Showca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58B6-7594-48B6-934C-53355FDE33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55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Showcasing Student Projec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2 – 8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2040" y="2106360"/>
            <a:ext cx="82296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ideas for showcasing student wor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of the showcasing ideas could you most easily incorporate into your own classroom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would you need to do to prepare your students for an effective showcas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ould you support students in providing constructive feedback to their peers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trategies could you use to ensure students use the feedback from their peers as well as their own self-assessments to improve their work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9864B-5E7D-4EC2-A97B-2F91BE453CB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reparing for the Portfolio Showca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3 – 8.0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4200" y="1817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 to the wiki site. 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[Insert URL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your wiki showcase pag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be how you addressed the traits from the Portfolio Rubri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structional desig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chnology integr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strateg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pload portfolio components to your wi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of your 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ither a student support or facilitation resour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y other documen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ain how you want to receive feedbac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B63D8-6DAA-48D8-870B-8AB3028E68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ay 4 Agen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nt Card 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7: Facilitating with Technology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Responsibilities/Participant Teacher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Extran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aluation of the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rtificate of Comple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413F-68C1-4536-85E4-F47F66D8EED6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B2DFD-6804-4259-91F4-6576F51DAB2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Showcasing My Unit Portfolio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6 – 8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252252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guidelines for providing feedbac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oose among options for providing feedbac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wiki’s commenting fe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on a subpage in the presenter's wik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ype your feedback into the Showcase Feedback Fo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the link in the presenter's wiki to the blog site and provide feedback in a response to the blo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ll out a printed Showcase Feedback Form by hand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80960" y="1535040"/>
            <a:ext cx="80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is showcase is to share your final products with your colleagues, to see what they have created, and receive feedback on your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60BA-D3DA-45E1-BB86-0C76543BBD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520" y="-360"/>
            <a:ext cx="865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Extranet Overview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9680" y="1033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http://teachonline.intel.com/courseupdates and log 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er the Essentials Course v 10.1 Overvie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he MT Resources ta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navigation to find Intel® Teach Program Extranet instructio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pdate your personal information and passwor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ore left-channel navigation and online help feat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ppropriate, setup your first class and order your training material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closing class at the end of the course (Module 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evaluation of the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CB3C3-ACE4-44DB-ABF7-35AFDB25CF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5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Evaluating the Cour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859040"/>
            <a:ext cx="8237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online course evaluation at: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www.intel.com/education/teachfuture/ev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r Class ID number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ID NUMBER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Master Teacher’s User ID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USER ID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258920" indent="0"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41960" y="171360"/>
            <a:ext cx="25765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 Black"/>
              </a:rPr>
              <a:t>For Particip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 Black"/>
              </a:rPr>
              <a:t>Teachers On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060A-C0F2-47D1-80C7-E2A69AEAA37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22120" t="18945" r="23733" b="20510"/>
          <a:stretch/>
        </p:blipFill>
        <p:spPr>
          <a:xfrm>
            <a:off x="1039680" y="2500200"/>
            <a:ext cx="429444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9680" y="240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ticipant Evaluation 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73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ticipants log in at the PT Log-in Web Page to complete their evalua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2"/>
              </a:rPr>
              <a:t>www.intel.com/education/teachfuture/ev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443640" y="4024440"/>
            <a:ext cx="1933560" cy="609480"/>
          </a:xfrm>
          <a:prstGeom prst="wedgeRoundRectCallout">
            <a:avLst>
              <a:gd name="adj1" fmla="val -188425"/>
              <a:gd name="adj2" fmla="val 14739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Ts enter Class ID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6458040" y="4776840"/>
            <a:ext cx="1847880" cy="609480"/>
          </a:xfrm>
          <a:prstGeom prst="wedgeRoundRectCallout">
            <a:avLst>
              <a:gd name="adj1" fmla="val -192527"/>
              <a:gd name="adj2" fmla="val 8020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Ts enter your MT User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646F-7911-4AFB-B1A8-AB0A865FCD5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3096-3F8A-48BB-B098-ECE9C7E754B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ticipant Evaluation 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nts will view an introduction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gin Evalu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k PTs to respond to all questions by selecting the appropriate radio butt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ite PTs to include comments at the end of the surve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certain that all PTs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NIS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o close out of the survey Web pag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valuation will take approximately fifteen minutes to comple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will have access to evaluation results once you close the cla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E511-DC18-4300-BEAB-A47B4EF298C5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ADCFD-48DB-49EB-844B-7B7721999E0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3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800" y="211140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ents like a showcase allow the greater community to provide input for your students and to celebrate your students’ achievem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453960" y="3537000"/>
            <a:ext cx="811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7720" y="1992240"/>
            <a:ext cx="8393400" cy="3576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C6323-A085-4132-A3AE-E80AC8CAFCB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4200" y="59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flecting on the Cour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1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1600" y="179208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your personal blog, create an entry entitle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Reflection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copy and paste the following prompt into your entry, and write your respons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Of everything you learned, what do you think will have the biggest impact on student learnin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2.  Read all of your colleagues’ responses and start a conversation with any that interest you in their personal blog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480960" y="414828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4489560"/>
            <a:ext cx="799308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fer your files to a permanent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directed by your facilitator, remove all files that you developed during the course from the compu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move all CDs and disks from your compu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B947-30B6-4E7B-88A3-975667A8C8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0200" y="67140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.) (page 8.12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760" y="2242800"/>
            <a:ext cx="830736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gratulations on successfully complet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each Essentials Cours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Certificate of Completion is provided to acknowledge your effor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963D-CF18-40AC-BE97-B2132E25A92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1ACB-F82D-4877-8B3A-69A0CA79E3E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7: Facilitating with Technology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Facilitation Mate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4200" y="2750760"/>
            <a:ext cx="82296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ideas and areas of interest and your notes from the previous step. Create a new document, presentation, or web-based resource to support the facilitation of your uni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wish, modify existing support materials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0E20B-7FB7-4946-BCBC-E78C50ABC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mpleting My Instructional Procedur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560" y="2539800"/>
            <a:ext cx="804888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 and complete your Instructional Procedures section. Specify how you will incorporat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l and informal assessment throughout the instructional cy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skills instr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ti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, Unit, and Content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01480" indent="-5014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your Unit Plan Summary and the other sections of your Unit Pl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FA703-7889-4340-B588-D0FE9DAF4D9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for a Successful Projec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8 –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2760" y="25750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small groups discuss how you could address the following topics to ensure a successful project in your classroo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66560" y="3305160"/>
            <a:ext cx="8145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unicating about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ming and Tran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erials/Equipment/Technology/Outside Resources/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97AE9-39D7-4CA5-BAE1-6A56BB54D1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a Management Resour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2598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sample management resourc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management document for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8FEF9-D71F-4968-B89C-D68FD4F55D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Reflecting on My Unit as a Who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9800" y="1931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Review the Unit Plan Checklist to identify any missing or incomplete element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Unit Portfolio Checklist to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ensure you have completed all pieces for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Portfolio Rubric and highlight the descriptors that describe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note any changes you would like to make to your Unit Portfolio in the Unit Plan Check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4824-A176-406C-8102-7819C43FA1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776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1: Revising My Unit Portfoli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2960" y="21114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revise any components of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371520" y="2925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2: Reflecting on Professional Develop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12 – 7.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12920" y="3822840"/>
            <a:ext cx="78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inking about My Future Development and take notes about any resources you wish to explore in more detail in the fu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60D3-F371-46DB-840A-711A6DD2D1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4T23:26:14Z</dcterms:modified>
  <cp:revision>90</cp:revision>
  <dc:subject/>
  <dc:title>Presentation Title Goes Here</dc:title>
</cp:coreProperties>
</file>