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5B352-6030-4CC4-A46A-C0AE8C4EBB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 your class ID number and your MT UserI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A1345-A00F-4B8C-8592-5A725DC524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98A37-3B4F-4144-A811-9A8E01AAED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A4247-337E-4999-805D-451B49BB53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FB668-6976-49D8-BF16-2E93C4CE67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EF374-BA74-4756-83D2-E4391E65B0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742E9-25D1-45FF-BAD2-7505AE47BE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763ED-44CB-4166-B595-A2489634F6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DDF95-BE2F-4B60-9BA3-D4EB0640B5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B47CB-1EAE-4890-95CE-87840958C3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AD124-9DBA-4699-AC7A-752E8D47F7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9B6B6-15B7-429F-B176-2A4256FCAF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E959A-054F-4FD8-AD25-A09BAA27D1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9AC23-DB2F-4BE0-BF4C-8470904084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400800"/>
            <a:ext cx="415800" cy="2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278FE-82EE-4C59-948E-2529F207B45E}" type="slidenum">
              <a:rPr b="1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547040" y="6114960"/>
            <a:ext cx="1116000" cy="5572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966960" y="635004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  <a:ea typeface="Arial"/>
              </a:rPr>
              <a:t>Copyright © 2008,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547040" y="6114960"/>
            <a:ext cx="1116000" cy="557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241520"/>
            <a:ext cx="77724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478560" y="309600"/>
            <a:ext cx="2179800" cy="1089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44600" y="1725480"/>
            <a:ext cx="8253360" cy="2541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66960" y="635004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  <a:ea typeface="Arial"/>
              </a:rPr>
              <a:t>Copyright © 2087,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6478560" y="309600"/>
            <a:ext cx="2179800" cy="1089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intel.com/education/teachfuture/eval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intel.com/education/teachfuture/eval" TargetMode="External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teachonline.intel.com/courseupdates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2057400" y="5448240"/>
            <a:ext cx="640080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ssentials Course</a:t>
            </a:r>
            <a:br>
              <a:rPr sz="28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ay 4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4241520"/>
            <a:ext cx="77724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1" lang="en-US" sz="36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Teach Pro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0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7: Facilitating with Technology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8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3: Reflecting on My Unit as a Whole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7.10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9800" y="19317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MS PGothic"/>
              </a:rPr>
              <a:t>Review the Unit Plan Checklist to identify any missing or incomplete elements of your Unit Pla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ew the Unit Portfolio Checklist to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MS PGothic"/>
              </a:rPr>
              <a:t>ensure you have completed all pieces for your Unit Portfoli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ew the Portfolio Rubric and highlight the descriptors that describe your portfoli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ased on your self-assessment, note any changes you would like to make to your Unit Portfolio in the Unit Plan Checklist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46659-741B-4383-9312-04437D39222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47760" y="703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7: Facilitating with Technology </a:t>
            </a: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lanning Ahead</a:t>
            </a:r>
            <a:br>
              <a:rPr sz="3200"/>
            </a:br>
            <a:br>
              <a:rPr sz="16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ctivity 1: Revising My Unit Portfolio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7.11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72960" y="2111400"/>
            <a:ext cx="822960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ased on your self-assessment, revise any components of your Unit Portfoli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371520" y="29257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ctivity 2: Reflecting on Professional Development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s 7.12 – 7.13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"/>
          <p:cNvSpPr/>
          <p:nvPr/>
        </p:nvSpPr>
        <p:spPr>
          <a:xfrm>
            <a:off x="412920" y="3822840"/>
            <a:ext cx="788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ew Thinking about My Future Development and take notes about any resources you wish to explore in more detail in the futur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89565-B33E-4EA6-97C6-416B0FCF542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357120" y="1203480"/>
          <a:ext cx="8229600" cy="2041200"/>
        </p:xfrm>
        <a:graphic>
          <a:graphicData uri="http://schemas.openxmlformats.org/drawingml/2006/table">
            <a:tbl>
              <a:tblPr/>
              <a:tblGrid>
                <a:gridCol w="2424240"/>
                <a:gridCol w="5805360"/>
              </a:tblGrid>
              <a:tr h="3988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Verdana"/>
                          <a:ea typeface="Times New Roman"/>
                        </a:rPr>
                        <a:t>Module 8: Showcasing Unit Portfol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42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Topics: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haring lear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3920" indent="-223920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Key Activities: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Prepare for showcasing your un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Give and receive feedback on Unit Portfoli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Reflect on learning in your blo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Evaluate the Essentials Cour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363600" y="3271680"/>
            <a:ext cx="8229600" cy="180108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Essential Ques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3280" indent="-23328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ow can technology be used most effectively to support and assess student learning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Ques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3280" indent="-23328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ow can I prepare for and facilitate an effective showcase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33280" indent="-23328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ow can I provide constructive feedback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"/>
          <p:cNvSpPr/>
          <p:nvPr/>
        </p:nvSpPr>
        <p:spPr>
          <a:xfrm>
            <a:off x="326880" y="3412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ooking Ahea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FFDC3-80DA-4310-BE7D-B6039337472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4781160"/>
            <a:ext cx="87631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1" lang="en-US" sz="36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Teach Pro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0" y="5474880"/>
            <a:ext cx="876312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ssentials Cour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odule 8: Showcasing Unit Portfolio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89080"/>
            <a:ext cx="822960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here We Wer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41360" y="860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1: Teaching with Projec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Project-based learning and unit desig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2: Planning My Un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Curriculum-Framing Questions and ongoing student-centered assess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3: Making Connection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The Internet to support teaching and learn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4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Creating Samples of Learn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Project outcomes from a student perspectiv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5: Assessing Student Projec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Formative and Summative Assess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6: Planning for Student Succes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Student Support and Self-Direc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7: Facilitating with Technolog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Teacher as Facilitato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33A2C-DC44-4D33-A825-66DAF2DE231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6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here We Ar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04920" y="876240"/>
          <a:ext cx="8534160" cy="3071880"/>
        </p:xfrm>
        <a:graphic>
          <a:graphicData uri="http://schemas.openxmlformats.org/drawingml/2006/table">
            <a:tbl>
              <a:tblPr/>
              <a:tblGrid>
                <a:gridCol w="2514600"/>
                <a:gridCol w="6019560"/>
              </a:tblGrid>
              <a:tr h="520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odule 8: Showcasing Unit Portfoli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51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Topics: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haring lear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3920" indent="-223920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utcomes: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Prepare for showcasing your un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Give and receive feedback on Unit Portfol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Reflect on learning in your blo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Evaluate the Essentials Cour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"/>
          <p:cNvSpPr/>
          <p:nvPr/>
        </p:nvSpPr>
        <p:spPr>
          <a:xfrm>
            <a:off x="322200" y="3944880"/>
            <a:ext cx="8516880" cy="192348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Essential Ques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3280" indent="-23328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can technology be used most effectively to support and assess student learning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Ques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3280" indent="-23328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can I prepare for and facilitate an effective showcas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3280" indent="-23328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can I provide constructive feedback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D9398-BEB7-45F3-A0DF-AFF7B4EB58A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Review MT Resources for Module 8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90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2872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riefly view the Module 8 presentation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7280" indent="-2872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iew the Module 8 Checklist in MT Appendix C.26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806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ED668-29EE-43EE-9922-7CC3ED20710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20480"/>
            <a:ext cx="8229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8: Showcasing Unit Portfolios</a:t>
            </a: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1: Completing Your Portfolio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8.01)</a:t>
            </a:r>
            <a:br>
              <a:rPr sz="1300"/>
            </a:b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07920"/>
            <a:ext cx="82296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e your Unit Plan Checklist and  Review your notes from to complete unfinished components and make final revisions to your Unit Portfolio in preparation for the Portfolio Showcas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F61A9-1309-4955-9C2D-C65B555B041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553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8: Showcasing Unit Portfolios</a:t>
            </a: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2: Planning a Showcase</a:t>
            </a:r>
            <a:br>
              <a:rPr sz="3200"/>
            </a:br>
            <a:br>
              <a:rPr sz="16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1: Showcasing Student Projects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s 8.02 – 8.03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2040" y="2106360"/>
            <a:ext cx="8229600" cy="37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scuss ideas for showcasing student work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51000" indent="-35100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ich of the showcasing ideas could you most easily incorporate into your own classroom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51000" indent="-35100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at would you need to do to prepare your students for an effective showcase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51000" indent="-35100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could you support students in providing constructive feedback to their peers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51000" indent="-35100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at strategies could you use to ensure students use the feedback from their peers as well as their own self-assessments to improve their work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4BD0B-2375-4A6E-A5F3-DC3E6F43410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88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8: Showcasing Unit Portfolios</a:t>
            </a: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2: Planning a Showcase</a:t>
            </a:r>
            <a:br>
              <a:rPr sz="32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2: Preparing for the Portfolio Showcase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s 8.03 – 8.05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84200" y="1817280"/>
            <a:ext cx="82296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5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o to the wiki site. </a:t>
            </a:r>
            <a:r>
              <a:rPr b="0" lang="en-US" sz="1800" spc="-1" strike="noStrike">
                <a:solidFill>
                  <a:srgbClr val="ccecff"/>
                </a:solidFill>
                <a:latin typeface="Verdana"/>
              </a:rPr>
              <a:t>[Insert URL]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reate your wiki showcase page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escribe how you addressed the traits from the Portfolio Rubric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-457200">
              <a:spcBef>
                <a:spcPts val="400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nstructional desig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-457200">
              <a:spcBef>
                <a:spcPts val="400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echnology integratio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-457200">
              <a:spcBef>
                <a:spcPts val="400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ssessment strategie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Upload portfolio components to your wik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-457200">
              <a:spcBef>
                <a:spcPts val="400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Unit Pla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-457200">
              <a:spcBef>
                <a:spcPts val="400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ssessment of your student sampl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-457200">
              <a:spcBef>
                <a:spcPts val="400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tudent sampl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-457200">
              <a:spcBef>
                <a:spcPts val="400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Either a student support or facilitation resourc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-457200">
              <a:spcBef>
                <a:spcPts val="400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ny other documents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xplain how you want to receive feedback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B0A91-077D-4F27-8FAE-254B35EA13B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ay 4 Agend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55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ment Card Review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aster Teacher Responsibilities/Participant Teacher Cours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odule 7: Facilitating with Technology (Cont.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odule 8: Showcasing Unit Portfolio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0" lang="en-US" sz="20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Teach Program Extrane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valuation of the Cours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ertificate of Comple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29F9C-DBE1-4F6B-BF84-374FF513709A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1620D-385A-433A-8F19-5F1C5D4F9C08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36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8: Showcasing Unit Portfolios</a:t>
            </a: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3: Showcasing My Unit Portfolio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s 8.06 – 8.07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5760" y="2522520"/>
            <a:ext cx="822960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llow guidelines for providing feedback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hoose among options for providing feedback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1028880" indent="-45720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e the wiki’s commenting featur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1028880" indent="-45720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cord your thoughts on a subpage in the presenter's wik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1028880" indent="-45720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ype your feedback into the Showcase Feedback For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1028880" indent="-45720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llow the link in the presenter's wiki to the blog site and provide feedback in a response to the blog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1028880" indent="-45720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ll out a printed Showcase Feedback Form by hand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/>
          <p:nvPr/>
        </p:nvSpPr>
        <p:spPr>
          <a:xfrm>
            <a:off x="480960" y="1535040"/>
            <a:ext cx="8021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goal of this showcase is to share your final products with your colleagues, to see what they have created, and receive feedback on your work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3F7D2-3D5B-4F71-94D8-B7BAF2ED862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6520" y="-360"/>
            <a:ext cx="8655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aster Teacher Extranet Overview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09680" y="1033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o to: http://teachonline.intel.com/courseupdates and log i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nter the Essentials Course v 10.1 Overview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he MT Resources tab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e the navigation to find Intel® Teach Program Extranet instruction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1092240" indent="-457200">
              <a:spcBef>
                <a:spcPts val="249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pdate your personal information and passwor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1092240" indent="-457200">
              <a:spcBef>
                <a:spcPts val="249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plore left-channel navigation and online help featur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1092240" indent="-457200">
              <a:spcBef>
                <a:spcPts val="249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f appropriate, setup your first class and order your training material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1092240" indent="-457200">
              <a:spcBef>
                <a:spcPts val="249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scuss closing class at the end of the course (Module 8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1092240" indent="-457200">
              <a:spcBef>
                <a:spcPts val="249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plete the evaluation of the cours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328A9-B302-43BF-B6D5-4DDFBA8574E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31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8: Showcasing Unit Portfolios</a:t>
            </a:r>
            <a:r>
              <a:rPr b="1" lang="en-US" sz="15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15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4: Evaluating the Cours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8.10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5760" y="1859040"/>
            <a:ext cx="823752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119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plete the online course evaluation at: </a:t>
            </a:r>
            <a:r>
              <a:rPr b="0" lang="en-US" sz="2000" spc="-1" strike="noStrike" u="sng">
                <a:solidFill>
                  <a:srgbClr val="ccecff"/>
                </a:solidFill>
                <a:uFillTx/>
                <a:latin typeface="Verdana"/>
                <a:hlinkClick r:id="rId1"/>
              </a:rPr>
              <a:t>www.intel.com/education/teachfuture/eval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119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ur Class ID number is: </a:t>
            </a:r>
            <a:r>
              <a:rPr b="0" lang="en-US" sz="2000" spc="-1" strike="noStrike">
                <a:solidFill>
                  <a:srgbClr val="ccecff"/>
                </a:solidFill>
                <a:latin typeface="Verdana"/>
              </a:rPr>
              <a:t>[ADD ID NUMBER]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119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Master Teacher’s User ID is: </a:t>
            </a:r>
            <a:r>
              <a:rPr b="0" lang="en-US" sz="2000" spc="-1" strike="noStrike">
                <a:solidFill>
                  <a:srgbClr val="ccecff"/>
                </a:solidFill>
                <a:latin typeface="Verdana"/>
              </a:rPr>
              <a:t>[ADD USER ID]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1258920" indent="0">
              <a:buNone/>
              <a:tabLst>
                <a:tab algn="l" pos="0"/>
                <a:tab algn="l" pos="119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141960" y="171360"/>
            <a:ext cx="257652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ecff"/>
                </a:solidFill>
                <a:latin typeface="Arial Black"/>
              </a:rPr>
              <a:t>For Participa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ec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ecff"/>
                </a:solidFill>
                <a:latin typeface="Arial Black"/>
              </a:rPr>
              <a:t>Teachers Onl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ecff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A2046-8CB0-401F-90EB-AF617918C5D1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rcRect l="22120" t="18945" r="23733" b="20510"/>
          <a:stretch/>
        </p:blipFill>
        <p:spPr>
          <a:xfrm>
            <a:off x="1039680" y="2500200"/>
            <a:ext cx="4294440" cy="36007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9680" y="240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articipant Evaluation Procedur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7304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articipants log in at the PT Log-in Web Page to complete their evaluation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ecff"/>
                </a:solidFill>
                <a:uFillTx/>
                <a:latin typeface="Verdana"/>
                <a:hlinkClick r:id="rId2"/>
              </a:rPr>
              <a:t>www.intel.com/education/teachfuture/eva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/>
          <p:nvPr/>
        </p:nvSpPr>
        <p:spPr>
          <a:xfrm>
            <a:off x="6443640" y="4024440"/>
            <a:ext cx="1933560" cy="609480"/>
          </a:xfrm>
          <a:prstGeom prst="wedgeRoundRectCallout">
            <a:avLst>
              <a:gd name="adj1" fmla="val -188425"/>
              <a:gd name="adj2" fmla="val 147398"/>
              <a:gd name="adj3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Ts enter Class ID numb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"/>
          <p:cNvSpPr/>
          <p:nvPr/>
        </p:nvSpPr>
        <p:spPr>
          <a:xfrm>
            <a:off x="6458040" y="4776840"/>
            <a:ext cx="1847880" cy="609480"/>
          </a:xfrm>
          <a:prstGeom prst="wedgeRoundRectCallout">
            <a:avLst>
              <a:gd name="adj1" fmla="val -192527"/>
              <a:gd name="adj2" fmla="val 80208"/>
              <a:gd name="adj3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Ts enter your MT UserI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9D614-0CAF-49F3-8C4C-F129EF94C247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11229-9850-47C5-822A-546D82AB5D42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articipant Evaluation Procedur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393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-34596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articipants will view an introduction and then click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Begin Evaluation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5960" indent="-34596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sk PTs to respond to all questions by selecting the appropriate radio butto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5960" indent="-34596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vite PTs to include comments at the end of the survey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5960" indent="-34596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ake certain that all PTs click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FINISH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to close out of the survey Web pag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5960" indent="-34596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evaluation will take approximately fifteen minutes to complet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5960" indent="-34596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You will have access to evaluation results once you close the clas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5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448F2-0E9C-4081-BB1D-571E5EA6665D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81B71-3182-4EA6-BFBB-DBC3C6091270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67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8: Showcasing Unit Portfolios</a:t>
            </a: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5: Concluding the Course</a:t>
            </a:r>
            <a:br>
              <a:rPr sz="3200"/>
            </a:br>
            <a:br>
              <a:rPr sz="16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1: Reviewing the Module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8.13)</a:t>
            </a:r>
            <a:br>
              <a:rPr sz="2000"/>
            </a:b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42800" y="2111400"/>
            <a:ext cx="8307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8 Key Points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vents like a showcase allow the greater community to provide input for your students and to celebrate your students’ achievement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/>
          <p:nvPr/>
        </p:nvSpPr>
        <p:spPr>
          <a:xfrm>
            <a:off x="453960" y="3537000"/>
            <a:ext cx="8118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Essential Ques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5080" indent="-23508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can technology be used most effectively to support and assess student learning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5080" indent="-235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Ques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5080" indent="-23508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can I prepare for and facilitate an effective showcas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5080" indent="-23508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can I provide constructive feedback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477720" y="1992240"/>
            <a:ext cx="8393400" cy="357660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04971-AFF1-42A0-8137-7B305B15BF40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84200" y="593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8: Showcasing Unit Portfolios</a:t>
            </a: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5: Concluding the Course</a:t>
            </a:r>
            <a:br>
              <a:rPr sz="3200"/>
            </a:br>
            <a:br>
              <a:rPr sz="16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2: Reflecting on the Course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8.11)</a:t>
            </a:r>
            <a:br>
              <a:rPr sz="2000"/>
            </a:b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71600" y="1792080"/>
            <a:ext cx="822960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o to your personal blog, create an entry entitled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8 Reflection,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MS PGothic"/>
              </a:rPr>
              <a:t>copy and paste the following prompt into your entry, and write your response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MS PGothic"/>
              </a:rPr>
              <a:t>Of everything you learned, what do you think will have the biggest impact on student learning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MS PGothic"/>
              </a:rPr>
              <a:t>2.  Read all of your colleagues’ responses and start a conversation with any that interest you in their personal blog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>
            <a:off x="480960" y="4148280"/>
            <a:ext cx="80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3: Wrapping U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8.12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479520" y="4489560"/>
            <a:ext cx="7993080" cy="15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ransfer your files to a permanent loc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f directed by your facilitator, remove all files that you developed during the course from the computer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move all CDs and disks from your comput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49A19-AC54-4B16-BE5F-FE0F30281F2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30200" y="671400"/>
            <a:ext cx="8229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8: Showcasing Unit Portfolios</a:t>
            </a: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5: Concluding the Course</a:t>
            </a:r>
            <a:br>
              <a:rPr sz="3200"/>
            </a:br>
            <a:br>
              <a:rPr sz="16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3: Wrapping Up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cont.) (page 8.12)</a:t>
            </a:r>
            <a:br>
              <a:rPr sz="2400"/>
            </a:b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5760" y="2242800"/>
            <a:ext cx="8307360" cy="32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gratulations on successfully completing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Intel</a:t>
            </a:r>
            <a:r>
              <a:rPr b="0" lang="en-US" sz="28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Teach Essentials Course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A Certificate of Completion is provided to acknowledge your effort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7E789-9E17-4F8D-B90E-B43FC96131D0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217600" y="1908000"/>
            <a:ext cx="4953240" cy="2475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966960" y="635004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  <a:ea typeface="Arial"/>
              </a:rPr>
              <a:t>Copyright © 2008,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54381-2C60-476D-9456-86C249C419E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34720"/>
            <a:ext cx="8229600" cy="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aster Teacher Responsibiliti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19040" y="1131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iew resources in the Master Teacher Appendix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T Responsibilities and Checklis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aster Teacher Milestones - MT Appendix C.04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urse Preparation Checklists – Starting on MT Appendix C.11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urse Guidelin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cruiting Participant Teachers - MT Appendix C.06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uidelines for Training Participant Teachers - MT Appendix C.07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1500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plete Planning My Cours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T Appendix C.10; also available in the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PT Form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folder in MT Resourc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8AA50-4896-4E7D-8CC9-1413EEA80150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A51B0-7B68-41B4-8541-07CC6698889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aster Teacher Resourc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74840" y="1047240"/>
            <a:ext cx="822960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ew Master Teacher resources on the Essentials Course v 10.1 Overview at </a:t>
            </a:r>
            <a:r>
              <a:rPr b="0" lang="en-US" sz="2000" spc="-1" strike="noStrike" u="sng">
                <a:solidFill>
                  <a:srgbClr val="ccecff"/>
                </a:solidFill>
                <a:uFillTx/>
                <a:latin typeface="Verdana"/>
                <a:hlinkClick r:id="rId1"/>
              </a:rPr>
              <a:t>http://teachonline.intel.com/courseupdates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1000080" y="1811160"/>
            <a:ext cx="6935760" cy="45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gend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acilitating Discuss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ternet Tools Suppo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T Train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ne-to-One Computing Empha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edagogical Pract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T For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T Module  Checklis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T Present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cruiting and Train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empla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BCCF9-97AB-4B6B-8488-836F39BBFB7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4781160"/>
            <a:ext cx="87631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1" lang="en-US" sz="36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Teach Pro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0" y="5474880"/>
            <a:ext cx="876312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ssentials Cour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odule 7: Facilitating with Technology (cont.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88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7: Facilitating with Technology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800"/>
            </a:br>
            <a:br>
              <a:rPr sz="28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1: Designing Facilitation Resources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800"/>
            </a:br>
            <a:br>
              <a:rPr sz="16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3: Creating Facilitation Materials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7.06)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84200" y="2750760"/>
            <a:ext cx="8229600" cy="32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ew your ideas and areas of interest and your notes from the previous step. Create a new document, presentation, or web-based resource to support the facilitation of your unit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f you wish, modify existing support materials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B9299-5899-444C-A4ED-A0A24C9B413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4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7: Facilitating with Technology </a:t>
            </a: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2: Implementing a Successful Project </a:t>
            </a:r>
            <a:br>
              <a:rPr sz="28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1: Completing My Instructional Procedures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7.07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6560" y="2539800"/>
            <a:ext cx="8048880" cy="32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01480" indent="-5014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pen your Unit Plan and complete your Instructional Procedures section. Specify how you will incorporate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859320" indent="-4294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rmal and informal assessment throughout the instructional cyc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859320" indent="-4294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1st century skills instruc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859320" indent="-4294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fferenti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859320" indent="-4294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udent self-direc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859320" indent="-4294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ssential, Unit, and Content Ques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01480" indent="-501480">
              <a:lnSpc>
                <a:spcPct val="80000"/>
              </a:lnSpc>
              <a:spcBef>
                <a:spcPts val="1400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plete your Unit Plan Summary and the other sections of your Unit Plan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1BA7D-4C74-444E-A0A6-31165463999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802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7: Facilitating with Technology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8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2: Implementing a Successful Project </a:t>
            </a:r>
            <a:br>
              <a:rPr sz="2800"/>
            </a:br>
            <a:br>
              <a:rPr sz="16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2: Planning for a Successful Project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s 7.08 – 7.09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82760" y="2575080"/>
            <a:ext cx="82296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 small groups discuss how you could address the following topics to ensure a successful project in your classroom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/>
          <p:nvPr/>
        </p:nvSpPr>
        <p:spPr>
          <a:xfrm>
            <a:off x="466560" y="3305160"/>
            <a:ext cx="81457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municating about the Proj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iming and Transi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llabo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aterials/Equipment/Technology/Outside Resources/Facilit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ra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07ADD-0CDD-4BC5-A79D-77A740F618E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84200" y="788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7: Facilitating with Technology </a:t>
            </a: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2: Implementing a Successful Project </a:t>
            </a:r>
            <a:br>
              <a:rPr sz="2800"/>
            </a:br>
            <a:br>
              <a:rPr sz="16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3: Creating a Management Resource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7.09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5360" y="259884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iew sample management resource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reate a management document for your portfoli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BE118-A5BE-4C51-A1DE-479448CE29C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05:19:46Z</dcterms:created>
  <dc:creator>Kristen Merrill</dc:creator>
  <dc:description/>
  <dc:language>en-US</dc:language>
  <cp:lastModifiedBy>magrantx</cp:lastModifiedBy>
  <dcterms:modified xsi:type="dcterms:W3CDTF">2008-05-15T15:18:46Z</dcterms:modified>
  <cp:revision>91</cp:revision>
  <dc:subject/>
  <dc:title>Presentation Title Goes Here</dc:title>
</cp:coreProperties>
</file>