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D5B1-B587-491C-A2BC-7986585FA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E4352-15FD-46F4-95A0-C132D7C53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301680" y="4343400"/>
            <a:ext cx="6556320" cy="412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0A52-77BF-4846-9FEE-81DCB396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5545-B33A-43B6-8F2B-80C4CD4C9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A9613-3C10-44F6-AB61-0826374ED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E4EE9-986E-41A5-8D5E-9E7954E6C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6E66-4AD9-4668-845F-4691C82C3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AB25A-C14A-45F9-B961-610AEBAF91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71A1-F77F-4C0F-82DA-395AA57A0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1895-84CE-4F0F-820F-1800C0B47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749D-93D1-406C-A8F6-E7A5E89AFB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A76A8-F457-4D4E-920F-9CFE2A6D2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1DB29-242B-4BA3-B818-BC3A6BAE98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823AD-15A3-4BF3-BAC0-C7FD72F2A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F36A3-73AA-49BD-8844-EC0E14B33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EC64-20DB-47B2-8091-02D8B28B2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5359-7DB7-460C-9838-5B85A517E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EF20-1133-4703-A861-FE5A096AB293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istrict Incentives</a:t>
            </a:r>
            <a:br>
              <a:rPr sz="28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980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8DBC-F410-458B-8636-100D14F8D9A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ign Up Process</a:t>
            </a:r>
            <a:br>
              <a:rPr sz="3200"/>
            </a:b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[To be added by Master Teacher]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Details on class dates/schedul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Verdana"/>
              </a:rPr>
              <a:t>How teachers should contact you to sign u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0AABF-4784-4C88-83D2-2AD3C03D598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8CD73-7697-482F-81BB-049C90D8F43F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7FC9-75A6-4EB1-BA0A-1D04AB6D1C1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9D97-E849-4B41-996D-BD1F08B4896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EA781-73FA-474E-82CF-4F19A31155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79D3-A50B-422F-838E-E5F78AD43D5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F755-803B-4180-A2AF-2061E1DD407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ypical Module Schedu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82760" y="1308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ir and Shar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dagogical Practices Discuss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nds-On Activities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ying Unit Pla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nning Ahead Activit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ED6CE-2B64-4A80-A68B-809B4BC7696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61CE0-84AC-422E-B5F6-058BE88D47B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end all 32 hours of hands-on in-class trai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Ahead activities between sessions—up to 16 hours of out-of-class for planning activities and completion of unit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CDE3-BD80-414E-B64F-637A4C84A16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05T16:21:57Z</dcterms:modified>
  <cp:revision>53</cp:revision>
  <dc:subject/>
  <dc:title>Presentation Title Goes Here</dc:title>
</cp:coreProperties>
</file>