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5B84-EA76-4DEB-9F55-C4EA9ADFB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E8B2-0199-474F-9DBA-1E84EAD31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 your class ID number and your MT User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29145-FAB4-4377-8D7A-A056463D8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FAE38-6DA6-4645-8113-9A20BF665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5531-C79A-4BAA-B3EA-4F196D5FF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878D-7192-4243-9811-A4E2B6E8C5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A6DD1-AA44-4D6A-BF54-0EE6E1BAE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80A9-9D8D-4E11-8074-1E3E313A53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4516-882F-4A83-83A9-99661FD9B4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AD7C-13B1-4B36-A3B2-8C61B56D1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FBB5-DBEE-448B-ACC0-2E59172AEC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9D62-5901-43BA-AD2C-B397813925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EC8EA-C603-4958-AA0C-ABBDBBDC2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7349-5D77-43AA-B6C8-18B2FC991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E66E-8448-47B2-A412-5996C2F3010A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87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teachonline.intel.com/courseupdates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ntel.com/education/teachfuture/eval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intel.com/education/teachfuture/eval" TargetMode="Externa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28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ay 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57120" y="1203480"/>
          <a:ext cx="8229600" cy="2041200"/>
        </p:xfrm>
        <a:graphic>
          <a:graphicData uri="http://schemas.openxmlformats.org/drawingml/2006/table">
            <a:tbl>
              <a:tblPr/>
              <a:tblGrid>
                <a:gridCol w="2424240"/>
                <a:gridCol w="5805360"/>
              </a:tblGrid>
              <a:tr h="398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Key Activities: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63600" y="3271680"/>
            <a:ext cx="8229600" cy="1801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326880" y="3412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ooking Ahea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4085-C119-4836-9EF1-FA66FB31BB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34720"/>
            <a:ext cx="82296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ponsibiliti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9040" y="113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resources in the Master Teacher Appendix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Responsibilities and Checklis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Milestones - MT Appendix C.04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Preparation Checklists – Starting on MT Appendix C.1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Guidelin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Participant Teachers - MT Appendix C.06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uidelines for Training Participant Teachers - MT Appendix C.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15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Planning My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Appendix C.10; also available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in M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226F-F487-4441-B25F-32F4E3748A7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9CDB-5ABD-4B11-AC50-6332A1FA9B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Resourc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4840" y="1047240"/>
            <a:ext cx="82296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Master Teacher resources on the Essentials Course v 10.1 Overview at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teachonline.intel.com/courseupdates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1000080" y="1811160"/>
            <a:ext cx="69357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gend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Discus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rnet Tools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T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ne-to-One Computing Emph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dagogical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Fo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Module  Checkli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T Present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ruiting and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mpl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4520" indent="-34452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864B1-9F5D-4D17-B5BF-5091FBE6172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229600" cy="59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We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1360" y="860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1: 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2: 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3: Making Connection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Project outcomes from a student 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5: 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6: 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Module 7: 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C8008-1896-4584-89E6-4CE4DEAB53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Where We Ar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876240"/>
          <a:ext cx="8534160" cy="3071880"/>
        </p:xfrm>
        <a:graphic>
          <a:graphicData uri="http://schemas.openxmlformats.org/drawingml/2006/table">
            <a:tbl>
              <a:tblPr/>
              <a:tblGrid>
                <a:gridCol w="2514600"/>
                <a:gridCol w="6019560"/>
              </a:tblGrid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odule 8: Showcasing Unit Portfoli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1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pic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haring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3920" indent="-223920"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utcomes: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repare for showcasing your 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Give and receive feedback on Unit Portfol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flect on learning in your b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223920" indent="-223920"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valuate the Essentials Cour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22200" y="3944880"/>
            <a:ext cx="8516880" cy="19234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3280" indent="-2332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9C81-70E8-4E8A-B761-A1B9724759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eview MT Resources for Module 8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90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riefly view the Module 8 presentation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87280" indent="-2872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the Module 8 Checklist in MT Appendix C.26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06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D131-31FA-438F-BC07-E32C47A320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20480"/>
            <a:ext cx="822960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Completing Your Portfolio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01)</a:t>
            </a:r>
            <a:br>
              <a:rPr sz="13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807920"/>
            <a:ext cx="82296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your Unit Plan Checklist and  Review your notes from to complete unfinished components and make final revisions to your Unit Portfolio in preparation for the Portfolio Showcas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107D8-39C5-41D6-ABFB-8DEB66852F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553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Showcasing Student Project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2 – 8.03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2040" y="2106360"/>
            <a:ext cx="82296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ideas for showcasing student wor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ch of the showcasing ideas could you most easily incorporate into your own classroom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would you need to do to prepare your students for an effective showcas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ould you support students in providing constructive feedback to their peer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51000" indent="-35100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at strategies could you use to ensure students use the feedback from their peers as well as their own self-assessments to improve their work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2C34-C0A2-46A6-88FA-F3835F080F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88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2: Planning a Showcase</a:t>
            </a:r>
            <a:br>
              <a:rPr sz="32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reparing for the Portfolio Showca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3 – 8.05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84200" y="1817280"/>
            <a:ext cx="82296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 to the wiki site. </a:t>
            </a:r>
            <a:r>
              <a:rPr b="0" lang="en-US" sz="1800" spc="-1" strike="noStrike">
                <a:solidFill>
                  <a:srgbClr val="ccecff"/>
                </a:solidFill>
                <a:latin typeface="Verdana"/>
              </a:rPr>
              <a:t>[Insert URL]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eate your wiki showcase pag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scribe how you addressed the traits from the Portfolio Rubri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nstructional desig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echnology integratio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strategi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pload portfolio components to your wik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ssessment of your 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tudent samp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ither a student support or facilitation resourc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914400" indent="-457200">
              <a:spcBef>
                <a:spcPts val="400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y other documents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xplain how you want to receive feedback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E9D7-7A4B-413D-B76E-93A0ABD43B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ay 4 Agend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5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ent Card Review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ster Teacher Responsibilities/Participant Teacher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Extra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te of Comple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CE4A-F54E-412F-8D2C-3A0E064E0917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7DE5-F20E-4D11-B54E-196A93207F8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Showcasing My Unit Portfolio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8.06 – 8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5760" y="252252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guidelines for providing feedback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hoose among options for providing feedback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wiki’s commenting featu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rd your thoughts on a subpage in the presenter's wik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ype your feedback into the Showcase Feedback For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llow the link in the presenter's wiki to the blog site and provide feedback in a response to the blog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28880" indent="-4572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ll out a printed Showcase Feedback Form by hand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480960" y="1535040"/>
            <a:ext cx="8021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is showcase is to share your final products with your colleagues, to see what they have created, and receive feedback on your wor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11B9-A156-44DA-A2D1-710496C52E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520" y="-360"/>
            <a:ext cx="865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aster Teacher Extranet Overview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09680" y="1033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: http://teachonline.intel.com/courseupdates and log i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ter the Essentials Course v 10.1 Overvie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he MT Resources tab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 navigation to find Intel® Teach Program Extranet instruct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pdate your personal information and passwor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lore left-channel navigation and online help feat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appropriate, setup your first class and order your training material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cuss closing class at the end of the course (Module 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092240" indent="-457200">
              <a:spcBef>
                <a:spcPts val="24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evaluation of the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0A00-8511-4152-B679-55FFC6FB41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r>
              <a:rPr b="1" lang="en-US" sz="15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500"/>
            </a:br>
            <a:br>
              <a:rPr sz="1300"/>
            </a:br>
            <a:br>
              <a:rPr sz="1300"/>
            </a:b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4: Evaluating the Cours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5760" y="1859040"/>
            <a:ext cx="8237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the online course evaluation at: </a:t>
            </a: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www.intel.com/education/teachfuture/eval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ur Class ID number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ID NUMBER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Master Teacher’s User ID is: </a:t>
            </a:r>
            <a:r>
              <a:rPr b="0" lang="en-US" sz="2000" spc="-1" strike="noStrike">
                <a:solidFill>
                  <a:srgbClr val="ccecff"/>
                </a:solidFill>
                <a:latin typeface="Verdana"/>
              </a:rPr>
              <a:t>[ADD USER ID]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258920" indent="0">
              <a:buNone/>
              <a:tabLst>
                <a:tab algn="l" pos="0"/>
                <a:tab algn="l" pos="1198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141960" y="171360"/>
            <a:ext cx="2576520" cy="9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For Participa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ecff"/>
                </a:solidFill>
                <a:latin typeface="Arial Black"/>
              </a:rPr>
              <a:t>Teachers On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ec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5462-077C-4A75-AA95-64F52EC9E07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22120" t="18945" r="23733" b="20510"/>
          <a:stretch/>
        </p:blipFill>
        <p:spPr>
          <a:xfrm>
            <a:off x="1039680" y="2500200"/>
            <a:ext cx="4294440" cy="36007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9680" y="240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304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articipants log in at the PT Log-in Web Page to complete their evaluation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www.intel.com/education/teachfuture/ev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4024440"/>
            <a:ext cx="1933560" cy="609480"/>
          </a:xfrm>
          <a:prstGeom prst="wedgeRoundRectCallout">
            <a:avLst>
              <a:gd name="adj1" fmla="val -188425"/>
              <a:gd name="adj2" fmla="val 14739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Class ID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6458040" y="4776840"/>
            <a:ext cx="1847880" cy="609480"/>
          </a:xfrm>
          <a:prstGeom prst="wedgeRoundRectCallout">
            <a:avLst>
              <a:gd name="adj1" fmla="val -192527"/>
              <a:gd name="adj2" fmla="val 80208"/>
              <a:gd name="adj3" fmla="val 16667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Ts enter your MT User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D6FA-DDC8-4468-921B-64418B22C82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A759-7221-4A6C-B02F-FD1AFD9AC4A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articipant Evaluation Procedur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nts will view an introduction and then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Begin Evaluatio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k PTs to respond to all questions by selecting the appropriate radio butto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vite PTs to include comments at the end of the survey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ke certain that all PTs click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NISH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o close out of the survey Web pag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evaluation will take approximately fifteen minutes to comple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-345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ou will have access to evaluation results once you close the clas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455760" y="6357960"/>
            <a:ext cx="41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47AB-75A8-415F-A054-5619E6401D6B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EE890-282B-4BA8-ABCE-4D9F577C1AC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67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Reviewing the Modul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3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42800" y="2111400"/>
            <a:ext cx="8307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Key Point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vents like a showcase allow the greater community to provide input for your students and to celebrate your students’ achievement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453960" y="3537000"/>
            <a:ext cx="811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ssential Ques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technology be used most effectively to support and assess student learning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Ques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epare for and facilitate an effective showc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080" indent="-23508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ow can I provide constructive feedbac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77720" y="1992240"/>
            <a:ext cx="8393400" cy="35766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0769-CC56-40FE-BB36-1697B8EECFB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84200" y="593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Reflecting on the Cours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1)</a:t>
            </a:r>
            <a:br>
              <a:rPr sz="20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1600" y="1792080"/>
            <a:ext cx="822960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 to your personal blog, create an entry entitled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 Reflection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copy and paste the following prompt into your entry, and write your respons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Of everything you learned, what do you think will have the biggest impact on student learning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2.  Read all of your colleagues’ responses and start a conversation with any that interest you in their personal blog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480960" y="4148280"/>
            <a:ext cx="80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8.1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4489560"/>
            <a:ext cx="7993080" cy="15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nsfer your files to a permanent loc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directed by your facilitator, remove all files that you developed during the course from the computer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move all CDs and disks from your compu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6230-C58B-44D6-878B-BA08F1344D4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0200" y="67140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8: Showcasing Unit Portfolios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5: Concluding the Course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Wrapping Up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 (page 8.12)</a:t>
            </a:r>
            <a:br>
              <a:rPr sz="2400"/>
            </a:b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5760" y="2242800"/>
            <a:ext cx="830736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gratulations on successfully complet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Teach Essentials Course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Certificate of Completion is provided to acknowledge your effort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4B59-F47D-4DF0-A504-3C337859E6CF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9B9E-9691-471A-8AFD-BCE4633993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ule 7: Facilitating with Technology (cont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1: Designing Facilitation Resourc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Facilitation Mate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6)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4200" y="2750760"/>
            <a:ext cx="8229600" cy="32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your ideas and areas of interest and your notes from the previous step. Create a new document, presentation, or web-based resource to support the facilitation of your unit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f you wish, modify existing support material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DF5E-00E9-403A-ACAC-2662ECA6BC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1: Completing My Instructional Procedure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7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6560" y="2539800"/>
            <a:ext cx="8048880" cy="32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pen your Unit Plan and complete your Instructional Procedures section. Specify how you will incorporat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l and informal assessment throughout the instructional cyc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1st century skills instru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fferenti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859320" indent="-42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sential, Unit, and Content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01480" indent="-50148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your Unit Plan Summary and the other sections of your Unit Pl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DAD8-C6FF-494C-A77D-2D5099128C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0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2: Planning for a Successful Projec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08 –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2760" y="257508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small groups discuss how you could address the following topics to ensure a successful project in your classroom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66560" y="3305160"/>
            <a:ext cx="8145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municating about the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iming and Tran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aterials/Equipment/Technology/Outside Resources/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5960" indent="-345960"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75DA-45E7-43C7-81F8-B262B8C334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4200" y="788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: Implementing a Successful Project </a:t>
            </a:r>
            <a:br>
              <a:rPr sz="28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ep 3: Creating a Management Resourc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09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259884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sample management resourc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reate a management document for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9184-FEA3-45F2-BAF2-FB6D6E889C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ctivity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: Reflecting on My Unit as a Whole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0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9800" y="19317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Review the Unit Plan Checklist to identify any missing or incomplete elements of your Unit Pla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Unit Portfolio Checklist to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MS PGothic"/>
              </a:rPr>
              <a:t>ensure you have completed all pieces for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e Portfolio Rubric and highlight the descriptors that describe your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note any changes you would like to make to your Unit Portfolio in the Unit Plan Checklist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EC75-A2CD-4C6C-B3DC-9E6D4C5D3E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70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Verdana"/>
              </a:rPr>
              <a:t>Module 7: Facilitating with Technology </a:t>
            </a:r>
            <a:br>
              <a:rPr sz="1300"/>
            </a:br>
            <a:br>
              <a:rPr sz="13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ning Ahead</a:t>
            </a:r>
            <a:br>
              <a:rPr sz="3200"/>
            </a:br>
            <a:br>
              <a:rPr sz="1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1: Revising My Unit Portfoli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 7.11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2960" y="211140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ed on your self-assessment, revise any components of your Unit Portfoli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371520" y="2925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y 2: Reflecting on Professional Development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pages 7.12 – 7.13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12920" y="3822840"/>
            <a:ext cx="78832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view Thinking about My Future Development and take notes about any resources you wish to explore in more detail in the futu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iew "1:1 Computing Classroom Resources" in the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, 1-to-1 Computing 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8E03-33B0-4488-8037-97F37DAE62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magrantx</cp:lastModifiedBy>
  <dcterms:modified xsi:type="dcterms:W3CDTF">2008-05-16T21:38:38Z</dcterms:modified>
  <cp:revision>92</cp:revision>
  <dc:subject/>
  <dc:title>Presentation Title Goes Here</dc:title>
</cp:coreProperties>
</file>