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573-C09D-4B28-A5B9-B227BAB0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4DD-2BA6-4FD6-B184-48E05909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B34-0385-4B1D-B883-86352516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224-4728-4DDB-87F2-9D2A5F3A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50C-FF96-4098-BD73-B0A69A11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4F3-E319-4072-9005-543707EB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820-4559-48AD-AEDC-216C0071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591-C383-4012-AF5B-8AB55205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0B0-B313-43A4-A81E-41E12EAA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B4E-4BF8-4C7F-B8CF-F6489CC4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8AF-2BE4-4C30-849C-088D31E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E04-AC40-4E92-808A-DDBC0CC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8D42-2D37-44A2-8486-86374DC46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Por Shelley, Lynn, Matt y Trevor </a:t>
            </a:r>
            <a:br>
              <a:rPr sz="1800"/>
            </a:br>
            <a:br>
              <a:rPr sz="1800"/>
            </a:b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Sra. Sh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6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762120"/>
            <a:ext cx="72388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cos por el sistema métrico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84080" y="3427920"/>
            <a:ext cx="81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Por qué necesitaría usted conocer el sistema métr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Cómo puede la matemática ayudarme a comprender mi mundo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Un milímetro es la longitud del punto al final de esta oración</a:t>
            </a:r>
            <a:r>
              <a:rPr b="1" lang="es-CR" sz="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Un centímetro es la longitud de una pasa o el tallo de una manz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86400" y="4191120"/>
            <a:ext cx="2514600" cy="20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2400480" cy="1600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Milímetros y centíme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7162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Milímetro se escribe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Centímetro se escribe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Un milímetro es = 0.001 metros (1/1000 metr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Un centímetro es = 0.01 metros (1/100 metro) </a:t>
            </a:r>
            <a:br>
              <a:rPr sz="2400"/>
            </a:b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Ambas medidas se usan para medir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Ambas se usan para medir artículos que no sean muy la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Milímetros y centíme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Medidas re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029200" y="41148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6019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cho del lápiz = 7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004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itud de la calculadora = 1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cho de la estructura en medio del armario = 2.5 c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6019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sor del libro anaranjado de matemática = 3 c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Arial"/>
              </a:rPr>
              <a:t>Resolución de problemas con centímetros y milíme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br>
              <a:rPr sz="28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Dos niños fueron a la pista de patinaje sobre ruedas. Uno era un niño, la otra una niña. En esta pista de patinaje en particular, por alguna extraña razón, los niños deben sumarle 7 centímetros a su tamaño real de zapatos, y las niñas debe sumar 75 milímetros.</a:t>
            </a: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¿Lo puede reso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Si el tamaño normal del zapato de Róger es de 260 mm, y el de Sara es de 30 cm, ¿cuánto más largos serán los patines de Sara que los de Róger? Escriba su respuesta en términos de centímetros y milí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29000" y="1600200"/>
            <a:ext cx="4876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Para resolver el problema, lo primero que debe hacer es convertir cada tamaño de zapato a la medida apropiada que se esté usando. Cambié los 260 mm de Róger a 26 cm porque le iba a sumar cm, no mm; y cambié los 30 cm de Sara a 300 mm. Luego sumé la medida adicional correcta exigida por la pista de patinaje. El zapato de Róger terminó en 33 cm, o 330 mm, y el de Sara en 375 mm, o 37.5 cm. Luego resté para averiguar cuánto más largo era el zapato de Sara que el de Róger. La respuesta correcta es 4.5 cm, 4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del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1676520"/>
            <a:ext cx="2743200" cy="3795480"/>
            <a:chOff x="685800" y="1676520"/>
            <a:chExt cx="2743200" cy="37954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4476" t="10000" r="0" b="23339"/>
            <a:stretch/>
          </p:blipFill>
          <p:spPr>
            <a:xfrm>
              <a:off x="685800" y="2023920"/>
              <a:ext cx="243828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rcRect l="5002" t="6669" r="5002" b="20000"/>
            <a:stretch/>
          </p:blipFill>
          <p:spPr>
            <a:xfrm>
              <a:off x="685800" y="3948120"/>
              <a:ext cx="24382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85800" y="16765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Zapato de Sara = 30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35672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Zapato de Róger = 260 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736640"/>
            <a:ext cx="8229600" cy="50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Algunas cosas son muy pequeñas como para medirlas en pies y pulgadas, así que necesitamos conocer los centímetros y los milímetros y entender cómo usar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En una ferretería para garantizar que las piezas se acoplen perfectamente entre sí, se hacen y se venden usando medidas métricas. Si quiere comprar una pieza correcta es mejor que conozca bien sus milímetros y sus centí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Si alguna vez llega a querer anteojos de sol personalizados, deberá conocer el ancho y el largo en centí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En algunos países, como Japón, los zapatos se miden usando centí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La mina de los lápices se hace usando la medida mm. Si quiere la mina correcta, debe saber cómo medir en milí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Si planea ser un optometrista cuando crezca, deberá conocer estas medidas del sistema mé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1744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or qué necesitamos conocer los milímetros y los centímetr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23:24:02Z</dcterms:created>
  <dc:creator>tasmolex</dc:creator>
  <dc:description/>
  <dc:language>en-US</dc:language>
  <cp:lastModifiedBy>Jacqueline Arroyo</cp:lastModifiedBy>
  <dcterms:modified xsi:type="dcterms:W3CDTF">2006-01-08T23:04:12Z</dcterms:modified>
  <cp:revision>15</cp:revision>
  <dc:subject/>
  <dc:title>Slide 1</dc:title>
</cp:coreProperties>
</file>