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bomb.wav" ContentType="audio/x-wav"/>
  <Override PartName="/ppt/media/image6.png" ContentType="image/png"/>
  <Override PartName="/ppt/media/image3.jpeg" ContentType="image/jpeg"/>
  <Override PartName="/ppt/media/image5.jpeg" ContentType="image/jpeg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9D066-CDCF-4D07-94B9-4EFDA9CDA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l igual que no le gustaría que alguien tome decisiones que afecten su vida, tampoco le gustaría a su hijo adolescen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l igual que no le gustaría que alguien tome decisiones que afecten su vida, tampoco le gustaría a su hijo adolescen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ecir "Yo sé lo que significa" es un error por dos grandes razones: 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"Se cierra el diálogo, ya que se comunica que no hay nada más que entender. (Siempre hay más de entender.) 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e comunica que no está muy interesado en escuchar a la otra persona. 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 "¿cómo te hace sentir?" es una frase que abusa demasiado y es una manera segura de que se cierre el dialogo con un adolesce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796E-CC57-4E9B-8399-3712B4C9A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D899-A28A-4D04-9386-DE563A449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DAA5-FF81-4022-B516-F5C325B3B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7A6A-2C55-4865-904C-A1310644E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37D086-69BC-4B65-AE71-79E085FE2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32244A-532C-4247-8294-F829DC82A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600769-53B5-48C7-9D93-016FFE4AC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1C7E8F-A160-4B78-82F7-50C42DD00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3BC8DE-FE1E-47E3-8115-BB7679B6D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0800FC-D68D-4BC3-A848-CA5ACE6C4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3F4301-1880-4905-A30E-3E700D03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4BBF-83F8-4FEF-9DCA-F66C418DC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99479E-41FA-479B-965C-1116C3B4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9560FB-1854-463E-B7E4-5F90F928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0C753B-E035-406A-ADB4-9DD61393D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FAE617-8838-4417-ACB6-E47C5E0AC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C9A44F-8E16-480E-9C35-1968A3ED4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06CC3-DB7F-4550-A06B-D18B24BB4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8C22C-E2C4-4D5F-88EA-0825BB3DB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7CF3F-1160-402D-8CD4-97FF0194F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4E45A-3A96-47DF-BA67-CEDBC814F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20318-4BDA-4F9A-AF1B-09279FA5D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125E-10E4-4F23-9F11-6D76243BA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D029A-7A23-4ADB-A6DA-208F9B12B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CAB3F-4CB6-49F3-A126-007E2082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AF90D-D1D2-40CA-B07D-67A048AF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DB52E-2221-418B-935E-6BF26B11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8584E-6D5B-4DF9-A9AE-649216A7C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B1030-3BC3-487A-BB9A-80F416E99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830F7-05EC-4322-801E-CCBB7429E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A0FA-CEAA-421A-8A15-CB4EB9A58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A947-C5A4-42D8-8076-4CC102110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ADBF-FF3C-46FF-92C5-31468960F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3300-FD15-4116-851D-940816D0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480D-5726-4896-9D44-E9687B98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AACC-2CBE-4E5A-B739-0B30D589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904C6-B9A2-46E8-8C4F-ED0AF2D46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B3C2A-BD35-447A-97E3-D9365ECAA43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AAF12-334E-4E5A-8727-67CEE397A83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audio" Target="../media/bomb.wav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shakespeare.emory.edu/postcarddisplay.cfm?cardid=54" TargetMode="External"/><Relationship Id="rId2" Type="http://schemas.openxmlformats.org/officeDocument/2006/relationships/hyperlink" Target="http://shakespeare.emory.edu/postcarddisplay.cfm?cardid=54" TargetMode="External"/><Relationship Id="rId3" Type="http://schemas.openxmlformats.org/officeDocument/2006/relationships/hyperlink" Target="http://shakespeare.emory.edu/postcarddisplay.cfm?cardid=54" TargetMode="External"/><Relationship Id="rId4" Type="http://schemas.openxmlformats.org/officeDocument/2006/relationships/hyperlink" Target="http://shakespeare.emory.edu/postcarddisplay.cfm?cardid=54" TargetMode="External"/><Relationship Id="rId5" Type="http://schemas.openxmlformats.org/officeDocument/2006/relationships/hyperlink" Target="http://shakespeare.emory.edu/postcarddisplay.cfm?cardid=54" TargetMode="External"/><Relationship Id="rId6" Type="http://schemas.openxmlformats.org/officeDocument/2006/relationships/hyperlink" Target="http://shakespeare.emory.edu/postcarddisplay.cfm?cardid=54" TargetMode="External"/><Relationship Id="rId7" Type="http://schemas.openxmlformats.org/officeDocument/2006/relationships/image" Target="../media/image3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focusonyourchild.com/relation/art1/A0000777.html" TargetMode="External"/><Relationship Id="rId2" Type="http://schemas.openxmlformats.org/officeDocument/2006/relationships/hyperlink" Target="http://www.bbc.co.uk/parenting/your_kids/teen_communicating.shtml" TargetMode="External"/><Relationship Id="rId3" Type="http://schemas.openxmlformats.org/officeDocument/2006/relationships/hyperlink" Target="http://www.lifespan.org/Services/ChildHealth/Parenting/PDF/communication2.PDF" TargetMode="External"/><Relationship Id="rId4" Type="http://schemas.openxmlformats.org/officeDocument/2006/relationships/hyperlink" Target="http://msucares.com/pubs/publications/p1452.htm" TargetMode="External"/><Relationship Id="rId5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8.xml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roadway"/>
              </a:rPr>
              <a:t>¿Cómo hablar con un muro de ladrillos?:</a:t>
            </a:r>
            <a:br>
              <a:rPr sz="3200"/>
            </a:br>
            <a:r>
              <a:rPr b="0" lang="es-ES" sz="1700" spc="-1" strike="noStrike">
                <a:solidFill>
                  <a:srgbClr val="000000"/>
                </a:solidFill>
                <a:latin typeface="Broadway"/>
              </a:rPr>
              <a:t>Derribe las barreras entre usted y los adolescent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Jessica and Enr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irewall"/>
          <p:cNvSpPr/>
          <p:nvPr/>
        </p:nvSpPr>
        <p:spPr>
          <a:xfrm>
            <a:off x="0" y="3809880"/>
            <a:ext cx="9144000" cy="3048120"/>
          </a:xfrm>
          <a:prstGeom prst="pie">
            <a:avLst/>
          </a:prstGeom>
          <a:solidFill>
            <a:srgbClr val="ff5c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259092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ssica y Enr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352680" y="-78120"/>
            <a:ext cx="5703840" cy="6913800"/>
            <a:chOff x="3352680" y="-78120"/>
            <a:chExt cx="5703840" cy="6913800"/>
          </a:xfrm>
        </p:grpSpPr>
        <p:pic>
          <p:nvPicPr>
            <p:cNvPr id="179" name="" descr=""/>
            <p:cNvPicPr/>
            <p:nvPr/>
          </p:nvPicPr>
          <p:blipFill>
            <a:blip r:embed="rId2"/>
            <a:srcRect l="8353" t="8353" r="8096" b="8096"/>
            <a:stretch/>
          </p:blipFill>
          <p:spPr>
            <a:xfrm>
              <a:off x="3352680" y="4473720"/>
              <a:ext cx="236232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 flipV="1">
              <a:off x="5703840" y="-14760"/>
              <a:ext cx="3352680" cy="460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5703840" y="-31680"/>
              <a:ext cx="3317760" cy="4573440"/>
            </a:xfrm>
            <a:prstGeom prst="line">
              <a:avLst/>
            </a:prstGeom>
            <a:ln w="19080">
              <a:solidFill>
                <a:srgbClr val="b1f0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5681520" y="-78120"/>
              <a:ext cx="3353040" cy="460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3" name="" descr=""/>
          <p:cNvPicPr/>
          <p:nvPr/>
        </p:nvPicPr>
        <p:blipFill>
          <a:blip r:embed="rId3"/>
          <a:srcRect l="8353" t="14475" r="67397" b="74763"/>
          <a:stretch/>
        </p:blipFill>
        <p:spPr>
          <a:xfrm>
            <a:off x="3429000" y="4648320"/>
            <a:ext cx="685800" cy="304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rcRect l="8353" t="14475" r="67397" b="74763"/>
          <a:stretch/>
        </p:blipFill>
        <p:spPr>
          <a:xfrm rot="2074800">
            <a:off x="4756320" y="5224320"/>
            <a:ext cx="761760" cy="3384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5"/>
          <a:srcRect l="11019" t="15758" r="67397" b="74763"/>
          <a:stretch/>
        </p:blipFill>
        <p:spPr>
          <a:xfrm rot="21237600">
            <a:off x="4952880" y="6400800"/>
            <a:ext cx="746280" cy="3286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6"/>
          <a:srcRect l="11058" t="14475" r="67397" b="74763"/>
          <a:stretch/>
        </p:blipFill>
        <p:spPr>
          <a:xfrm rot="2012400">
            <a:off x="3041640" y="5278320"/>
            <a:ext cx="60948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350"/>
                            </p:stCondLst>
                            <p:childTnLst>
                              <p:par>
                                <p:cTn id="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850"/>
                            </p:stCondLst>
                            <p:childTnLst>
                              <p:par>
                                <p:cTn id="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35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35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3.7037E-006 C 0.03056 -0.02847 0.05712 -0.03611 0.09028 -0.05625 C 0.11858 -0.07314 0.12327 -0.07592 0.15105 -0.08611 C 0.15678 -0.08842 0.16216 -0.09351 0.16806 -0.09421 C 0.20382 -0.09814 0.23976 -0.09814 0.2757 -0.1 C 0.329 -0.11412 0.36007 -0.11527 0.38299 -0.18796 C 0.38525 -0.2368 0.38872 -0.29189 0.42553 -0.31203 C 0.43334 -0.3162 0.44254 -0.31875 0.4507 -0.32199 C 0.45625 -0.32685 0.46303 -0.33194 0.46789 -0.33773 C 0.47726 -0.34907 0.48473 -0.36319 0.49323 -0.37569 C 0.49514 -0.3831 0.49862 -0.38634 0.50035 -0.39375 C 0.50209 -0.40231 0.49983 -0.40185 0.5033 -0.40185 E">
                                      <p:cBhvr>
                                        <p:cTn id="32" dur="5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1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5 0.00787 C -0.02431 0.01481 -0.03542 0.02338 -0.04705 0.02847 C -0.06649 0.03681 -0.1033 0.04005 -0.12378 0.04306 C -0.14167 0.04144 -0.15538 0.04444 -0.1658 0.0169 C -0.16997 -0.02662 -0.19566 -0.05718 -0.21788 -0.07315 C -0.23472 -0.08495 -0.25399 -0.07986 -0.27222 -0.08241 C -0.28108 -0.10671 -0.2691 -0.0706 -0.27656 -0.11019 C -0.27882 -0.1213 -0.28247 -0.13241 -0.28542 -0.14329 C -0.29167 -0.16458 -0.29913 -0.18611 -0.30677 -0.20602 C -0.30816 -0.20995 -0.31076 -0.21319 -0.31215 -0.21713 C -0.31962 -0.23727 -0.32396 -0.26181 -0.33663 -0.27431 C -0.34097 -0.28426 -0.34497 -0.29398 -0.35104 -0.3 C -0.35312 -0.31481 -0.35035 -0.30023 -0.35764 -0.3169 C -0.35868 -0.31852 -0.35937 -0.3287 -0.35972 -0.32963 C -0.36076 -0.33287 -0.36215 -0.33588 -0.36337 -0.33866 C -0.36424 -0.34815 -0.36615 -0.37477 -0.36875 -0.38333 C -0.37031 -0.38843 -0.38385 -0.38843 -0.38646 -0.38866 C -0.39375 -0.39398 -0.39983 -0.39792 -0.40747 -0.39977 C -0.41545 -0.40463 -0.42378 -0.41134 -0.43247 -0.41435 C -0.43715 -0.4162 -0.44688 -0.42014 -0.44688 -0.4206 C -0.45035 -0.42361 -0.45434 -0.43079 -0.45833 -0.43079 E">
                                      <p:cBhvr>
                                        <p:cTn id="40" dur="5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22222E-006 C -0.01354 -0.00648 -0.02691 -0.01458 -0.0408 -0.01944 C -0.06372 -0.02731 -0.10712 -0.03055 -0.13142 -0.0331 C -0.15278 -0.03171 -0.16892 -0.03403 -0.18125 -0.00879 C -0.18628 0.03241 -0.21649 0.06158 -0.24306 0.07662 C -0.26285 0.08773 -0.28594 0.0831 -0.30712 0.08519 C -0.31771 0.10857 -0.30347 0.07431 -0.3125 0.11134 C -0.31528 0.12222 -0.31927 0.13264 -0.32309 0.14283 C -0.33056 0.16297 -0.33906 0.18334 -0.34809 0.20232 C -0.34983 0.20625 -0.3526 0.2088 -0.35451 0.21273 C -0.36302 0.23172 -0.36823 0.25486 -0.38333 0.26667 C -0.38854 0.27616 -0.39306 0.28519 -0.40035 0.29121 C -0.40295 0.30509 -0.39948 0.29144 -0.40816 0.30695 C -0.4092 0.30857 -0.41042 0.31806 -0.41076 0.31898 C -0.41181 0.32222 -0.41354 0.32477 -0.41476 0.32778 C -0.41615 0.33634 -0.41823 0.36181 -0.42135 0.36968 C -0.42326 0.37454 -0.43906 0.37454 -0.44236 0.375 C -0.45087 0.37986 -0.45816 0.38334 -0.46736 0.38542 C -0.47743 0.39005 -0.48698 0.39607 -0.4974 0.39908 C -0.50313 0.40093 -0.51458 0.40463 -0.51458 0.40486 C -0.5184 0.40787 -0.52309 0.41505 -0.52778 0.41505 E">
                                      <p:cBhvr>
                                        <p:cTn id="42" dur="5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cc"/>
                </a:solidFill>
                <a:latin typeface="Tahoma"/>
              </a:rPr>
              <a:t>Dar consejo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Sea brev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Deje que la mayor parte del tiempo se dedique a la conversa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Vigile su tono de voz.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A veces no es lo que usted dice - es cómo lo dice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Exprese sus sentimientos.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Revele algo de su ser interio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Haga hincapié en sus sentimientos, y no la conducta de su hij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No exagere. Expresar sus sentimientos ayuda a demostrar que usted es una persona real, pero -concéntrese especialmente en los sentimientos del adolescent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Sea honesto.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Hable sobre sus ideas, preocupaciones o pensamientos abiertamente y con calma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cc"/>
                </a:solidFill>
                <a:latin typeface="Tahoma"/>
              </a:rPr>
              <a:t>Manejo de problema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spcAft>
                <a:spcPts val="700"/>
              </a:spcAft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Uso del “Yo”.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El clásico consejo de la utilización de "Yo", en lugar de las críticas "usted", es buen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Específicamente describa la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ＭＳ Ｐゴシック"/>
              </a:rPr>
              <a:t>situación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que está causando el problema. Sólo describa; no culpe. Dígale, "Cuando usted no llama o regresa a casa a la hora que habíamos acordado..."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Manifieste el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ＭＳ Ｐゴシック"/>
              </a:rPr>
              <a:t>efect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que la situación tiene sobre usted. "... Yo no sé dónde estás..."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Identifique la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ＭＳ Ｐゴシック"/>
              </a:rPr>
              <a:t>sensación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que tiene sobre usted. "... Y me empiezo a preocupar de que algo podría haberte sucedido.“</a:t>
            </a:r>
            <a:r>
              <a:rPr b="0" lang="es-ES" sz="2000" spc="-1" strike="noStrike" baseline="30000">
                <a:solidFill>
                  <a:srgbClr val="ffff00"/>
                </a:solidFill>
                <a:latin typeface="Tahoma"/>
                <a:ea typeface="ＭＳ Ｐゴシック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Mantenga la calma.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No ayuda el grita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cc"/>
                </a:solidFill>
                <a:latin typeface="Tahoma"/>
              </a:rPr>
              <a:t>Manejo de problema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Recoja y elija sus batallas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.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Las cosas que se ocupan de la seguridad de su hijo adolescente son más importantes que una habitación desordenada o lo que viste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Amor sin condiciones.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No otorgue o niegue el amor basado en el comportamiento de su hijo adolescent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Disculparnos.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Si ha hecho algo para agravar la situación, sea adulto y pida disculpas. Un buen ejemplo para su hijo adolescent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Involucrar a su hijo adolescente en las decisiones que afectan a él o a ella.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La familia no puede ser una democracia, pero puede conseguir la participación de todos tratando que sea un compromiso, en la medida de lo posible, eso es importante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cc"/>
                </a:solidFill>
                <a:latin typeface="Tahoma"/>
              </a:rPr>
              <a:t>¡Que venga el espectáculo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!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sí que vamos a ver qué habría hecho el Sr. Capuleto si hubiese escuchado los consejos anteriormente expuestos, antes de hablar con Julieta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[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scena representad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rcRect l="0" t="3762" r="3936" b="4098"/>
          <a:stretch/>
        </p:blipFill>
        <p:spPr>
          <a:xfrm>
            <a:off x="0" y="0"/>
            <a:ext cx="9296280" cy="71341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7162920" y="5410080"/>
            <a:ext cx="1600200" cy="144792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7467480" y="5715000"/>
          <a:ext cx="914400" cy="8571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5715000"/>
                    <a:ext cx="91440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" dur="5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rcRect l="0" t="3762" r="3936" b="4098"/>
          <a:stretch/>
        </p:blipFill>
        <p:spPr>
          <a:xfrm>
            <a:off x="0" y="0"/>
            <a:ext cx="9296280" cy="713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0" dur="5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6858000" y="5257800"/>
            <a:ext cx="1676520" cy="1371600"/>
          </a:xfrm>
          <a:prstGeom prst="foldedCorner">
            <a:avLst>
              <a:gd name="adj" fmla="val 125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ffffcc"/>
                </a:solidFill>
                <a:latin typeface="Tahoma"/>
              </a:rPr>
              <a:t>Cuando el drama se inicia en su casa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Tres cosas que usted puede probar esta seman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499"/>
              </a:spcBef>
              <a:spcAft>
                <a:spcPts val="499"/>
              </a:spcAft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Cuando usted le pregunta "¿cómo estuvo el día?", Y su hijo adolescente realmente responde, deja lo que está haciendo y realmente escuch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499"/>
              </a:spcBef>
              <a:spcAft>
                <a:spcPts val="499"/>
              </a:spcAft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Decida conscientemente a no criticar o no recoger las pequeñas cosas, pruebe durante una semana y vea qué suced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499"/>
              </a:spcBef>
              <a:spcAft>
                <a:spcPts val="499"/>
              </a:spcAft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Cuando un argumento es elaborado y usted deja hablar tranquilamente - sin culpar - acerca de la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ＭＳ Ｐゴシック"/>
              </a:rPr>
              <a:t> situación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que causa el problema, el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ＭＳ Ｐゴシック"/>
              </a:rPr>
              <a:t>efect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sobre la situación en usted y la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ＭＳ Ｐゴシック"/>
              </a:rPr>
              <a:t>sensación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de que usted tiene - ayuda el uso del "Yo"-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7086600" y="5410080"/>
          <a:ext cx="1143000" cy="107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5410080"/>
                    <a:ext cx="1143000" cy="10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cc"/>
                </a:solidFill>
                <a:latin typeface="Tahoma"/>
              </a:rPr>
              <a:t>Créditos de la fotografía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057040" y="1599840"/>
            <a:ext cx="6629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a fotografía es de Matheson Lang, producción de Romeo y Julieta, que se inició en el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s-ES" sz="1800" spc="-1" strike="noStrike">
                <a:solidFill>
                  <a:srgbClr val="ffffff"/>
                </a:solidFill>
                <a:latin typeface="Tahoma"/>
              </a:rPr>
              <a:t>Lyceum Theatre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de Londres, el 14 de marzo de 1908 y se ha presentado desde el 30 de mayo de 1908. 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Se trata de una tarjeta postal publicada por la Asociación Rotaria de fotografías de Londres. Tarjeta N º 7423E. Fotografía por el </a:t>
            </a:r>
            <a:r>
              <a:rPr b="0" i="1" lang="es-ES" sz="1800" spc="-1" strike="noStrike">
                <a:solidFill>
                  <a:srgbClr val="ffffff"/>
                </a:solidFill>
                <a:latin typeface="Tahoma"/>
              </a:rPr>
              <a:t>Daily Mirror Studios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. Nora Kerin como Julieta; Herbert Grimwood como Capuleto </a:t>
            </a:r>
            <a:r>
              <a:rPr b="0" lang="es-ES" sz="18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http</a:t>
            </a:r>
            <a:r>
              <a:rPr b="0" lang="es-ES" sz="18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://</a:t>
            </a:r>
            <a:r>
              <a:rPr b="0" lang="es-ES" sz="18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shakespeare.emory.edu</a:t>
            </a:r>
            <a:r>
              <a:rPr b="0" lang="es-ES" sz="1800" spc="-1" strike="noStrike" u="sng">
                <a:solidFill>
                  <a:srgbClr val="ebf25a"/>
                </a:solidFill>
                <a:uFillTx/>
                <a:latin typeface="Tahoma"/>
                <a:hlinkClick r:id="rId4"/>
              </a:rPr>
              <a:t>/</a:t>
            </a:r>
            <a:r>
              <a:rPr b="0" lang="es-ES" sz="1800" spc="-1" strike="noStrike" u="sng">
                <a:solidFill>
                  <a:srgbClr val="ebf25a"/>
                </a:solidFill>
                <a:uFillTx/>
                <a:latin typeface="Tahoma"/>
                <a:hlinkClick r:id="rId5"/>
              </a:rPr>
              <a:t>postcarddisplay.cfm?cardid</a:t>
            </a:r>
            <a:r>
              <a:rPr b="0" lang="es-ES" sz="1800" spc="-1" strike="noStrike" u="sng">
                <a:solidFill>
                  <a:srgbClr val="ebf25a"/>
                </a:solidFill>
                <a:uFillTx/>
                <a:latin typeface="Tahoma"/>
                <a:hlinkClick r:id="rId6"/>
              </a:rPr>
              <a:t>=54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Fotografía en un dormitorio del Palacio Dolmabahce, Estambul, Turquí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Fotografía de: Judi Yost. Usado con permis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7"/>
          <a:stretch/>
        </p:blipFill>
        <p:spPr>
          <a:xfrm>
            <a:off x="912960" y="1676520"/>
            <a:ext cx="839520" cy="1371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5" name="" descr=""/>
          <p:cNvPicPr/>
          <p:nvPr/>
        </p:nvPicPr>
        <p:blipFill>
          <a:blip r:embed="rId8"/>
          <a:stretch/>
        </p:blipFill>
        <p:spPr>
          <a:xfrm>
            <a:off x="609480" y="4648320"/>
            <a:ext cx="1176480" cy="88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cc"/>
                </a:solidFill>
                <a:latin typeface="Tahoma"/>
              </a:rPr>
              <a:t>Referencia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ulf, Dick. “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Dialogue--The Key to Family Harmony.” Focus on the Family. 2004. </a:t>
            </a:r>
            <a:r>
              <a:rPr b="0" lang="en-US" sz="1800" spc="-1" strike="noStrike" u="sng">
                <a:solidFill>
                  <a:srgbClr val="ebf25a"/>
                </a:solidFill>
                <a:uFillTx/>
                <a:latin typeface="Tahoma"/>
                <a:ea typeface="ＭＳ Ｐゴシック"/>
                <a:hlinkClick r:id="rId1"/>
              </a:rPr>
              <a:t>http://www.focusonyourchild.com/relation/art1/A0000777.html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loyd, Trefor. “Parenting.” BBC. </a:t>
            </a:r>
            <a:r>
              <a:rPr b="0" lang="en-US" sz="18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http://www.bbc.co.uk/parenting/your_kids/teen_communicating.shtml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“Parent/Child Communication.”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Bradley Hospital. </a:t>
            </a:r>
            <a:r>
              <a:rPr b="0" lang="en-US" sz="1600" spc="-1" strike="noStrike" u="sng">
                <a:solidFill>
                  <a:srgbClr val="ebf25a"/>
                </a:solidFill>
                <a:uFillTx/>
                <a:latin typeface="Tahoma"/>
                <a:ea typeface="ＭＳ Ｐゴシック"/>
                <a:hlinkClick r:id="rId3"/>
              </a:rPr>
              <a:t>http://www.lifespan.org/Services/ChildHealth/Parenting/PDF/communication2.PDF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avis, Louise. “Parent-Teen Communication.” Mississippi State University Extension. 29 Mar 2004. </a:t>
            </a:r>
            <a:r>
              <a:rPr b="0" lang="en-US" sz="1800" spc="-1" strike="noStrike" u="sng">
                <a:solidFill>
                  <a:srgbClr val="ebf25a"/>
                </a:solidFill>
                <a:uFillTx/>
                <a:latin typeface="Tahoma"/>
                <a:hlinkClick r:id="rId4"/>
              </a:rPr>
              <a:t>http://msucares.com/pubs/publications/p1452.ht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">
            <a:hlinkClick r:id="" action="ppaction://hlinkshowjump?jump=previousslide"/>
          </p:cNvPr>
          <p:cNvSpPr/>
          <p:nvPr/>
        </p:nvSpPr>
        <p:spPr>
          <a:xfrm>
            <a:off x="8153280" y="59436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4875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</a:pathLst>
          </a:custGeom>
          <a:solidFill>
            <a:srgbClr val="ebf2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cc0000"/>
                </a:solidFill>
                <a:latin typeface="Arial"/>
              </a:rPr>
              <a:t>Regresa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cc0000"/>
                </a:solidFill>
                <a:latin typeface="Arial"/>
              </a:rPr>
              <a:t>a l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cc0000"/>
                </a:solidFill>
                <a:latin typeface="Arial"/>
              </a:rPr>
              <a:t>diapositiv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cc0000"/>
                </a:solidFill>
                <a:latin typeface="Arial"/>
              </a:rPr>
              <a:t>#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cc"/>
                </a:solidFill>
                <a:latin typeface="Tahoma"/>
              </a:rPr>
              <a:t>¿Esto le recuerda a su familia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91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adr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Gritos y amenaz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ar ultimátum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nzar insul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Hacer planes para el futuro sin tener en cuenta los sentimientos de sus hij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dolescent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Gritos y llant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ntir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Hacer cosas a hurtadilla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scapar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busar de drog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safiar a la autor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Hacer planes para el futuro sin tener en cuenta los sentimientos de los padr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>
            <a:off x="609480" y="54100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ligraph421 BT"/>
              </a:rPr>
              <a:t>Esta es una descripción de la familia de Julieta en Romeo y Julieta … ¡Los tiempos no han cambiado much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90600" cy="35719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990720" y="1219320"/>
            <a:ext cx="8839080" cy="6476760"/>
          </a:xfrm>
          <a:prstGeom prst="irregularSeal2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21252600">
            <a:off x="2603160" y="3436560"/>
            <a:ext cx="6132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ES" sz="2100" spc="-1" strike="noStrike">
                <a:solidFill>
                  <a:srgbClr val="ffffff"/>
                </a:solidFill>
                <a:latin typeface="Tahoma"/>
              </a:rPr>
              <a:t>¡Que te cuelguen, descarada, rebelde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ahoma"/>
              </a:rPr>
              <a:t>Escúchame tú: el jueves vas a la iglesia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ahoma"/>
              </a:rPr>
              <a:t>o en tu vida me mires a la cara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ahoma"/>
              </a:rPr>
              <a:t>No hables, ni respondas, ni conteste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ahoma"/>
              </a:rPr>
              <a:t>Me tientas la mano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ord Capuleto a Juli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ffff"/>
                </a:solidFill>
                <a:latin typeface="Tahoma"/>
              </a:rPr>
              <a:t>Romeo y Julieta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, Acto III, escena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528000">
            <a:off x="1904760" y="0"/>
            <a:ext cx="5562360" cy="2590920"/>
          </a:xfrm>
          <a:prstGeom prst="irregularSeal1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242400">
            <a:off x="2376000" y="76176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7ffff"/>
                </a:solidFill>
                <a:latin typeface="Arial"/>
              </a:rPr>
              <a:t>“… </a:t>
            </a:r>
            <a:r>
              <a:rPr b="1" lang="es-ES" sz="1400" spc="-1" strike="noStrike">
                <a:solidFill>
                  <a:srgbClr val="e7ffff"/>
                </a:solidFill>
                <a:latin typeface="Arial"/>
              </a:rPr>
              <a:t>dime mi señor y padre, señor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7ffff"/>
                </a:solidFill>
                <a:latin typeface="Arial"/>
              </a:rPr>
              <a:t>No me iré a casar todavía …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543800" y="30492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Esa historia no resultó 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bien. 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Es necesario hacerla de otra forma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294600">
            <a:off x="2742120" y="1217880"/>
            <a:ext cx="3741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300" spc="-1" strike="noStrike">
                <a:solidFill>
                  <a:srgbClr val="e7ffff"/>
                </a:solidFill>
                <a:latin typeface="Tahoma"/>
              </a:rPr>
              <a:t>¡Mentiras! </a:t>
            </a:r>
            <a:r>
              <a:rPr b="1" lang="es-ES" sz="1300" spc="-1" strike="noStrike">
                <a:solidFill>
                  <a:srgbClr val="e7ffff"/>
                </a:solidFill>
                <a:latin typeface="Tahoma"/>
              </a:rPr>
              <a:t>Ella ya estaba casada con Romeo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e7ffff"/>
                </a:solidFill>
                <a:latin typeface="Tahoma"/>
              </a:rPr>
              <a:t>¡A escondidas de sus padres!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77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" dur="770" fill="hold"/>
                                        <p:tgtEl>
                                          <p:spTgt spid="1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" dur="77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" dur="77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ffffcc"/>
                </a:solidFill>
                <a:latin typeface="Tahoma"/>
              </a:rPr>
              <a:t>Que </a:t>
            </a:r>
            <a:r>
              <a:rPr b="1" i="1" lang="es-ES" sz="3800" spc="-1" strike="noStrike">
                <a:solidFill>
                  <a:srgbClr val="ffffcc"/>
                </a:solidFill>
                <a:latin typeface="Tahoma"/>
              </a:rPr>
              <a:t>No</a:t>
            </a:r>
            <a:r>
              <a:rPr b="0" lang="es-ES" sz="3800" spc="-1" strike="noStrike">
                <a:solidFill>
                  <a:srgbClr val="ffffcc"/>
                </a:solidFill>
                <a:latin typeface="Tahoma"/>
              </a:rPr>
              <a:t> debe hacer si </a:t>
            </a:r>
            <a:r>
              <a:rPr b="0" i="1" lang="es-ES" sz="3800" spc="-1" strike="noStrike">
                <a:solidFill>
                  <a:srgbClr val="ffffcc"/>
                </a:solidFill>
                <a:latin typeface="Tahoma"/>
              </a:rPr>
              <a:t>realmente</a:t>
            </a:r>
            <a:r>
              <a:rPr b="0" lang="es-ES" sz="3800" spc="-1" strike="noStrike">
                <a:solidFill>
                  <a:srgbClr val="ffffcc"/>
                </a:solidFill>
                <a:latin typeface="Tahoma"/>
              </a:rPr>
              <a:t> quiere hablar con un adolescente …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esultados de la encuesta aplicada a 126 adolescentes (58% mujeres, 42% hombr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egunta: ¿Cuál es la primera cosa que sus padres dicen para cerrar la comunicación entre usted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533520" y="3086280"/>
          <a:ext cx="8191440" cy="38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086280"/>
                    <a:ext cx="8191440" cy="38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ffffcc"/>
                </a:solidFill>
                <a:latin typeface="Tahoma"/>
              </a:rPr>
              <a:t>Que </a:t>
            </a:r>
            <a:r>
              <a:rPr b="1" i="1" lang="es-ES" sz="3800" spc="-1" strike="noStrike">
                <a:solidFill>
                  <a:srgbClr val="ffffcc"/>
                </a:solidFill>
                <a:latin typeface="Tahoma"/>
              </a:rPr>
              <a:t>No</a:t>
            </a:r>
            <a:r>
              <a:rPr b="0" lang="es-ES" sz="3800" spc="-1" strike="noStrike">
                <a:solidFill>
                  <a:srgbClr val="ffffcc"/>
                </a:solidFill>
                <a:latin typeface="Tahoma"/>
              </a:rPr>
              <a:t> debe hacer si </a:t>
            </a:r>
            <a:r>
              <a:rPr b="0" i="1" lang="es-ES" sz="3800" spc="-1" strike="noStrike">
                <a:solidFill>
                  <a:srgbClr val="ffffcc"/>
                </a:solidFill>
                <a:latin typeface="Tahoma"/>
              </a:rPr>
              <a:t>realmente</a:t>
            </a:r>
            <a:r>
              <a:rPr b="0" lang="es-ES" sz="3800" spc="-1" strike="noStrike">
                <a:solidFill>
                  <a:srgbClr val="ffffcc"/>
                </a:solidFill>
                <a:latin typeface="Tahoma"/>
              </a:rPr>
              <a:t> quiere hablar con un adolescente …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Decir las cosas que los hacen "sentir mal, decepcionados, amenaza, estúpido o m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e genera baja autoestima, destruye la confianza, alienta a la ansiedad de rendimiento, causa desconfianza, se traduce en anulación de acontecimientos familiares. " </a:t>
            </a:r>
            <a:r>
              <a:rPr b="0" lang="en-US" sz="2400" spc="-1" strike="noStrike" u="sng" baseline="30000">
                <a:solidFill>
                  <a:srgbClr val="ebf25a"/>
                </a:solidFill>
                <a:uFillTx/>
                <a:latin typeface="Tahoma"/>
                <a:hlinkClick r:id="rId1" action="ppaction://hlinksldjump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ratar de corregir, criticar, o cambiarl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Discutir con ell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Dígale, "Sé lo que quieres decir" o trate de simpatizar antes de comprenderlo.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ffffcc"/>
                </a:solidFill>
                <a:latin typeface="Tahoma"/>
              </a:rPr>
              <a:t>Que </a:t>
            </a:r>
            <a:r>
              <a:rPr b="1" i="1" lang="es-ES" sz="3800" spc="-1" strike="noStrike">
                <a:solidFill>
                  <a:srgbClr val="ffffcc"/>
                </a:solidFill>
                <a:latin typeface="Tahoma"/>
              </a:rPr>
              <a:t>No</a:t>
            </a:r>
            <a:r>
              <a:rPr b="0" lang="es-ES" sz="3800" spc="-1" strike="noStrike">
                <a:solidFill>
                  <a:srgbClr val="ffffcc"/>
                </a:solidFill>
                <a:latin typeface="Tahoma"/>
              </a:rPr>
              <a:t> debe hacer si </a:t>
            </a:r>
            <a:r>
              <a:rPr b="0" i="1" lang="es-ES" sz="3800" spc="-1" strike="noStrike">
                <a:solidFill>
                  <a:srgbClr val="ffffcc"/>
                </a:solidFill>
                <a:latin typeface="Tahoma"/>
              </a:rPr>
              <a:t>realmente</a:t>
            </a:r>
            <a:r>
              <a:rPr b="0" lang="es-ES" sz="3800" spc="-1" strike="noStrike">
                <a:solidFill>
                  <a:srgbClr val="ffffcc"/>
                </a:solidFill>
                <a:latin typeface="Tahoma"/>
              </a:rPr>
              <a:t> quiere hablar con un adolescente …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eda sus ideas para conocer las ideas que tiene que decir el adolescente.”</a:t>
            </a:r>
            <a:r>
              <a:rPr b="0" lang="es-ES" sz="2000" spc="-1" strike="noStrike" u="sng" baseline="30000">
                <a:solidFill>
                  <a:srgbClr val="ebf25a"/>
                </a:solidFill>
                <a:uFillTx/>
                <a:latin typeface="Tahoma"/>
                <a:hlinkClick r:id="rId1" action="ppaction://hlinksldjump"/>
              </a:rPr>
              <a:t>2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i trata de imponer sus ideas sobre ellos, lo más probable es que rechace lo que usted ofrec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ratar de amoldar a los adolescentes a su propia imagen, no funcionará. Este es el tiempo para descubrir de quién se trata-y no es usted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Fastidiar o quejarse acerca del comportamiento, la acción o la no ac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Hablar por todo, diagnosticar el problema y dar montones de consej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xagerar si usted escucha algo que no le gusta o le preocup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"Interrumpir, corregir la gramática o hacer dos cosas a la vez. Todas estas son señales de que usted no está realmente interesado. " </a:t>
            </a:r>
            <a:r>
              <a:rPr b="0" lang="es-ES" sz="2000" spc="-1" strike="noStrike" u="sng" baseline="30000">
                <a:solidFill>
                  <a:srgbClr val="ebf25a"/>
                </a:solidFill>
                <a:uFillTx/>
                <a:latin typeface="Tahoma"/>
                <a:hlinkClick r:id="rId2" action="ppaction://hlinksldjump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ffffcc"/>
                </a:solidFill>
                <a:latin typeface="Tahoma"/>
              </a:rPr>
              <a:t>Que hacer si </a:t>
            </a:r>
            <a:r>
              <a:rPr b="0" i="1" lang="es-ES" sz="3800" spc="-1" strike="noStrike">
                <a:solidFill>
                  <a:srgbClr val="ffffcc"/>
                </a:solidFill>
                <a:latin typeface="Tahoma"/>
              </a:rPr>
              <a:t>realmente</a:t>
            </a:r>
            <a:r>
              <a:rPr b="0" lang="es-ES" sz="3800" spc="-1" strike="noStrike">
                <a:solidFill>
                  <a:srgbClr val="ffffcc"/>
                </a:solidFill>
                <a:latin typeface="Tahoma"/>
              </a:rPr>
              <a:t> quiere hablar con un adolescente …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Hágale preguntas abiertas que ayuden a aclarar lo que quiere decir la person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jemplo: ¿Se refiere usted a…? ¿Por qué cree que sucedió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egunte su opinión y que quiere escucha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cepte sus opiniones y lo que tiene que decir, eso no significa que esté de acuerdo, sino que lo hace es conocer el valor de sus pensamient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"Evite los conflictos sobre las respuestas. No hay respuestas correctas o incorrectas“ cuando se trata de opiniones.</a:t>
            </a:r>
            <a:r>
              <a:rPr b="0" lang="es-ES" sz="2000" spc="-1" strike="noStrike" u="sng" baseline="30000">
                <a:solidFill>
                  <a:srgbClr val="ebf25a"/>
                </a:solidFill>
                <a:uFillTx/>
                <a:latin typeface="Tahoma"/>
                <a:hlinkClick r:id="rId1" action="ppaction://hlinksldjump"/>
              </a:rPr>
              <a:t>1</a:t>
            </a:r>
            <a:r>
              <a:rPr b="0" lang="es-ES" sz="2000" spc="-1" strike="noStrike" baseline="30000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scuche para comprender, no para cambiar a la otra person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uestre preocupación por los sentimientos de la otra persona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ffffcc"/>
                </a:solidFill>
                <a:latin typeface="Tahoma"/>
              </a:rPr>
              <a:t>Que hacer si </a:t>
            </a:r>
            <a:r>
              <a:rPr b="0" i="1" lang="es-ES" sz="3800" spc="-1" strike="noStrike">
                <a:solidFill>
                  <a:srgbClr val="ffffcc"/>
                </a:solidFill>
                <a:latin typeface="Tahoma"/>
              </a:rPr>
              <a:t>realmente</a:t>
            </a:r>
            <a:r>
              <a:rPr b="0" lang="es-ES" sz="3800" spc="-1" strike="noStrike">
                <a:solidFill>
                  <a:srgbClr val="ffffcc"/>
                </a:solidFill>
                <a:latin typeface="Tahoma"/>
              </a:rPr>
              <a:t> quiere hablar con un adolescente …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Tome tiempo para sólo hablar y, lo que es más importante, para escuchar todos los día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77480" indent="359640">
              <a:lnSpc>
                <a:spcPct val="90000"/>
              </a:lnSpc>
              <a:spcBef>
                <a:spcPts val="4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Use todas las oportunidades informales para poder comunicarse - por ejemplo, mientras conduc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177480" indent="359640">
              <a:lnSpc>
                <a:spcPct val="90000"/>
              </a:lnSpc>
              <a:spcBef>
                <a:spcPts val="4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No fuerce el tiempo para conversar, asegúrese que también que se trata de un momento conveniente para su hijo adolescent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177480" indent="359640">
              <a:lnSpc>
                <a:spcPct val="90000"/>
              </a:lnSpc>
              <a:spcBef>
                <a:spcPts val="4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Haga una prioridad el estar disponible incluso si no es un momento conveniente para usted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177480" indent="359640">
              <a:lnSpc>
                <a:spcPct val="90000"/>
              </a:lnSpc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No trate de resolver los problemas cuando esté solo, cuando conversa puede comprender mejor los puntos de vista de los demás. La solución puede venir despué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77480" indent="359640">
              <a:lnSpc>
                <a:spcPct val="90000"/>
              </a:lnSpc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Mantenga su sentido del humor, pero nunca bromee acerca de un tema sensible. Aprenda a reír respecto a las pequeñas cosas.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cc"/>
                </a:solidFill>
                <a:latin typeface="Tahoma"/>
              </a:rPr>
              <a:t>Escuche consejo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Esté atento.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Deje de hacer otras actividade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Concéntrese totalmente, a través de su mirada y de sus oído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Sea sensible en su tono de voz y expresión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Estimule la comunicación.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Sonría o, en su caso, dé el visto bueno o para demostrar que usted está comprendiendo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Vigile su lenguaje corporal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Mantenga preguntas breves, abiertas y positivas.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Busque empatía.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Trate de recordar cómo era cuando usted era un adolescent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Comprenda que los sentimientos que subyacen a su hijo pueden ser difíciles de expresar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Escuche con respeto.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Reaccione ante su hijo adolescente como lo haría con un amigo adulto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Permita que descargue sus queja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Trate de no interrumpir o abordar un tema que no quiere discutir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3T01:25:30Z</dcterms:created>
  <dc:creator>Judi Yost</dc:creator>
  <dc:description/>
  <dc:language>en-US</dc:language>
  <cp:lastModifiedBy>Jacqueline Arroyo</cp:lastModifiedBy>
  <dcterms:modified xsi:type="dcterms:W3CDTF">2008-03-05T20:36:37Z</dcterms:modified>
  <cp:revision>61</cp:revision>
  <dc:subject/>
  <dc:title>How to Talk to a Brick Wall: Tearing Down the Barriers between You and Your Teenager</dc:title>
</cp:coreProperties>
</file>