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9.png" ContentType="image/png"/>
  <Override PartName="/ppt/media/image18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CBA2-1231-459F-A73A-3B88E03C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AD7-F066-423E-9504-A3039439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4605-67B4-4612-958B-C4458EC7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C59-3FB8-4AC4-A5A4-717D8C13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8F44-168F-4FCC-99B9-48A017C5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AF59-53E4-4BEC-8654-871616BB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0A63-F416-431D-B309-054357B6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CA47-55F8-4AB0-A1EA-3A838A61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D869-1ED9-4288-BFEE-5E1C4759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8C08-CEDB-4933-8044-444F98B3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D53D-EDC0-420C-A4E3-C844C91A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9132-E47D-4C3F-BC34-15650502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5D0B-81FF-4EA0-A363-5F62869A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D6E0-7696-447F-B139-A0A0D796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920B-2D84-46A0-99F9-8BD658B9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1CD7-D16F-4734-BB33-7FF941D0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A452-CC9F-4C82-9015-D4E85531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FA4-9555-4613-94A2-4C33A090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73F6-394C-4C68-A360-C2E59203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984-6729-42CE-9C57-E5C70572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F656-B43B-4836-9F98-C0D21304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A557-9D2E-416E-8272-BA8D27F2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9DDB-3B47-4992-82E1-419C6C1A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60D-D4FE-4DB1-9F15-72FDA26D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C6B5-D2EC-40EB-BAB1-261F7A2A9BA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828E-D1F4-411E-BF04-69E5E55D46E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82400"/>
                </a:solidFill>
                <a:latin typeface="Gill Sans Ultra Bold"/>
              </a:rPr>
              <a:t>Es fabuloso ser un guepar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1640" y="1766520"/>
            <a:ext cx="3960720" cy="25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Gill Sans Ultra Bold"/>
              </a:rPr>
              <a:t>p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Gill Sans Ultra Bold"/>
              </a:rPr>
              <a:t>Curt Tiff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122280" y="3784680"/>
            <a:ext cx="3761280" cy="3034800"/>
            <a:chOff x="3122280" y="3784680"/>
            <a:chExt cx="3761280" cy="3034800"/>
          </a:xfrm>
        </p:grpSpPr>
        <p:pic>
          <p:nvPicPr>
            <p:cNvPr id="90" name="" descr="imagef07.jpg (29855 bytes)"/>
            <p:cNvPicPr/>
            <p:nvPr/>
          </p:nvPicPr>
          <p:blipFill>
            <a:blip r:embed="rId2"/>
            <a:stretch/>
          </p:blipFill>
          <p:spPr>
            <a:xfrm>
              <a:off x="3149640" y="3784680"/>
              <a:ext cx="3733920" cy="27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122280" y="6558120"/>
              <a:ext cx="163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© 1999 Hugh Thomas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82400"/>
                </a:solidFill>
                <a:latin typeface="Gill Sans Ultra Bold"/>
              </a:rPr>
              <a:t>Es fabuloso ser un guepardo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769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82400"/>
                </a:solidFill>
                <a:latin typeface="Gill Sans Ultra Bold"/>
              </a:rPr>
              <a:t>Aunque los guepardos somos una especie en peligro, si eres un animal africano </a:t>
            </a:r>
            <a:r>
              <a:rPr b="0" lang="es-ES" sz="2000" spc="-1" strike="noStrike">
                <a:solidFill>
                  <a:srgbClr val="482400"/>
                </a:solidFill>
                <a:latin typeface="Gill Sans Ultra Bold"/>
                <a:ea typeface="Arial"/>
              </a:rPr>
              <a:t>¡R</a:t>
            </a:r>
            <a:r>
              <a:rPr b="0" lang="es-ES" sz="2000" spc="-1" strike="noStrike">
                <a:solidFill>
                  <a:srgbClr val="482400"/>
                </a:solidFill>
                <a:latin typeface="Gill Sans Ultra Bold"/>
              </a:rPr>
              <a:t>esulta fabuloso ser un guepard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800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Gill Sans Ultra Bold"/>
              </a:rPr>
              <a:t>Los guepardos son animales astutos y hermo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800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Gill Sans Ultra Bold"/>
              </a:rPr>
              <a:t>Estamos hechos para la velo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800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Gill Sans Ultra Bold"/>
              </a:rPr>
              <a:t>Vivimos entre amig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800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Gill Sans Ultra Bold"/>
              </a:rPr>
              <a:t>Estamos perfectamente adaptados a nuestro hábit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8009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Gill Sans Ultra Bold"/>
              </a:rPr>
              <a:t>Somos grandes caz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8009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Gill Sans Ultra Bold"/>
              </a:rPr>
              <a:t>Somos consumidores en la cadena alimenti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8009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Gill Sans Ultra Bold"/>
              </a:rPr>
              <a:t>Somos animales proteg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82400"/>
                </a:solidFill>
                <a:latin typeface="Gill Sans Ultra Bold"/>
              </a:rPr>
              <a:t>Es fabuloso ser un guepardo ¿No estás de acuer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82400"/>
                </a:solidFill>
                <a:latin typeface="Gill Sans Ultra Bold"/>
                <a:ea typeface="Arial"/>
              </a:rPr>
              <a:t>Soy un astuto y</a:t>
            </a:r>
            <a:br>
              <a:rPr sz="3600"/>
            </a:br>
            <a:r>
              <a:rPr b="0" lang="es-ES" sz="3600" spc="-1" strike="noStrike">
                <a:solidFill>
                  <a:srgbClr val="482400"/>
                </a:solidFill>
                <a:latin typeface="Gill Sans Ultra Bold"/>
                <a:ea typeface="Arial"/>
              </a:rPr>
              <a:t>hermoso animal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Gill Sans Ultra Bold"/>
              </a:rPr>
              <a:t>Mi piel es amarillenta con motas oscuras, lo que me permite esconderme en los pastizales o bajo sombras matiz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Gill Sans Ultra Bold"/>
              </a:rPr>
              <a:t>Mido casi 1.8 metros de largo. Cerca de la tercera parte de mi longitud se debe a mi larga cola que funciona como un tim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Gill Sans Ultra Bold"/>
              </a:rPr>
              <a:t>Mi peso es cercano a los 56 kilogram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Gill Sans Ultra Bold"/>
              </a:rPr>
              <a:t>Gorjeo y ronroneo, en vez de rug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4929120"/>
            <a:ext cx="403848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Gill Sans Ultra Bold"/>
              </a:rPr>
              <a:t>Soy uno de los afortunados. Solo la mitad de los guepardos que nacen llegan a la adultez en libert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Gill Sans Ultra Bold"/>
              </a:rPr>
              <a:t>Mi esperanza de vida media es entre 12 y 14 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138320" y="6062760"/>
            <a:ext cx="1836000" cy="304560"/>
            <a:chOff x="1138320" y="6062760"/>
            <a:chExt cx="1836000" cy="304560"/>
          </a:xfrm>
        </p:grpSpPr>
        <p:pic>
          <p:nvPicPr>
            <p:cNvPr id="96" name="" descr=""/>
            <p:cNvPicPr/>
            <p:nvPr/>
          </p:nvPicPr>
          <p:blipFill>
            <a:blip r:embed="rId8"/>
            <a:stretch/>
          </p:blipFill>
          <p:spPr>
            <a:xfrm>
              <a:off x="1138320" y="606276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382400" y="6080040"/>
              <a:ext cx="159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scúchame gorj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086280" y="6062760"/>
            <a:ext cx="2097360" cy="304560"/>
            <a:chOff x="3086280" y="6062760"/>
            <a:chExt cx="2097360" cy="304560"/>
          </a:xfrm>
        </p:grpSpPr>
        <p:pic>
          <p:nvPicPr>
            <p:cNvPr id="99" name="" descr=""/>
            <p:cNvPicPr/>
            <p:nvPr/>
          </p:nvPicPr>
          <p:blipFill>
            <a:blip r:embed="rId9"/>
            <a:stretch/>
          </p:blipFill>
          <p:spPr>
            <a:xfrm>
              <a:off x="3086280" y="606276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389040" y="6068880"/>
              <a:ext cx="179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scúchame ronron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337360" y="1731960"/>
            <a:ext cx="2879640" cy="3148200"/>
            <a:chOff x="5337360" y="1731960"/>
            <a:chExt cx="2879640" cy="3148200"/>
          </a:xfrm>
        </p:grpSpPr>
        <p:pic>
          <p:nvPicPr>
            <p:cNvPr id="102" name="" descr=""/>
            <p:cNvPicPr/>
            <p:nvPr/>
          </p:nvPicPr>
          <p:blipFill>
            <a:blip r:embed="rId10"/>
            <a:srcRect l="4687" t="23957" r="3122" b="7948"/>
            <a:stretch/>
          </p:blipFill>
          <p:spPr>
            <a:xfrm>
              <a:off x="5397840" y="1731960"/>
              <a:ext cx="2819160" cy="31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337360" y="4449960"/>
              <a:ext cx="18982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a7947b"/>
                  </a:solidFill>
                  <a:latin typeface="Times New Roman"/>
                </a:rPr>
                <a:t>© Gerald and Buff Corsi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a7947b"/>
                  </a:solidFill>
                  <a:latin typeface="Times New Roman"/>
                </a:rPr>
                <a:t>California Academy of Scien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482400"/>
                </a:solidFill>
                <a:latin typeface="Gill Sans Ultra Bold"/>
              </a:rPr>
              <a:t>Estoy hecho para la velocidad</a:t>
            </a:r>
            <a:endParaRPr b="0" lang="en-US" sz="3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4876920"/>
            <a:ext cx="39621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00"/>
                </a:solidFill>
                <a:latin typeface="Gill Sans Ultra Bold"/>
                <a:ea typeface="Arial"/>
              </a:rPr>
              <a:t>Puedo correr a velocidades de 110 kph, por distancias de hasta 1 000 me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905120"/>
            <a:ext cx="38862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00"/>
                </a:solidFill>
                <a:latin typeface="Gill Sans Ultra Bold"/>
                <a:ea typeface="Arial"/>
              </a:rPr>
              <a:t>Tengo una cabeza pequeña, lo que me permite una menor resistencia al aire y correr a mayor veloc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00"/>
                </a:solidFill>
                <a:latin typeface="Gill Sans Ultra Bold"/>
                <a:ea typeface="Arial"/>
              </a:rPr>
              <a:t>Tengo piernas largas y musculosas, con las que puedo dar largas zancadas de hasta siete me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00"/>
                </a:solidFill>
                <a:latin typeface="Gill Sans Ultra Bold"/>
                <a:ea typeface="Arial"/>
              </a:rPr>
              <a:t>Tengo corazón y pulmones grandes, lo que me permite retener muchísimo oxíge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00"/>
                </a:solidFill>
                <a:latin typeface="Gill Sans Ultra Bold"/>
                <a:ea typeface="Arial"/>
              </a:rPr>
              <a:t>Tengo garras no-retráctiles, lo que me ayuda a tener mucha tracción y estabilidad cuando corro a grandes veloc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00"/>
                </a:solidFill>
                <a:latin typeface="Gill Sans Ultra Bold"/>
                <a:ea typeface="Arial"/>
              </a:rPr>
              <a:t>Tengo una larga cola, la que me ayuda a tener gran balance y agilidad a altas veloc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4876920" y="182880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4000" spc="-1" strike="noStrike">
                <a:solidFill>
                  <a:srgbClr val="482400"/>
                </a:solidFill>
                <a:latin typeface="Gill Sans Ultra Bold"/>
              </a:rPr>
              <a:t>Comparación de velocidades máximas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-257400" y="39916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Kilómetros por 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52480" y="1828800"/>
          <a:ext cx="6890040" cy="466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828800"/>
                    <a:ext cx="689004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82400"/>
                </a:solidFill>
                <a:latin typeface="Gill Sans Ultra Bold"/>
              </a:rPr>
              <a:t>Vivo entre amigo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34120" y="1752480"/>
            <a:ext cx="2900160" cy="2578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90720" y="175248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00"/>
                </a:solidFill>
                <a:latin typeface="Gill Sans Ultra Bold"/>
              </a:rPr>
              <a:t>Tal como la mayoría de los guepardos, vivo en Namibia, Áfr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5799240"/>
            <a:ext cx="51055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Gill Sans Ultra Bold"/>
              </a:rPr>
              <a:t>Cerca de 2 000 guepardos están cautivos en zoológicos y reservaciones en otras partes del mu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4343400"/>
            <a:ext cx="4952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Gill Sans Ultra Bold"/>
              </a:rPr>
              <a:t>Namibia, un pequeño país en África, es la capital mundial del guepardo. Con más de 2 000 guepardos, Namibia es el hogar de la sexta parte de los 1 2000 guepardos del mu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257800" y="3429000"/>
            <a:ext cx="990720" cy="533520"/>
          </a:xfrm>
          <a:prstGeom prst="line">
            <a:avLst/>
          </a:prstGeom>
          <a:ln w="572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66680" y="2895480"/>
            <a:ext cx="25164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82400"/>
                </a:solidFill>
                <a:latin typeface="Gill Sans Ultra Bold"/>
              </a:rPr>
              <a:t>Estoy perfectamente adaptado a mi hábita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2057400"/>
            <a:ext cx="42670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Gill Sans Ultra Bold"/>
              </a:rPr>
              <a:t>Vivo en una sabana de pastizales arbolados, lo que me resulta perfecto para encontrar mis presas, tal como ungulados que se alimentan de la hier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495680"/>
            <a:ext cx="426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Gill Sans Ultra Bold"/>
              </a:rPr>
              <a:t>Cazo durante el día. Mi baja estatura me permite acechar entre la alta maleza de la sabana, sin ser visto. Mi habilidad para atacar por sorpresa a mi blanco resulta importante si quiero tener algo que c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35268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Gill Sans Ultra Bold"/>
              </a:rPr>
              <a:t>Los pastizales son buenas tierras de apacentamiento para ganado y ovejas, que me resultan especialmente sabro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486400" y="2743200"/>
            <a:ext cx="32241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82400"/>
                </a:solidFill>
                <a:latin typeface="Gill Sans Ultra Bold"/>
              </a:rPr>
              <a:t>Soy un gran cazado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1496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Gill Sans Ultra Bold"/>
              </a:rPr>
              <a:t>Acecho a 30 metros de mi presa. Luego, corro casi a 110 kilómetros por hora y ataco a mi blanco, derribando rápidamente a mi 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867280" y="4495680"/>
            <a:ext cx="2826000" cy="1552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811840" y="6200640"/>
            <a:ext cx="3048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© Gerald and Buff Corsi, California Academy of Sc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1828800"/>
            <a:ext cx="4038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Gill Sans Ultra Bold"/>
              </a:rPr>
              <a:t>Mis pequeñas mandíbulas no me permiten matar de una sola y mortífera mordida, de modo que aprieto la garganta de mi víctima hasta sofocar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217880" y="4114800"/>
            <a:ext cx="1804320" cy="2587320"/>
            <a:chOff x="1217880" y="4114800"/>
            <a:chExt cx="1804320" cy="2587320"/>
          </a:xfrm>
        </p:grpSpPr>
        <p:pic>
          <p:nvPicPr>
            <p:cNvPr id="130" name="" descr="imagef08.jpg (27637 bytes)"/>
            <p:cNvPicPr/>
            <p:nvPr/>
          </p:nvPicPr>
          <p:blipFill>
            <a:blip r:embed="rId3"/>
            <a:stretch/>
          </p:blipFill>
          <p:spPr>
            <a:xfrm>
              <a:off x="1547280" y="4114800"/>
              <a:ext cx="1474920" cy="23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217880" y="6440760"/>
              <a:ext cx="1686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© 1999 Hugh Thomas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029200" y="3124080"/>
            <a:ext cx="388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Gill Sans Ultra Bold"/>
              </a:rPr>
              <a:t>A diferencia de mis presas, no dependo de abrevaderos. Obtengo la mayoría del agua que necesito de los animales que ingi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72428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Gill Sans Ultra Bold"/>
              </a:rPr>
              <a:t>Mi principal fuente de alimentos son antílopes, gacelas, liebres e impa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90720" y="304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82400"/>
                </a:solidFill>
                <a:latin typeface="Gill Sans Ultra Bold"/>
                <a:ea typeface="Arial"/>
              </a:rPr>
              <a:t>Soy un consumidor en la cadena alimenti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824120"/>
            <a:ext cx="21589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El sol da vida y energía a todas las plantas y anima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1820880"/>
            <a:ext cx="220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La hierba le da energía al antíl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1824120"/>
            <a:ext cx="20574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El antílope me da energía cuando me lo com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7960" y="3048120"/>
            <a:ext cx="2287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Eventualmente le doy energía a las hienas, que se alimentan de mí cuando muero o estoy enferm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4965840"/>
            <a:ext cx="2209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Cuando la hiena muere o es eliminada, le da su energía al suelo, así la hierba crece de nuev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2514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1337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895480" y="2438280"/>
            <a:ext cx="3505320" cy="3463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543800" y="43434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21337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90720" y="2743200"/>
            <a:ext cx="1600200" cy="2819520"/>
            <a:chOff x="990720" y="2743200"/>
            <a:chExt cx="1600200" cy="2819520"/>
          </a:xfrm>
        </p:grpSpPr>
        <p:sp>
          <p:nvSpPr>
            <p:cNvPr id="146" name=""/>
            <p:cNvSpPr/>
            <p:nvPr/>
          </p:nvSpPr>
          <p:spPr>
            <a:xfrm>
              <a:off x="990720" y="2743200"/>
              <a:ext cx="1600200" cy="2819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965320"/>
              <a:ext cx="144792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996600"/>
                  </a:solidFill>
                  <a:latin typeface="Gill Sans Ultra Bold"/>
                  <a:ea typeface="Arial"/>
                </a:rPr>
                <a:t>Todos los animales vuelven al suelo cuando mueren o través de sus desech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62120" y="5867280"/>
            <a:ext cx="3047760" cy="914400"/>
            <a:chOff x="762120" y="5867280"/>
            <a:chExt cx="3047760" cy="914400"/>
          </a:xfrm>
        </p:grpSpPr>
        <p:grpSp>
          <p:nvGrpSpPr>
            <p:cNvPr id="149" name=""/>
            <p:cNvGrpSpPr/>
            <p:nvPr/>
          </p:nvGrpSpPr>
          <p:grpSpPr>
            <a:xfrm>
              <a:off x="990360" y="5943600"/>
              <a:ext cx="2437560" cy="565920"/>
              <a:chOff x="990360" y="5943600"/>
              <a:chExt cx="2437560" cy="565920"/>
            </a:xfrm>
          </p:grpSpPr>
          <p:sp>
            <p:nvSpPr>
              <p:cNvPr id="150" name=""/>
              <p:cNvSpPr/>
              <p:nvPr/>
            </p:nvSpPr>
            <p:spPr>
              <a:xfrm flipH="1">
                <a:off x="990360" y="6365880"/>
                <a:ext cx="60948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790280" y="6172200"/>
                <a:ext cx="1637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1200" spc="-1" strike="noStrike">
                    <a:solidFill>
                      <a:srgbClr val="996600"/>
                    </a:solidFill>
                    <a:latin typeface="Gill Sans Ultra Bold"/>
                    <a:ea typeface="Arial"/>
                  </a:rPr>
                  <a:t>Le da energía a 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48280" y="594360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Cl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762120" y="5867280"/>
              <a:ext cx="3047760" cy="914400"/>
            </a:xfrm>
            <a:prstGeom prst="rect">
              <a:avLst/>
            </a:prstGeom>
            <a:noFill/>
            <a:ln w="9360">
              <a:solidFill>
                <a:srgbClr val="864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82400"/>
                </a:solidFill>
                <a:latin typeface="Gill Sans Ultra Bold"/>
                <a:ea typeface="Arial"/>
              </a:rPr>
              <a:t>¿Cuál es el precio de la vida?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996600"/>
                </a:solidFill>
                <a:latin typeface="Gill Sans Ultra Bold"/>
              </a:rPr>
              <a:t>Los guepardos somos una especie en peligr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996600"/>
                </a:solidFill>
                <a:latin typeface="Gill Sans Ultra Bold"/>
              </a:rPr>
              <a:t>Sin la protección de los humanos, mi población pronto se extinguirá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996600"/>
                </a:solidFill>
                <a:latin typeface="Gill Sans Ultra Bold"/>
              </a:rPr>
              <a:t>Somos seres vivos y necesitamos que los humanos nos protejan porque son ellos los que nos quitan nuestro hogar y nos cazan por diner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996600"/>
                </a:solidFill>
                <a:latin typeface="Gill Sans Ultra Bold"/>
              </a:rPr>
              <a:t>No puedes ponerle precio a la vida de los seres vivos. Toda vida es importante y los animales como yo tenemos el mismo derecho que los humanos de vivir una vida larga y salud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996600"/>
                </a:solidFill>
                <a:latin typeface="Gill Sans Ultra Bold"/>
              </a:rPr>
              <a:t>Una vez nos hallamos ido </a:t>
            </a:r>
            <a:r>
              <a:rPr b="0" lang="es-ES" sz="1500" spc="-1" strike="noStrike">
                <a:solidFill>
                  <a:srgbClr val="996600"/>
                </a:solidFill>
                <a:latin typeface="Gill Sans Ultra Bold"/>
                <a:ea typeface="Arial"/>
              </a:rPr>
              <a:t>¡N</a:t>
            </a:r>
            <a:r>
              <a:rPr b="0" lang="es-ES" sz="1500" spc="-1" strike="noStrike">
                <a:solidFill>
                  <a:srgbClr val="996600"/>
                </a:solidFill>
                <a:latin typeface="Gill Sans Ultra Bold"/>
              </a:rPr>
              <a:t>unca más nos puedes traer de vuelta! </a:t>
            </a:r>
            <a:r>
              <a:rPr b="0" lang="es-ES" sz="1500" spc="-1" strike="noStrike">
                <a:solidFill>
                  <a:srgbClr val="996600"/>
                </a:solidFill>
                <a:latin typeface="Gill Sans Ultra Bold"/>
                <a:ea typeface="Arial"/>
              </a:rPr>
              <a:t>¡</a:t>
            </a:r>
            <a:r>
              <a:rPr b="0" lang="es-ES" sz="1500" spc="-1" strike="noStrike">
                <a:solidFill>
                  <a:srgbClr val="996600"/>
                </a:solidFill>
                <a:latin typeface="Gill Sans Ultra Bold"/>
              </a:rPr>
              <a:t>Los guepardos son hermosas y gráciles criaturas que necesitan protección!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996600"/>
                </a:solidFill>
                <a:latin typeface="Gill Sans Ultra Bold"/>
              </a:rPr>
              <a:t>Sin nosotros, una parte importante del círculo de la vida se perderá. Otros animales, como el antílope sufrirán si no somos parte su cadena alimentic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996600"/>
                </a:solidFill>
                <a:latin typeface="Gill Sans Ultra Bold"/>
                <a:ea typeface="Arial"/>
              </a:rPr>
              <a:t>¡</a:t>
            </a:r>
            <a:r>
              <a:rPr b="0" lang="es-ES" sz="1500" spc="-1" strike="noStrike">
                <a:solidFill>
                  <a:srgbClr val="996600"/>
                </a:solidFill>
                <a:latin typeface="Gill Sans Ultra Bold"/>
              </a:rPr>
              <a:t>La vida no tiene precio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7T20:55:50Z</dcterms:created>
  <dc:creator>Lab 18#</dc:creator>
  <dc:description/>
  <dc:language>en-US</dc:language>
  <cp:lastModifiedBy>Jacqueline Arroyo</cp:lastModifiedBy>
  <dcterms:modified xsi:type="dcterms:W3CDTF">2005-12-02T03:12:23Z</dcterms:modified>
  <cp:revision>202</cp:revision>
  <dc:subject/>
  <dc:title>African Animals</dc:title>
</cp:coreProperties>
</file>